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07800" indent="-30780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570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56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436760" indent="-2062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464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464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464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57200" y="609480"/>
            <a:ext cx="8229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package" Target="../embeddings/oleObject1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1295280" y="1752480"/>
            <a:ext cx="6553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Open Form Worksh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MGS – N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Present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Todd Morg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representing entire MGS Sta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505320" y="64008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ManTech Propriet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4267080" y="1773720"/>
            <a:ext cx="5088600" cy="4231080"/>
            <a:chOff x="4267080" y="1773720"/>
            <a:chExt cx="5088600" cy="4231080"/>
          </a:xfrm>
        </p:grpSpPr>
        <p:sp>
          <p:nvSpPr>
            <p:cNvPr id="44" name=""/>
            <p:cNvSpPr/>
            <p:nvPr/>
          </p:nvSpPr>
          <p:spPr>
            <a:xfrm>
              <a:off x="5999400" y="2308680"/>
              <a:ext cx="2786400" cy="2031120"/>
            </a:xfrm>
            <a:custGeom>
              <a:avLst/>
              <a:gdLst/>
              <a:ahLst/>
              <a:rect l="l" t="t" r="r" b="b"/>
              <a:pathLst>
                <a:path w="4351" h="2650">
                  <a:moveTo>
                    <a:pt x="0" y="2593"/>
                  </a:moveTo>
                  <a:lnTo>
                    <a:pt x="74" y="2447"/>
                  </a:lnTo>
                  <a:lnTo>
                    <a:pt x="165" y="2303"/>
                  </a:lnTo>
                  <a:lnTo>
                    <a:pt x="266" y="2172"/>
                  </a:lnTo>
                  <a:lnTo>
                    <a:pt x="357" y="2040"/>
                  </a:lnTo>
                  <a:lnTo>
                    <a:pt x="564" y="1781"/>
                  </a:lnTo>
                  <a:lnTo>
                    <a:pt x="787" y="1549"/>
                  </a:lnTo>
                  <a:lnTo>
                    <a:pt x="917" y="1433"/>
                  </a:lnTo>
                  <a:lnTo>
                    <a:pt x="1036" y="1316"/>
                  </a:lnTo>
                  <a:lnTo>
                    <a:pt x="1288" y="1101"/>
                  </a:lnTo>
                  <a:lnTo>
                    <a:pt x="1422" y="1000"/>
                  </a:lnTo>
                  <a:lnTo>
                    <a:pt x="1555" y="911"/>
                  </a:lnTo>
                  <a:lnTo>
                    <a:pt x="1835" y="723"/>
                  </a:lnTo>
                  <a:lnTo>
                    <a:pt x="1984" y="652"/>
                  </a:lnTo>
                  <a:lnTo>
                    <a:pt x="2132" y="566"/>
                  </a:lnTo>
                  <a:lnTo>
                    <a:pt x="2428" y="420"/>
                  </a:lnTo>
                  <a:lnTo>
                    <a:pt x="2591" y="360"/>
                  </a:lnTo>
                  <a:lnTo>
                    <a:pt x="2739" y="303"/>
                  </a:lnTo>
                  <a:lnTo>
                    <a:pt x="2902" y="245"/>
                  </a:lnTo>
                  <a:lnTo>
                    <a:pt x="3050" y="188"/>
                  </a:lnTo>
                  <a:lnTo>
                    <a:pt x="3213" y="145"/>
                  </a:lnTo>
                  <a:lnTo>
                    <a:pt x="3376" y="115"/>
                  </a:lnTo>
                  <a:lnTo>
                    <a:pt x="3537" y="71"/>
                  </a:lnTo>
                  <a:lnTo>
                    <a:pt x="3701" y="44"/>
                  </a:lnTo>
                  <a:lnTo>
                    <a:pt x="3864" y="30"/>
                  </a:lnTo>
                  <a:lnTo>
                    <a:pt x="4027" y="13"/>
                  </a:lnTo>
                  <a:lnTo>
                    <a:pt x="4190" y="0"/>
                  </a:lnTo>
                  <a:lnTo>
                    <a:pt x="4351" y="0"/>
                  </a:lnTo>
                  <a:lnTo>
                    <a:pt x="4351" y="115"/>
                  </a:lnTo>
                  <a:lnTo>
                    <a:pt x="4190" y="130"/>
                  </a:lnTo>
                  <a:lnTo>
                    <a:pt x="4027" y="130"/>
                  </a:lnTo>
                  <a:lnTo>
                    <a:pt x="3879" y="145"/>
                  </a:lnTo>
                  <a:lnTo>
                    <a:pt x="3716" y="174"/>
                  </a:lnTo>
                  <a:lnTo>
                    <a:pt x="3553" y="201"/>
                  </a:lnTo>
                  <a:lnTo>
                    <a:pt x="3405" y="232"/>
                  </a:lnTo>
                  <a:lnTo>
                    <a:pt x="3094" y="318"/>
                  </a:lnTo>
                  <a:lnTo>
                    <a:pt x="2931" y="360"/>
                  </a:lnTo>
                  <a:lnTo>
                    <a:pt x="2783" y="420"/>
                  </a:lnTo>
                  <a:lnTo>
                    <a:pt x="2487" y="535"/>
                  </a:lnTo>
                  <a:lnTo>
                    <a:pt x="2340" y="608"/>
                  </a:lnTo>
                  <a:lnTo>
                    <a:pt x="2192" y="681"/>
                  </a:lnTo>
                  <a:lnTo>
                    <a:pt x="2044" y="754"/>
                  </a:lnTo>
                  <a:lnTo>
                    <a:pt x="1910" y="838"/>
                  </a:lnTo>
                  <a:lnTo>
                    <a:pt x="1762" y="911"/>
                  </a:lnTo>
                  <a:lnTo>
                    <a:pt x="1627" y="1013"/>
                  </a:lnTo>
                  <a:lnTo>
                    <a:pt x="1363" y="1201"/>
                  </a:lnTo>
                  <a:lnTo>
                    <a:pt x="1244" y="1303"/>
                  </a:lnTo>
                  <a:lnTo>
                    <a:pt x="1126" y="1405"/>
                  </a:lnTo>
                  <a:lnTo>
                    <a:pt x="888" y="1622"/>
                  </a:lnTo>
                  <a:lnTo>
                    <a:pt x="769" y="1737"/>
                  </a:lnTo>
                  <a:lnTo>
                    <a:pt x="666" y="1867"/>
                  </a:lnTo>
                  <a:lnTo>
                    <a:pt x="564" y="1982"/>
                  </a:lnTo>
                  <a:lnTo>
                    <a:pt x="460" y="2115"/>
                  </a:lnTo>
                  <a:lnTo>
                    <a:pt x="370" y="2245"/>
                  </a:lnTo>
                  <a:lnTo>
                    <a:pt x="266" y="2374"/>
                  </a:lnTo>
                  <a:lnTo>
                    <a:pt x="103" y="2650"/>
                  </a:lnTo>
                  <a:lnTo>
                    <a:pt x="0" y="259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658840" y="5305680"/>
              <a:ext cx="132120" cy="698760"/>
            </a:xfrm>
            <a:custGeom>
              <a:avLst/>
              <a:gdLst/>
              <a:ahLst/>
              <a:rect l="l" t="t" r="r" b="b"/>
              <a:pathLst>
                <a:path w="205" h="911">
                  <a:moveTo>
                    <a:pt x="205" y="15"/>
                  </a:moveTo>
                  <a:lnTo>
                    <a:pt x="163" y="247"/>
                  </a:lnTo>
                  <a:lnTo>
                    <a:pt x="132" y="478"/>
                  </a:lnTo>
                  <a:lnTo>
                    <a:pt x="132" y="695"/>
                  </a:lnTo>
                  <a:lnTo>
                    <a:pt x="132" y="911"/>
                  </a:lnTo>
                  <a:lnTo>
                    <a:pt x="13" y="911"/>
                  </a:lnTo>
                  <a:lnTo>
                    <a:pt x="0" y="681"/>
                  </a:lnTo>
                  <a:lnTo>
                    <a:pt x="13" y="462"/>
                  </a:lnTo>
                  <a:lnTo>
                    <a:pt x="13" y="347"/>
                  </a:lnTo>
                  <a:lnTo>
                    <a:pt x="31" y="232"/>
                  </a:lnTo>
                  <a:lnTo>
                    <a:pt x="75" y="0"/>
                  </a:lnTo>
                  <a:lnTo>
                    <a:pt x="205" y="15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8840" y="5305680"/>
              <a:ext cx="132120" cy="698760"/>
            </a:xfrm>
            <a:custGeom>
              <a:avLst/>
              <a:gdLst/>
              <a:ahLst/>
              <a:rect l="l" t="t" r="r" b="b"/>
              <a:pathLst>
                <a:path w="205" h="911">
                  <a:moveTo>
                    <a:pt x="205" y="15"/>
                  </a:moveTo>
                  <a:lnTo>
                    <a:pt x="163" y="247"/>
                  </a:lnTo>
                  <a:lnTo>
                    <a:pt x="132" y="478"/>
                  </a:lnTo>
                  <a:lnTo>
                    <a:pt x="132" y="695"/>
                  </a:lnTo>
                  <a:lnTo>
                    <a:pt x="132" y="911"/>
                  </a:lnTo>
                  <a:lnTo>
                    <a:pt x="13" y="911"/>
                  </a:lnTo>
                  <a:lnTo>
                    <a:pt x="0" y="681"/>
                  </a:lnTo>
                  <a:lnTo>
                    <a:pt x="13" y="462"/>
                  </a:lnTo>
                  <a:lnTo>
                    <a:pt x="13" y="347"/>
                  </a:lnTo>
                  <a:lnTo>
                    <a:pt x="31" y="232"/>
                  </a:lnTo>
                  <a:lnTo>
                    <a:pt x="75" y="0"/>
                  </a:lnTo>
                  <a:lnTo>
                    <a:pt x="205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079960" y="4662000"/>
              <a:ext cx="3251160" cy="1342800"/>
            </a:xfrm>
            <a:custGeom>
              <a:avLst/>
              <a:gdLst/>
              <a:ahLst/>
              <a:rect l="l" t="t" r="r" b="b"/>
              <a:pathLst>
                <a:path w="5077" h="1750">
                  <a:moveTo>
                    <a:pt x="3879" y="1403"/>
                  </a:moveTo>
                  <a:lnTo>
                    <a:pt x="3820" y="1750"/>
                  </a:lnTo>
                  <a:lnTo>
                    <a:pt x="3597" y="1750"/>
                  </a:lnTo>
                  <a:lnTo>
                    <a:pt x="3612" y="1591"/>
                  </a:lnTo>
                  <a:lnTo>
                    <a:pt x="0" y="0"/>
                  </a:lnTo>
                  <a:lnTo>
                    <a:pt x="5077" y="693"/>
                  </a:lnTo>
                  <a:lnTo>
                    <a:pt x="3879" y="140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079960" y="4662000"/>
              <a:ext cx="3251160" cy="1342800"/>
            </a:xfrm>
            <a:custGeom>
              <a:avLst/>
              <a:gdLst/>
              <a:ahLst/>
              <a:rect l="l" t="t" r="r" b="b"/>
              <a:pathLst>
                <a:path w="5077" h="1750">
                  <a:moveTo>
                    <a:pt x="3879" y="1403"/>
                  </a:moveTo>
                  <a:lnTo>
                    <a:pt x="3820" y="1750"/>
                  </a:lnTo>
                  <a:lnTo>
                    <a:pt x="3597" y="1750"/>
                  </a:lnTo>
                  <a:lnTo>
                    <a:pt x="3612" y="1591"/>
                  </a:lnTo>
                  <a:lnTo>
                    <a:pt x="0" y="0"/>
                  </a:lnTo>
                  <a:lnTo>
                    <a:pt x="5077" y="693"/>
                  </a:lnTo>
                  <a:lnTo>
                    <a:pt x="3879" y="140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075160" y="5206320"/>
              <a:ext cx="1280160" cy="798480"/>
            </a:xfrm>
            <a:custGeom>
              <a:avLst/>
              <a:gdLst/>
              <a:ahLst/>
              <a:rect l="l" t="t" r="r" b="b"/>
              <a:pathLst>
                <a:path w="1998" h="1042">
                  <a:moveTo>
                    <a:pt x="962" y="941"/>
                  </a:moveTo>
                  <a:lnTo>
                    <a:pt x="1998" y="898"/>
                  </a:lnTo>
                  <a:lnTo>
                    <a:pt x="1998" y="1042"/>
                  </a:lnTo>
                  <a:lnTo>
                    <a:pt x="0" y="1042"/>
                  </a:lnTo>
                  <a:lnTo>
                    <a:pt x="399" y="0"/>
                  </a:lnTo>
                  <a:lnTo>
                    <a:pt x="962" y="941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075160" y="5206320"/>
              <a:ext cx="1280160" cy="798480"/>
            </a:xfrm>
            <a:custGeom>
              <a:avLst/>
              <a:gdLst/>
              <a:ahLst/>
              <a:rect l="l" t="t" r="r" b="b"/>
              <a:pathLst>
                <a:path w="1998" h="1042">
                  <a:moveTo>
                    <a:pt x="962" y="941"/>
                  </a:moveTo>
                  <a:lnTo>
                    <a:pt x="1998" y="898"/>
                  </a:lnTo>
                  <a:lnTo>
                    <a:pt x="1998" y="1042"/>
                  </a:lnTo>
                  <a:lnTo>
                    <a:pt x="0" y="1042"/>
                  </a:lnTo>
                  <a:lnTo>
                    <a:pt x="399" y="0"/>
                  </a:lnTo>
                  <a:lnTo>
                    <a:pt x="962" y="9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331480" y="2906640"/>
              <a:ext cx="1023840" cy="2444760"/>
            </a:xfrm>
            <a:custGeom>
              <a:avLst/>
              <a:gdLst/>
              <a:ahLst/>
              <a:rect l="l" t="t" r="r" b="b"/>
              <a:pathLst>
                <a:path w="1599" h="3188">
                  <a:moveTo>
                    <a:pt x="1200" y="2274"/>
                  </a:moveTo>
                  <a:lnTo>
                    <a:pt x="1599" y="0"/>
                  </a:lnTo>
                  <a:lnTo>
                    <a:pt x="1599" y="969"/>
                  </a:lnTo>
                  <a:lnTo>
                    <a:pt x="1467" y="2086"/>
                  </a:lnTo>
                  <a:lnTo>
                    <a:pt x="1599" y="2131"/>
                  </a:lnTo>
                  <a:lnTo>
                    <a:pt x="1599" y="3188"/>
                  </a:lnTo>
                  <a:lnTo>
                    <a:pt x="0" y="2969"/>
                  </a:lnTo>
                  <a:lnTo>
                    <a:pt x="1200" y="2274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31480" y="2906640"/>
              <a:ext cx="1023840" cy="2444760"/>
            </a:xfrm>
            <a:custGeom>
              <a:avLst/>
              <a:gdLst/>
              <a:ahLst/>
              <a:rect l="l" t="t" r="r" b="b"/>
              <a:pathLst>
                <a:path w="1599" h="3188">
                  <a:moveTo>
                    <a:pt x="1200" y="2274"/>
                  </a:moveTo>
                  <a:lnTo>
                    <a:pt x="1599" y="0"/>
                  </a:lnTo>
                  <a:lnTo>
                    <a:pt x="1599" y="969"/>
                  </a:lnTo>
                  <a:lnTo>
                    <a:pt x="1467" y="2086"/>
                  </a:lnTo>
                  <a:lnTo>
                    <a:pt x="1599" y="2131"/>
                  </a:lnTo>
                  <a:lnTo>
                    <a:pt x="1599" y="3188"/>
                  </a:lnTo>
                  <a:lnTo>
                    <a:pt x="0" y="2969"/>
                  </a:lnTo>
                  <a:lnTo>
                    <a:pt x="1200" y="2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223600" y="1773720"/>
              <a:ext cx="4132080" cy="3419640"/>
            </a:xfrm>
            <a:custGeom>
              <a:avLst/>
              <a:gdLst/>
              <a:ahLst/>
              <a:rect l="l" t="t" r="r" b="b"/>
              <a:pathLst>
                <a:path w="6454" h="4461">
                  <a:moveTo>
                    <a:pt x="4145" y="3290"/>
                  </a:moveTo>
                  <a:lnTo>
                    <a:pt x="6454" y="0"/>
                  </a:lnTo>
                  <a:lnTo>
                    <a:pt x="6454" y="307"/>
                  </a:lnTo>
                  <a:lnTo>
                    <a:pt x="4855" y="4461"/>
                  </a:lnTo>
                  <a:lnTo>
                    <a:pt x="4308" y="3505"/>
                  </a:lnTo>
                  <a:lnTo>
                    <a:pt x="0" y="3693"/>
                  </a:lnTo>
                  <a:lnTo>
                    <a:pt x="4145" y="3290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223600" y="1773720"/>
              <a:ext cx="4132080" cy="3419640"/>
            </a:xfrm>
            <a:custGeom>
              <a:avLst/>
              <a:gdLst/>
              <a:ahLst/>
              <a:rect l="l" t="t" r="r" b="b"/>
              <a:pathLst>
                <a:path w="6454" h="4461">
                  <a:moveTo>
                    <a:pt x="4145" y="3290"/>
                  </a:moveTo>
                  <a:lnTo>
                    <a:pt x="6454" y="0"/>
                  </a:lnTo>
                  <a:lnTo>
                    <a:pt x="6454" y="307"/>
                  </a:lnTo>
                  <a:lnTo>
                    <a:pt x="4855" y="4461"/>
                  </a:lnTo>
                  <a:lnTo>
                    <a:pt x="4308" y="3505"/>
                  </a:lnTo>
                  <a:lnTo>
                    <a:pt x="0" y="3693"/>
                  </a:lnTo>
                  <a:lnTo>
                    <a:pt x="4145" y="329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829280" y="2762640"/>
              <a:ext cx="644040" cy="212760"/>
            </a:xfrm>
            <a:custGeom>
              <a:avLst/>
              <a:gdLst/>
              <a:ahLst/>
              <a:rect l="l" t="t" r="r" b="b"/>
              <a:pathLst>
                <a:path w="1006" h="276">
                  <a:moveTo>
                    <a:pt x="0" y="161"/>
                  </a:moveTo>
                  <a:lnTo>
                    <a:pt x="251" y="73"/>
                  </a:lnTo>
                  <a:lnTo>
                    <a:pt x="384" y="44"/>
                  </a:lnTo>
                  <a:lnTo>
                    <a:pt x="503" y="0"/>
                  </a:lnTo>
                  <a:lnTo>
                    <a:pt x="1006" y="73"/>
                  </a:lnTo>
                  <a:lnTo>
                    <a:pt x="873" y="276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108200" y="3219480"/>
              <a:ext cx="1061640" cy="300240"/>
            </a:xfrm>
            <a:custGeom>
              <a:avLst/>
              <a:gdLst/>
              <a:ahLst/>
              <a:rect l="l" t="t" r="r" b="b"/>
              <a:pathLst>
                <a:path w="1659" h="391">
                  <a:moveTo>
                    <a:pt x="0" y="188"/>
                  </a:moveTo>
                  <a:lnTo>
                    <a:pt x="269" y="0"/>
                  </a:lnTo>
                  <a:lnTo>
                    <a:pt x="1659" y="188"/>
                  </a:lnTo>
                  <a:lnTo>
                    <a:pt x="1511" y="391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663960" y="3729960"/>
              <a:ext cx="1194480" cy="344520"/>
            </a:xfrm>
            <a:custGeom>
              <a:avLst/>
              <a:gdLst/>
              <a:ahLst/>
              <a:rect l="l" t="t" r="r" b="b"/>
              <a:pathLst>
                <a:path w="1866" h="449">
                  <a:moveTo>
                    <a:pt x="0" y="203"/>
                  </a:moveTo>
                  <a:lnTo>
                    <a:pt x="179" y="0"/>
                  </a:lnTo>
                  <a:lnTo>
                    <a:pt x="1866" y="246"/>
                  </a:lnTo>
                  <a:lnTo>
                    <a:pt x="1732" y="449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26000" y="4272480"/>
              <a:ext cx="48240" cy="11880"/>
            </a:xfrm>
            <a:custGeom>
              <a:avLst/>
              <a:gdLst/>
              <a:ahLst/>
              <a:rect l="l" t="t" r="r" b="b"/>
              <a:pathLst>
                <a:path w="75" h="16">
                  <a:moveTo>
                    <a:pt x="15" y="0"/>
                  </a:moveTo>
                  <a:lnTo>
                    <a:pt x="75" y="16"/>
                  </a:lnTo>
                  <a:lnTo>
                    <a:pt x="0" y="1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c53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010920" y="5405400"/>
              <a:ext cx="538920" cy="254160"/>
            </a:xfrm>
            <a:custGeom>
              <a:avLst/>
              <a:gdLst/>
              <a:ahLst/>
              <a:rect l="l" t="t" r="r" b="b"/>
              <a:pathLst>
                <a:path w="843" h="332">
                  <a:moveTo>
                    <a:pt x="0" y="217"/>
                  </a:moveTo>
                  <a:lnTo>
                    <a:pt x="13" y="102"/>
                  </a:lnTo>
                  <a:lnTo>
                    <a:pt x="42" y="0"/>
                  </a:lnTo>
                  <a:lnTo>
                    <a:pt x="175" y="14"/>
                  </a:lnTo>
                  <a:lnTo>
                    <a:pt x="843" y="332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267080" y="4461120"/>
              <a:ext cx="699120" cy="222480"/>
            </a:xfrm>
            <a:custGeom>
              <a:avLst/>
              <a:gdLst/>
              <a:ahLst/>
              <a:rect l="l" t="t" r="r" b="b"/>
              <a:pathLst>
                <a:path w="1092" h="290">
                  <a:moveTo>
                    <a:pt x="0" y="161"/>
                  </a:moveTo>
                  <a:lnTo>
                    <a:pt x="58" y="0"/>
                  </a:lnTo>
                  <a:lnTo>
                    <a:pt x="1092" y="146"/>
                  </a:lnTo>
                  <a:lnTo>
                    <a:pt x="1035" y="290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c53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999400" y="2308680"/>
              <a:ext cx="2786400" cy="2031120"/>
            </a:xfrm>
            <a:custGeom>
              <a:avLst/>
              <a:gdLst/>
              <a:ahLst/>
              <a:rect l="l" t="t" r="r" b="b"/>
              <a:pathLst>
                <a:path w="4351" h="2650">
                  <a:moveTo>
                    <a:pt x="0" y="2593"/>
                  </a:moveTo>
                  <a:lnTo>
                    <a:pt x="74" y="2447"/>
                  </a:lnTo>
                  <a:lnTo>
                    <a:pt x="165" y="2303"/>
                  </a:lnTo>
                  <a:lnTo>
                    <a:pt x="266" y="2172"/>
                  </a:lnTo>
                  <a:lnTo>
                    <a:pt x="357" y="2040"/>
                  </a:lnTo>
                  <a:lnTo>
                    <a:pt x="564" y="1781"/>
                  </a:lnTo>
                  <a:lnTo>
                    <a:pt x="787" y="1549"/>
                  </a:lnTo>
                  <a:lnTo>
                    <a:pt x="917" y="1433"/>
                  </a:lnTo>
                  <a:lnTo>
                    <a:pt x="1036" y="1316"/>
                  </a:lnTo>
                  <a:lnTo>
                    <a:pt x="1288" y="1101"/>
                  </a:lnTo>
                  <a:lnTo>
                    <a:pt x="1422" y="1000"/>
                  </a:lnTo>
                  <a:lnTo>
                    <a:pt x="1555" y="911"/>
                  </a:lnTo>
                  <a:lnTo>
                    <a:pt x="1835" y="723"/>
                  </a:lnTo>
                  <a:lnTo>
                    <a:pt x="1984" y="652"/>
                  </a:lnTo>
                  <a:lnTo>
                    <a:pt x="2132" y="566"/>
                  </a:lnTo>
                  <a:lnTo>
                    <a:pt x="2428" y="420"/>
                  </a:lnTo>
                  <a:lnTo>
                    <a:pt x="2591" y="360"/>
                  </a:lnTo>
                  <a:lnTo>
                    <a:pt x="2739" y="303"/>
                  </a:lnTo>
                  <a:lnTo>
                    <a:pt x="2902" y="245"/>
                  </a:lnTo>
                  <a:lnTo>
                    <a:pt x="3050" y="188"/>
                  </a:lnTo>
                  <a:lnTo>
                    <a:pt x="3213" y="145"/>
                  </a:lnTo>
                  <a:lnTo>
                    <a:pt x="3376" y="115"/>
                  </a:lnTo>
                  <a:lnTo>
                    <a:pt x="3537" y="71"/>
                  </a:lnTo>
                  <a:lnTo>
                    <a:pt x="3701" y="44"/>
                  </a:lnTo>
                  <a:lnTo>
                    <a:pt x="3864" y="30"/>
                  </a:lnTo>
                  <a:lnTo>
                    <a:pt x="4027" y="13"/>
                  </a:lnTo>
                  <a:lnTo>
                    <a:pt x="4190" y="0"/>
                  </a:lnTo>
                  <a:lnTo>
                    <a:pt x="4351" y="0"/>
                  </a:lnTo>
                  <a:lnTo>
                    <a:pt x="4351" y="115"/>
                  </a:lnTo>
                  <a:lnTo>
                    <a:pt x="4190" y="130"/>
                  </a:lnTo>
                  <a:lnTo>
                    <a:pt x="4027" y="130"/>
                  </a:lnTo>
                  <a:lnTo>
                    <a:pt x="3879" y="145"/>
                  </a:lnTo>
                  <a:lnTo>
                    <a:pt x="3716" y="174"/>
                  </a:lnTo>
                  <a:lnTo>
                    <a:pt x="3553" y="201"/>
                  </a:lnTo>
                  <a:lnTo>
                    <a:pt x="3405" y="232"/>
                  </a:lnTo>
                  <a:lnTo>
                    <a:pt x="3094" y="318"/>
                  </a:lnTo>
                  <a:lnTo>
                    <a:pt x="2931" y="360"/>
                  </a:lnTo>
                  <a:lnTo>
                    <a:pt x="2783" y="420"/>
                  </a:lnTo>
                  <a:lnTo>
                    <a:pt x="2487" y="535"/>
                  </a:lnTo>
                  <a:lnTo>
                    <a:pt x="2340" y="608"/>
                  </a:lnTo>
                  <a:lnTo>
                    <a:pt x="2192" y="681"/>
                  </a:lnTo>
                  <a:lnTo>
                    <a:pt x="2044" y="754"/>
                  </a:lnTo>
                  <a:lnTo>
                    <a:pt x="1910" y="838"/>
                  </a:lnTo>
                  <a:lnTo>
                    <a:pt x="1762" y="911"/>
                  </a:lnTo>
                  <a:lnTo>
                    <a:pt x="1627" y="1013"/>
                  </a:lnTo>
                  <a:lnTo>
                    <a:pt x="1363" y="1201"/>
                  </a:lnTo>
                  <a:lnTo>
                    <a:pt x="1244" y="1303"/>
                  </a:lnTo>
                  <a:lnTo>
                    <a:pt x="1126" y="1405"/>
                  </a:lnTo>
                  <a:lnTo>
                    <a:pt x="888" y="1622"/>
                  </a:lnTo>
                  <a:lnTo>
                    <a:pt x="769" y="1737"/>
                  </a:lnTo>
                  <a:lnTo>
                    <a:pt x="666" y="1867"/>
                  </a:lnTo>
                  <a:lnTo>
                    <a:pt x="564" y="1982"/>
                  </a:lnTo>
                  <a:lnTo>
                    <a:pt x="460" y="2115"/>
                  </a:lnTo>
                  <a:lnTo>
                    <a:pt x="370" y="2245"/>
                  </a:lnTo>
                  <a:lnTo>
                    <a:pt x="266" y="2374"/>
                  </a:lnTo>
                  <a:lnTo>
                    <a:pt x="103" y="2650"/>
                  </a:lnTo>
                  <a:lnTo>
                    <a:pt x="0" y="259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658840" y="5305680"/>
              <a:ext cx="132120" cy="698760"/>
            </a:xfrm>
            <a:custGeom>
              <a:avLst/>
              <a:gdLst/>
              <a:ahLst/>
              <a:rect l="l" t="t" r="r" b="b"/>
              <a:pathLst>
                <a:path w="205" h="911">
                  <a:moveTo>
                    <a:pt x="205" y="15"/>
                  </a:moveTo>
                  <a:lnTo>
                    <a:pt x="163" y="247"/>
                  </a:lnTo>
                  <a:lnTo>
                    <a:pt x="132" y="478"/>
                  </a:lnTo>
                  <a:lnTo>
                    <a:pt x="132" y="695"/>
                  </a:lnTo>
                  <a:lnTo>
                    <a:pt x="132" y="911"/>
                  </a:lnTo>
                  <a:lnTo>
                    <a:pt x="13" y="911"/>
                  </a:lnTo>
                  <a:lnTo>
                    <a:pt x="0" y="681"/>
                  </a:lnTo>
                  <a:lnTo>
                    <a:pt x="13" y="462"/>
                  </a:lnTo>
                  <a:lnTo>
                    <a:pt x="13" y="347"/>
                  </a:lnTo>
                  <a:lnTo>
                    <a:pt x="31" y="232"/>
                  </a:lnTo>
                  <a:lnTo>
                    <a:pt x="75" y="0"/>
                  </a:lnTo>
                  <a:lnTo>
                    <a:pt x="205" y="15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658840" y="5305680"/>
              <a:ext cx="132120" cy="698760"/>
            </a:xfrm>
            <a:custGeom>
              <a:avLst/>
              <a:gdLst/>
              <a:ahLst/>
              <a:rect l="l" t="t" r="r" b="b"/>
              <a:pathLst>
                <a:path w="205" h="911">
                  <a:moveTo>
                    <a:pt x="205" y="15"/>
                  </a:moveTo>
                  <a:lnTo>
                    <a:pt x="163" y="247"/>
                  </a:lnTo>
                  <a:lnTo>
                    <a:pt x="132" y="478"/>
                  </a:lnTo>
                  <a:lnTo>
                    <a:pt x="132" y="695"/>
                  </a:lnTo>
                  <a:lnTo>
                    <a:pt x="132" y="911"/>
                  </a:lnTo>
                  <a:lnTo>
                    <a:pt x="13" y="911"/>
                  </a:lnTo>
                  <a:lnTo>
                    <a:pt x="0" y="681"/>
                  </a:lnTo>
                  <a:lnTo>
                    <a:pt x="13" y="462"/>
                  </a:lnTo>
                  <a:lnTo>
                    <a:pt x="13" y="347"/>
                  </a:lnTo>
                  <a:lnTo>
                    <a:pt x="31" y="232"/>
                  </a:lnTo>
                  <a:lnTo>
                    <a:pt x="75" y="0"/>
                  </a:lnTo>
                  <a:lnTo>
                    <a:pt x="205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079960" y="4662000"/>
              <a:ext cx="3251160" cy="1342800"/>
            </a:xfrm>
            <a:custGeom>
              <a:avLst/>
              <a:gdLst/>
              <a:ahLst/>
              <a:rect l="l" t="t" r="r" b="b"/>
              <a:pathLst>
                <a:path w="5077" h="1750">
                  <a:moveTo>
                    <a:pt x="3879" y="1403"/>
                  </a:moveTo>
                  <a:lnTo>
                    <a:pt x="3820" y="1750"/>
                  </a:lnTo>
                  <a:lnTo>
                    <a:pt x="3597" y="1750"/>
                  </a:lnTo>
                  <a:lnTo>
                    <a:pt x="3612" y="1591"/>
                  </a:lnTo>
                  <a:lnTo>
                    <a:pt x="0" y="0"/>
                  </a:lnTo>
                  <a:lnTo>
                    <a:pt x="5077" y="693"/>
                  </a:lnTo>
                  <a:lnTo>
                    <a:pt x="3879" y="140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79960" y="4662000"/>
              <a:ext cx="3251160" cy="1342800"/>
            </a:xfrm>
            <a:custGeom>
              <a:avLst/>
              <a:gdLst/>
              <a:ahLst/>
              <a:rect l="l" t="t" r="r" b="b"/>
              <a:pathLst>
                <a:path w="5077" h="1750">
                  <a:moveTo>
                    <a:pt x="3879" y="1403"/>
                  </a:moveTo>
                  <a:lnTo>
                    <a:pt x="3820" y="1750"/>
                  </a:lnTo>
                  <a:lnTo>
                    <a:pt x="3597" y="1750"/>
                  </a:lnTo>
                  <a:lnTo>
                    <a:pt x="3612" y="1591"/>
                  </a:lnTo>
                  <a:lnTo>
                    <a:pt x="0" y="0"/>
                  </a:lnTo>
                  <a:lnTo>
                    <a:pt x="5077" y="693"/>
                  </a:lnTo>
                  <a:lnTo>
                    <a:pt x="3879" y="140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075160" y="5206320"/>
              <a:ext cx="1280160" cy="798480"/>
            </a:xfrm>
            <a:custGeom>
              <a:avLst/>
              <a:gdLst/>
              <a:ahLst/>
              <a:rect l="l" t="t" r="r" b="b"/>
              <a:pathLst>
                <a:path w="1998" h="1042">
                  <a:moveTo>
                    <a:pt x="962" y="941"/>
                  </a:moveTo>
                  <a:lnTo>
                    <a:pt x="1998" y="898"/>
                  </a:lnTo>
                  <a:lnTo>
                    <a:pt x="1998" y="1042"/>
                  </a:lnTo>
                  <a:lnTo>
                    <a:pt x="0" y="1042"/>
                  </a:lnTo>
                  <a:lnTo>
                    <a:pt x="399" y="0"/>
                  </a:lnTo>
                  <a:lnTo>
                    <a:pt x="962" y="941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075160" y="5206320"/>
              <a:ext cx="1280160" cy="798480"/>
            </a:xfrm>
            <a:custGeom>
              <a:avLst/>
              <a:gdLst/>
              <a:ahLst/>
              <a:rect l="l" t="t" r="r" b="b"/>
              <a:pathLst>
                <a:path w="1998" h="1042">
                  <a:moveTo>
                    <a:pt x="962" y="941"/>
                  </a:moveTo>
                  <a:lnTo>
                    <a:pt x="1998" y="898"/>
                  </a:lnTo>
                  <a:lnTo>
                    <a:pt x="1998" y="1042"/>
                  </a:lnTo>
                  <a:lnTo>
                    <a:pt x="0" y="1042"/>
                  </a:lnTo>
                  <a:lnTo>
                    <a:pt x="399" y="0"/>
                  </a:lnTo>
                  <a:lnTo>
                    <a:pt x="962" y="9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331480" y="2906640"/>
              <a:ext cx="1023840" cy="2444760"/>
            </a:xfrm>
            <a:custGeom>
              <a:avLst/>
              <a:gdLst/>
              <a:ahLst/>
              <a:rect l="l" t="t" r="r" b="b"/>
              <a:pathLst>
                <a:path w="1599" h="3188">
                  <a:moveTo>
                    <a:pt x="1200" y="2274"/>
                  </a:moveTo>
                  <a:lnTo>
                    <a:pt x="1599" y="0"/>
                  </a:lnTo>
                  <a:lnTo>
                    <a:pt x="1599" y="969"/>
                  </a:lnTo>
                  <a:lnTo>
                    <a:pt x="1467" y="2086"/>
                  </a:lnTo>
                  <a:lnTo>
                    <a:pt x="1599" y="2131"/>
                  </a:lnTo>
                  <a:lnTo>
                    <a:pt x="1599" y="3188"/>
                  </a:lnTo>
                  <a:lnTo>
                    <a:pt x="0" y="2969"/>
                  </a:lnTo>
                  <a:lnTo>
                    <a:pt x="1200" y="2274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331480" y="2906640"/>
              <a:ext cx="1023840" cy="2444760"/>
            </a:xfrm>
            <a:custGeom>
              <a:avLst/>
              <a:gdLst/>
              <a:ahLst/>
              <a:rect l="l" t="t" r="r" b="b"/>
              <a:pathLst>
                <a:path w="1599" h="3188">
                  <a:moveTo>
                    <a:pt x="1200" y="2274"/>
                  </a:moveTo>
                  <a:lnTo>
                    <a:pt x="1599" y="0"/>
                  </a:lnTo>
                  <a:lnTo>
                    <a:pt x="1599" y="969"/>
                  </a:lnTo>
                  <a:lnTo>
                    <a:pt x="1467" y="2086"/>
                  </a:lnTo>
                  <a:lnTo>
                    <a:pt x="1599" y="2131"/>
                  </a:lnTo>
                  <a:lnTo>
                    <a:pt x="1599" y="3188"/>
                  </a:lnTo>
                  <a:lnTo>
                    <a:pt x="0" y="2969"/>
                  </a:lnTo>
                  <a:lnTo>
                    <a:pt x="1200" y="2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223600" y="1773720"/>
              <a:ext cx="4132080" cy="3419640"/>
            </a:xfrm>
            <a:custGeom>
              <a:avLst/>
              <a:gdLst/>
              <a:ahLst/>
              <a:rect l="l" t="t" r="r" b="b"/>
              <a:pathLst>
                <a:path w="6454" h="4461">
                  <a:moveTo>
                    <a:pt x="4145" y="3290"/>
                  </a:moveTo>
                  <a:lnTo>
                    <a:pt x="6454" y="0"/>
                  </a:lnTo>
                  <a:lnTo>
                    <a:pt x="6454" y="307"/>
                  </a:lnTo>
                  <a:lnTo>
                    <a:pt x="4855" y="4461"/>
                  </a:lnTo>
                  <a:lnTo>
                    <a:pt x="4308" y="3505"/>
                  </a:lnTo>
                  <a:lnTo>
                    <a:pt x="0" y="3693"/>
                  </a:lnTo>
                  <a:lnTo>
                    <a:pt x="4145" y="3290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223600" y="1773720"/>
              <a:ext cx="4132080" cy="3419640"/>
            </a:xfrm>
            <a:custGeom>
              <a:avLst/>
              <a:gdLst/>
              <a:ahLst/>
              <a:rect l="l" t="t" r="r" b="b"/>
              <a:pathLst>
                <a:path w="6454" h="4461">
                  <a:moveTo>
                    <a:pt x="4145" y="3290"/>
                  </a:moveTo>
                  <a:lnTo>
                    <a:pt x="6454" y="0"/>
                  </a:lnTo>
                  <a:lnTo>
                    <a:pt x="6454" y="307"/>
                  </a:lnTo>
                  <a:lnTo>
                    <a:pt x="4855" y="4461"/>
                  </a:lnTo>
                  <a:lnTo>
                    <a:pt x="4308" y="3505"/>
                  </a:lnTo>
                  <a:lnTo>
                    <a:pt x="0" y="3693"/>
                  </a:lnTo>
                  <a:lnTo>
                    <a:pt x="4145" y="329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29280" y="2762640"/>
              <a:ext cx="644040" cy="212760"/>
            </a:xfrm>
            <a:custGeom>
              <a:avLst/>
              <a:gdLst/>
              <a:ahLst/>
              <a:rect l="l" t="t" r="r" b="b"/>
              <a:pathLst>
                <a:path w="1006" h="276">
                  <a:moveTo>
                    <a:pt x="0" y="161"/>
                  </a:moveTo>
                  <a:lnTo>
                    <a:pt x="251" y="73"/>
                  </a:lnTo>
                  <a:lnTo>
                    <a:pt x="384" y="44"/>
                  </a:lnTo>
                  <a:lnTo>
                    <a:pt x="503" y="0"/>
                  </a:lnTo>
                  <a:lnTo>
                    <a:pt x="1006" y="73"/>
                  </a:lnTo>
                  <a:lnTo>
                    <a:pt x="873" y="276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108200" y="3219480"/>
              <a:ext cx="1061640" cy="300240"/>
            </a:xfrm>
            <a:custGeom>
              <a:avLst/>
              <a:gdLst/>
              <a:ahLst/>
              <a:rect l="l" t="t" r="r" b="b"/>
              <a:pathLst>
                <a:path w="1659" h="391">
                  <a:moveTo>
                    <a:pt x="0" y="188"/>
                  </a:moveTo>
                  <a:lnTo>
                    <a:pt x="269" y="0"/>
                  </a:lnTo>
                  <a:lnTo>
                    <a:pt x="1659" y="188"/>
                  </a:lnTo>
                  <a:lnTo>
                    <a:pt x="1511" y="391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663960" y="3729960"/>
              <a:ext cx="1194480" cy="344520"/>
            </a:xfrm>
            <a:custGeom>
              <a:avLst/>
              <a:gdLst/>
              <a:ahLst/>
              <a:rect l="l" t="t" r="r" b="b"/>
              <a:pathLst>
                <a:path w="1866" h="449">
                  <a:moveTo>
                    <a:pt x="0" y="203"/>
                  </a:moveTo>
                  <a:lnTo>
                    <a:pt x="179" y="0"/>
                  </a:lnTo>
                  <a:lnTo>
                    <a:pt x="1866" y="246"/>
                  </a:lnTo>
                  <a:lnTo>
                    <a:pt x="1732" y="449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426000" y="4272480"/>
              <a:ext cx="48240" cy="11880"/>
            </a:xfrm>
            <a:custGeom>
              <a:avLst/>
              <a:gdLst/>
              <a:ahLst/>
              <a:rect l="l" t="t" r="r" b="b"/>
              <a:pathLst>
                <a:path w="75" h="16">
                  <a:moveTo>
                    <a:pt x="15" y="0"/>
                  </a:moveTo>
                  <a:lnTo>
                    <a:pt x="75" y="16"/>
                  </a:lnTo>
                  <a:lnTo>
                    <a:pt x="0" y="1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c53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010920" y="5405400"/>
              <a:ext cx="538920" cy="254160"/>
            </a:xfrm>
            <a:custGeom>
              <a:avLst/>
              <a:gdLst/>
              <a:ahLst/>
              <a:rect l="l" t="t" r="r" b="b"/>
              <a:pathLst>
                <a:path w="843" h="332">
                  <a:moveTo>
                    <a:pt x="0" y="217"/>
                  </a:moveTo>
                  <a:lnTo>
                    <a:pt x="13" y="102"/>
                  </a:lnTo>
                  <a:lnTo>
                    <a:pt x="42" y="0"/>
                  </a:lnTo>
                  <a:lnTo>
                    <a:pt x="175" y="14"/>
                  </a:lnTo>
                  <a:lnTo>
                    <a:pt x="843" y="332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267080" y="4461120"/>
              <a:ext cx="699120" cy="222480"/>
            </a:xfrm>
            <a:custGeom>
              <a:avLst/>
              <a:gdLst/>
              <a:ahLst/>
              <a:rect l="l" t="t" r="r" b="b"/>
              <a:pathLst>
                <a:path w="1092" h="290">
                  <a:moveTo>
                    <a:pt x="0" y="161"/>
                  </a:moveTo>
                  <a:lnTo>
                    <a:pt x="58" y="0"/>
                  </a:lnTo>
                  <a:lnTo>
                    <a:pt x="1092" y="146"/>
                  </a:lnTo>
                  <a:lnTo>
                    <a:pt x="1035" y="290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c53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0" y="457200"/>
            <a:ext cx="1447560" cy="5943600"/>
            <a:chOff x="0" y="457200"/>
            <a:chExt cx="1447560" cy="5943600"/>
          </a:xfrm>
        </p:grpSpPr>
        <p:sp>
          <p:nvSpPr>
            <p:cNvPr id="79" name=""/>
            <p:cNvSpPr/>
            <p:nvPr/>
          </p:nvSpPr>
          <p:spPr>
            <a:xfrm>
              <a:off x="0" y="2911680"/>
              <a:ext cx="1447560" cy="3489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4a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0" y="457200"/>
              <a:ext cx="1446120" cy="249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3505320" y="64008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ManTech Propriet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95680" y="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venue Gen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914400" y="1295280"/>
            <a:ext cx="777240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066680" y="1447920"/>
            <a:ext cx="777240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219320" y="1600200"/>
            <a:ext cx="579096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8600" y="838080"/>
            <a:ext cx="8305920" cy="62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90% of our incremental revenue hinges on four upcoming NATO RFP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Three of the are CIS O &amp; M service delivery contracts in war zon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These projects fit our BD strategy and we have strong past performan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We should also obtain some synergy with these proposals allowing us to leverage our limited BD budge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The success of these project awards lies in our pricing, teaming and partnering strategies (plus a compliant proposal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We are already working on these strategies and will be involving the corporate pricing team much earlier in the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Ultimately allowing us to present NATO with most price competitive  proposal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The forth opportunity we are targeting is a Large VTC acqui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Again this projects fit our BD strategy and we have strong past performan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We have the technical expertise to respond and the support of the manufacture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3505320" y="64008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ManTech Propriet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52680" y="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apture Plan Highlights (CIS – O &amp; M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14400" y="1295280"/>
            <a:ext cx="777240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066680" y="1447920"/>
            <a:ext cx="777240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219320" y="1600200"/>
            <a:ext cx="579096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8600" y="838080"/>
            <a:ext cx="8305920" cy="58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Known Competitor / Teaming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ATCO – Frontec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Lindy is arranging a meeting a EU based ATCO – Frontec represent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Mantech as the prime, is  going to offer ATCO - Frontec slots on our team, on all three propos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Should they not want to team we go head to head on all thr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Should they push to prime one of them we sub to them on the Kosovo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Pri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As always – Price is King at NAMSA and NC3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We are working on new sub-contract relationships which will allow us to present  staffing combinations which  reduce our project proposal cos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Staffing M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Normal press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Add employees to help our r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Team with DSG as an internal part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Neither of these are going to be driving factors in our deci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ipcCompanyHeader_PresentationModeControlsContainer_PresentationImage" descr=""/>
          <p:cNvPicPr/>
          <p:nvPr/>
        </p:nvPicPr>
        <p:blipFill>
          <a:blip r:embed="rId1"/>
          <a:stretch/>
        </p:blipFill>
        <p:spPr>
          <a:xfrm>
            <a:off x="3581280" y="914400"/>
            <a:ext cx="234972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505320" y="64008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ManTech Propriet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352680" y="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apture Plan Highlights (CIS – O &amp; M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914400" y="1295280"/>
            <a:ext cx="777240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066680" y="1447920"/>
            <a:ext cx="777240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219320" y="1600200"/>
            <a:ext cx="579096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28600" y="838080"/>
            <a:ext cx="8305920" cy="31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Very simply - How will these fall toge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eam members will be offered slots based on 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his includes DS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hould Subs and consultants bring the lowest costs to the Proposal we could end up with as little as two or three employees  (US or British) managing  each  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3505320" y="64008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ManTech Propriet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85800" y="6858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Resource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066680" y="1447920"/>
            <a:ext cx="777240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94240" y="750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600200"/>
            <a:ext cx="6553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B &amp; P Doll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Proposal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Fin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Contra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267080" y="1773720"/>
            <a:ext cx="5088600" cy="4231080"/>
            <a:chOff x="4267080" y="1773720"/>
            <a:chExt cx="5088600" cy="4231080"/>
          </a:xfrm>
        </p:grpSpPr>
        <p:sp>
          <p:nvSpPr>
            <p:cNvPr id="289" name=""/>
            <p:cNvSpPr/>
            <p:nvPr/>
          </p:nvSpPr>
          <p:spPr>
            <a:xfrm>
              <a:off x="5999400" y="2308680"/>
              <a:ext cx="2786400" cy="2031120"/>
            </a:xfrm>
            <a:custGeom>
              <a:avLst/>
              <a:gdLst/>
              <a:ahLst/>
              <a:rect l="l" t="t" r="r" b="b"/>
              <a:pathLst>
                <a:path w="4351" h="2650">
                  <a:moveTo>
                    <a:pt x="0" y="2593"/>
                  </a:moveTo>
                  <a:lnTo>
                    <a:pt x="74" y="2447"/>
                  </a:lnTo>
                  <a:lnTo>
                    <a:pt x="165" y="2303"/>
                  </a:lnTo>
                  <a:lnTo>
                    <a:pt x="266" y="2172"/>
                  </a:lnTo>
                  <a:lnTo>
                    <a:pt x="357" y="2040"/>
                  </a:lnTo>
                  <a:lnTo>
                    <a:pt x="564" y="1781"/>
                  </a:lnTo>
                  <a:lnTo>
                    <a:pt x="787" y="1549"/>
                  </a:lnTo>
                  <a:lnTo>
                    <a:pt x="917" y="1433"/>
                  </a:lnTo>
                  <a:lnTo>
                    <a:pt x="1036" y="1316"/>
                  </a:lnTo>
                  <a:lnTo>
                    <a:pt x="1288" y="1101"/>
                  </a:lnTo>
                  <a:lnTo>
                    <a:pt x="1422" y="1000"/>
                  </a:lnTo>
                  <a:lnTo>
                    <a:pt x="1555" y="911"/>
                  </a:lnTo>
                  <a:lnTo>
                    <a:pt x="1835" y="723"/>
                  </a:lnTo>
                  <a:lnTo>
                    <a:pt x="1984" y="652"/>
                  </a:lnTo>
                  <a:lnTo>
                    <a:pt x="2132" y="566"/>
                  </a:lnTo>
                  <a:lnTo>
                    <a:pt x="2428" y="420"/>
                  </a:lnTo>
                  <a:lnTo>
                    <a:pt x="2591" y="360"/>
                  </a:lnTo>
                  <a:lnTo>
                    <a:pt x="2739" y="303"/>
                  </a:lnTo>
                  <a:lnTo>
                    <a:pt x="2902" y="245"/>
                  </a:lnTo>
                  <a:lnTo>
                    <a:pt x="3050" y="188"/>
                  </a:lnTo>
                  <a:lnTo>
                    <a:pt x="3213" y="145"/>
                  </a:lnTo>
                  <a:lnTo>
                    <a:pt x="3376" y="115"/>
                  </a:lnTo>
                  <a:lnTo>
                    <a:pt x="3537" y="71"/>
                  </a:lnTo>
                  <a:lnTo>
                    <a:pt x="3701" y="44"/>
                  </a:lnTo>
                  <a:lnTo>
                    <a:pt x="3864" y="30"/>
                  </a:lnTo>
                  <a:lnTo>
                    <a:pt x="4027" y="13"/>
                  </a:lnTo>
                  <a:lnTo>
                    <a:pt x="4190" y="0"/>
                  </a:lnTo>
                  <a:lnTo>
                    <a:pt x="4351" y="0"/>
                  </a:lnTo>
                  <a:lnTo>
                    <a:pt x="4351" y="115"/>
                  </a:lnTo>
                  <a:lnTo>
                    <a:pt x="4190" y="130"/>
                  </a:lnTo>
                  <a:lnTo>
                    <a:pt x="4027" y="130"/>
                  </a:lnTo>
                  <a:lnTo>
                    <a:pt x="3879" y="145"/>
                  </a:lnTo>
                  <a:lnTo>
                    <a:pt x="3716" y="174"/>
                  </a:lnTo>
                  <a:lnTo>
                    <a:pt x="3553" y="201"/>
                  </a:lnTo>
                  <a:lnTo>
                    <a:pt x="3405" y="232"/>
                  </a:lnTo>
                  <a:lnTo>
                    <a:pt x="3094" y="318"/>
                  </a:lnTo>
                  <a:lnTo>
                    <a:pt x="2931" y="360"/>
                  </a:lnTo>
                  <a:lnTo>
                    <a:pt x="2783" y="420"/>
                  </a:lnTo>
                  <a:lnTo>
                    <a:pt x="2487" y="535"/>
                  </a:lnTo>
                  <a:lnTo>
                    <a:pt x="2340" y="608"/>
                  </a:lnTo>
                  <a:lnTo>
                    <a:pt x="2192" y="681"/>
                  </a:lnTo>
                  <a:lnTo>
                    <a:pt x="2044" y="754"/>
                  </a:lnTo>
                  <a:lnTo>
                    <a:pt x="1910" y="838"/>
                  </a:lnTo>
                  <a:lnTo>
                    <a:pt x="1762" y="911"/>
                  </a:lnTo>
                  <a:lnTo>
                    <a:pt x="1627" y="1013"/>
                  </a:lnTo>
                  <a:lnTo>
                    <a:pt x="1363" y="1201"/>
                  </a:lnTo>
                  <a:lnTo>
                    <a:pt x="1244" y="1303"/>
                  </a:lnTo>
                  <a:lnTo>
                    <a:pt x="1126" y="1405"/>
                  </a:lnTo>
                  <a:lnTo>
                    <a:pt x="888" y="1622"/>
                  </a:lnTo>
                  <a:lnTo>
                    <a:pt x="769" y="1737"/>
                  </a:lnTo>
                  <a:lnTo>
                    <a:pt x="666" y="1867"/>
                  </a:lnTo>
                  <a:lnTo>
                    <a:pt x="564" y="1982"/>
                  </a:lnTo>
                  <a:lnTo>
                    <a:pt x="460" y="2115"/>
                  </a:lnTo>
                  <a:lnTo>
                    <a:pt x="370" y="2245"/>
                  </a:lnTo>
                  <a:lnTo>
                    <a:pt x="266" y="2374"/>
                  </a:lnTo>
                  <a:lnTo>
                    <a:pt x="103" y="2650"/>
                  </a:lnTo>
                  <a:lnTo>
                    <a:pt x="0" y="259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658840" y="5305680"/>
              <a:ext cx="132120" cy="698760"/>
            </a:xfrm>
            <a:custGeom>
              <a:avLst/>
              <a:gdLst/>
              <a:ahLst/>
              <a:rect l="l" t="t" r="r" b="b"/>
              <a:pathLst>
                <a:path w="205" h="911">
                  <a:moveTo>
                    <a:pt x="205" y="15"/>
                  </a:moveTo>
                  <a:lnTo>
                    <a:pt x="163" y="247"/>
                  </a:lnTo>
                  <a:lnTo>
                    <a:pt x="132" y="478"/>
                  </a:lnTo>
                  <a:lnTo>
                    <a:pt x="132" y="695"/>
                  </a:lnTo>
                  <a:lnTo>
                    <a:pt x="132" y="911"/>
                  </a:lnTo>
                  <a:lnTo>
                    <a:pt x="13" y="911"/>
                  </a:lnTo>
                  <a:lnTo>
                    <a:pt x="0" y="681"/>
                  </a:lnTo>
                  <a:lnTo>
                    <a:pt x="13" y="462"/>
                  </a:lnTo>
                  <a:lnTo>
                    <a:pt x="13" y="347"/>
                  </a:lnTo>
                  <a:lnTo>
                    <a:pt x="31" y="232"/>
                  </a:lnTo>
                  <a:lnTo>
                    <a:pt x="75" y="0"/>
                  </a:lnTo>
                  <a:lnTo>
                    <a:pt x="205" y="15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658840" y="5305680"/>
              <a:ext cx="132120" cy="698760"/>
            </a:xfrm>
            <a:custGeom>
              <a:avLst/>
              <a:gdLst/>
              <a:ahLst/>
              <a:rect l="l" t="t" r="r" b="b"/>
              <a:pathLst>
                <a:path w="205" h="911">
                  <a:moveTo>
                    <a:pt x="205" y="15"/>
                  </a:moveTo>
                  <a:lnTo>
                    <a:pt x="163" y="247"/>
                  </a:lnTo>
                  <a:lnTo>
                    <a:pt x="132" y="478"/>
                  </a:lnTo>
                  <a:lnTo>
                    <a:pt x="132" y="695"/>
                  </a:lnTo>
                  <a:lnTo>
                    <a:pt x="132" y="911"/>
                  </a:lnTo>
                  <a:lnTo>
                    <a:pt x="13" y="911"/>
                  </a:lnTo>
                  <a:lnTo>
                    <a:pt x="0" y="681"/>
                  </a:lnTo>
                  <a:lnTo>
                    <a:pt x="13" y="462"/>
                  </a:lnTo>
                  <a:lnTo>
                    <a:pt x="13" y="347"/>
                  </a:lnTo>
                  <a:lnTo>
                    <a:pt x="31" y="232"/>
                  </a:lnTo>
                  <a:lnTo>
                    <a:pt x="75" y="0"/>
                  </a:lnTo>
                  <a:lnTo>
                    <a:pt x="205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079960" y="4662000"/>
              <a:ext cx="3251160" cy="1342800"/>
            </a:xfrm>
            <a:custGeom>
              <a:avLst/>
              <a:gdLst/>
              <a:ahLst/>
              <a:rect l="l" t="t" r="r" b="b"/>
              <a:pathLst>
                <a:path w="5077" h="1750">
                  <a:moveTo>
                    <a:pt x="3879" y="1403"/>
                  </a:moveTo>
                  <a:lnTo>
                    <a:pt x="3820" y="1750"/>
                  </a:lnTo>
                  <a:lnTo>
                    <a:pt x="3597" y="1750"/>
                  </a:lnTo>
                  <a:lnTo>
                    <a:pt x="3612" y="1591"/>
                  </a:lnTo>
                  <a:lnTo>
                    <a:pt x="0" y="0"/>
                  </a:lnTo>
                  <a:lnTo>
                    <a:pt x="5077" y="693"/>
                  </a:lnTo>
                  <a:lnTo>
                    <a:pt x="3879" y="140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079960" y="4662000"/>
              <a:ext cx="3251160" cy="1342800"/>
            </a:xfrm>
            <a:custGeom>
              <a:avLst/>
              <a:gdLst/>
              <a:ahLst/>
              <a:rect l="l" t="t" r="r" b="b"/>
              <a:pathLst>
                <a:path w="5077" h="1750">
                  <a:moveTo>
                    <a:pt x="3879" y="1403"/>
                  </a:moveTo>
                  <a:lnTo>
                    <a:pt x="3820" y="1750"/>
                  </a:lnTo>
                  <a:lnTo>
                    <a:pt x="3597" y="1750"/>
                  </a:lnTo>
                  <a:lnTo>
                    <a:pt x="3612" y="1591"/>
                  </a:lnTo>
                  <a:lnTo>
                    <a:pt x="0" y="0"/>
                  </a:lnTo>
                  <a:lnTo>
                    <a:pt x="5077" y="693"/>
                  </a:lnTo>
                  <a:lnTo>
                    <a:pt x="3879" y="140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075160" y="5206320"/>
              <a:ext cx="1280160" cy="798480"/>
            </a:xfrm>
            <a:custGeom>
              <a:avLst/>
              <a:gdLst/>
              <a:ahLst/>
              <a:rect l="l" t="t" r="r" b="b"/>
              <a:pathLst>
                <a:path w="1998" h="1042">
                  <a:moveTo>
                    <a:pt x="962" y="941"/>
                  </a:moveTo>
                  <a:lnTo>
                    <a:pt x="1998" y="898"/>
                  </a:lnTo>
                  <a:lnTo>
                    <a:pt x="1998" y="1042"/>
                  </a:lnTo>
                  <a:lnTo>
                    <a:pt x="0" y="1042"/>
                  </a:lnTo>
                  <a:lnTo>
                    <a:pt x="399" y="0"/>
                  </a:lnTo>
                  <a:lnTo>
                    <a:pt x="962" y="941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075160" y="5206320"/>
              <a:ext cx="1280160" cy="798480"/>
            </a:xfrm>
            <a:custGeom>
              <a:avLst/>
              <a:gdLst/>
              <a:ahLst/>
              <a:rect l="l" t="t" r="r" b="b"/>
              <a:pathLst>
                <a:path w="1998" h="1042">
                  <a:moveTo>
                    <a:pt x="962" y="941"/>
                  </a:moveTo>
                  <a:lnTo>
                    <a:pt x="1998" y="898"/>
                  </a:lnTo>
                  <a:lnTo>
                    <a:pt x="1998" y="1042"/>
                  </a:lnTo>
                  <a:lnTo>
                    <a:pt x="0" y="1042"/>
                  </a:lnTo>
                  <a:lnTo>
                    <a:pt x="399" y="0"/>
                  </a:lnTo>
                  <a:lnTo>
                    <a:pt x="962" y="9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331480" y="2906640"/>
              <a:ext cx="1023840" cy="2444760"/>
            </a:xfrm>
            <a:custGeom>
              <a:avLst/>
              <a:gdLst/>
              <a:ahLst/>
              <a:rect l="l" t="t" r="r" b="b"/>
              <a:pathLst>
                <a:path w="1599" h="3188">
                  <a:moveTo>
                    <a:pt x="1200" y="2274"/>
                  </a:moveTo>
                  <a:lnTo>
                    <a:pt x="1599" y="0"/>
                  </a:lnTo>
                  <a:lnTo>
                    <a:pt x="1599" y="969"/>
                  </a:lnTo>
                  <a:lnTo>
                    <a:pt x="1467" y="2086"/>
                  </a:lnTo>
                  <a:lnTo>
                    <a:pt x="1599" y="2131"/>
                  </a:lnTo>
                  <a:lnTo>
                    <a:pt x="1599" y="3188"/>
                  </a:lnTo>
                  <a:lnTo>
                    <a:pt x="0" y="2969"/>
                  </a:lnTo>
                  <a:lnTo>
                    <a:pt x="1200" y="2274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331480" y="2906640"/>
              <a:ext cx="1023840" cy="2444760"/>
            </a:xfrm>
            <a:custGeom>
              <a:avLst/>
              <a:gdLst/>
              <a:ahLst/>
              <a:rect l="l" t="t" r="r" b="b"/>
              <a:pathLst>
                <a:path w="1599" h="3188">
                  <a:moveTo>
                    <a:pt x="1200" y="2274"/>
                  </a:moveTo>
                  <a:lnTo>
                    <a:pt x="1599" y="0"/>
                  </a:lnTo>
                  <a:lnTo>
                    <a:pt x="1599" y="969"/>
                  </a:lnTo>
                  <a:lnTo>
                    <a:pt x="1467" y="2086"/>
                  </a:lnTo>
                  <a:lnTo>
                    <a:pt x="1599" y="2131"/>
                  </a:lnTo>
                  <a:lnTo>
                    <a:pt x="1599" y="3188"/>
                  </a:lnTo>
                  <a:lnTo>
                    <a:pt x="0" y="2969"/>
                  </a:lnTo>
                  <a:lnTo>
                    <a:pt x="1200" y="2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223600" y="1773720"/>
              <a:ext cx="4132080" cy="3419640"/>
            </a:xfrm>
            <a:custGeom>
              <a:avLst/>
              <a:gdLst/>
              <a:ahLst/>
              <a:rect l="l" t="t" r="r" b="b"/>
              <a:pathLst>
                <a:path w="6454" h="4461">
                  <a:moveTo>
                    <a:pt x="4145" y="3290"/>
                  </a:moveTo>
                  <a:lnTo>
                    <a:pt x="6454" y="0"/>
                  </a:lnTo>
                  <a:lnTo>
                    <a:pt x="6454" y="307"/>
                  </a:lnTo>
                  <a:lnTo>
                    <a:pt x="4855" y="4461"/>
                  </a:lnTo>
                  <a:lnTo>
                    <a:pt x="4308" y="3505"/>
                  </a:lnTo>
                  <a:lnTo>
                    <a:pt x="0" y="3693"/>
                  </a:lnTo>
                  <a:lnTo>
                    <a:pt x="4145" y="3290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223600" y="1773720"/>
              <a:ext cx="4132080" cy="3419640"/>
            </a:xfrm>
            <a:custGeom>
              <a:avLst/>
              <a:gdLst/>
              <a:ahLst/>
              <a:rect l="l" t="t" r="r" b="b"/>
              <a:pathLst>
                <a:path w="6454" h="4461">
                  <a:moveTo>
                    <a:pt x="4145" y="3290"/>
                  </a:moveTo>
                  <a:lnTo>
                    <a:pt x="6454" y="0"/>
                  </a:lnTo>
                  <a:lnTo>
                    <a:pt x="6454" y="307"/>
                  </a:lnTo>
                  <a:lnTo>
                    <a:pt x="4855" y="4461"/>
                  </a:lnTo>
                  <a:lnTo>
                    <a:pt x="4308" y="3505"/>
                  </a:lnTo>
                  <a:lnTo>
                    <a:pt x="0" y="3693"/>
                  </a:lnTo>
                  <a:lnTo>
                    <a:pt x="4145" y="329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829280" y="2762640"/>
              <a:ext cx="644040" cy="212760"/>
            </a:xfrm>
            <a:custGeom>
              <a:avLst/>
              <a:gdLst/>
              <a:ahLst/>
              <a:rect l="l" t="t" r="r" b="b"/>
              <a:pathLst>
                <a:path w="1006" h="276">
                  <a:moveTo>
                    <a:pt x="0" y="161"/>
                  </a:moveTo>
                  <a:lnTo>
                    <a:pt x="251" y="73"/>
                  </a:lnTo>
                  <a:lnTo>
                    <a:pt x="384" y="44"/>
                  </a:lnTo>
                  <a:lnTo>
                    <a:pt x="503" y="0"/>
                  </a:lnTo>
                  <a:lnTo>
                    <a:pt x="1006" y="73"/>
                  </a:lnTo>
                  <a:lnTo>
                    <a:pt x="873" y="276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108200" y="3219480"/>
              <a:ext cx="1061640" cy="300240"/>
            </a:xfrm>
            <a:custGeom>
              <a:avLst/>
              <a:gdLst/>
              <a:ahLst/>
              <a:rect l="l" t="t" r="r" b="b"/>
              <a:pathLst>
                <a:path w="1659" h="391">
                  <a:moveTo>
                    <a:pt x="0" y="188"/>
                  </a:moveTo>
                  <a:lnTo>
                    <a:pt x="269" y="0"/>
                  </a:lnTo>
                  <a:lnTo>
                    <a:pt x="1659" y="188"/>
                  </a:lnTo>
                  <a:lnTo>
                    <a:pt x="1511" y="391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663960" y="3729960"/>
              <a:ext cx="1194480" cy="344520"/>
            </a:xfrm>
            <a:custGeom>
              <a:avLst/>
              <a:gdLst/>
              <a:ahLst/>
              <a:rect l="l" t="t" r="r" b="b"/>
              <a:pathLst>
                <a:path w="1866" h="449">
                  <a:moveTo>
                    <a:pt x="0" y="203"/>
                  </a:moveTo>
                  <a:lnTo>
                    <a:pt x="179" y="0"/>
                  </a:lnTo>
                  <a:lnTo>
                    <a:pt x="1866" y="246"/>
                  </a:lnTo>
                  <a:lnTo>
                    <a:pt x="1732" y="449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426000" y="4272480"/>
              <a:ext cx="48240" cy="11880"/>
            </a:xfrm>
            <a:custGeom>
              <a:avLst/>
              <a:gdLst/>
              <a:ahLst/>
              <a:rect l="l" t="t" r="r" b="b"/>
              <a:pathLst>
                <a:path w="75" h="16">
                  <a:moveTo>
                    <a:pt x="15" y="0"/>
                  </a:moveTo>
                  <a:lnTo>
                    <a:pt x="75" y="16"/>
                  </a:lnTo>
                  <a:lnTo>
                    <a:pt x="0" y="1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c53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10920" y="5405400"/>
              <a:ext cx="538920" cy="254160"/>
            </a:xfrm>
            <a:custGeom>
              <a:avLst/>
              <a:gdLst/>
              <a:ahLst/>
              <a:rect l="l" t="t" r="r" b="b"/>
              <a:pathLst>
                <a:path w="843" h="332">
                  <a:moveTo>
                    <a:pt x="0" y="217"/>
                  </a:moveTo>
                  <a:lnTo>
                    <a:pt x="13" y="102"/>
                  </a:lnTo>
                  <a:lnTo>
                    <a:pt x="42" y="0"/>
                  </a:lnTo>
                  <a:lnTo>
                    <a:pt x="175" y="14"/>
                  </a:lnTo>
                  <a:lnTo>
                    <a:pt x="843" y="332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267080" y="4461120"/>
              <a:ext cx="699120" cy="222480"/>
            </a:xfrm>
            <a:custGeom>
              <a:avLst/>
              <a:gdLst/>
              <a:ahLst/>
              <a:rect l="l" t="t" r="r" b="b"/>
              <a:pathLst>
                <a:path w="1092" h="290">
                  <a:moveTo>
                    <a:pt x="0" y="161"/>
                  </a:moveTo>
                  <a:lnTo>
                    <a:pt x="58" y="0"/>
                  </a:lnTo>
                  <a:lnTo>
                    <a:pt x="1092" y="146"/>
                  </a:lnTo>
                  <a:lnTo>
                    <a:pt x="1035" y="290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c53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999400" y="2308680"/>
              <a:ext cx="2786400" cy="2031120"/>
            </a:xfrm>
            <a:custGeom>
              <a:avLst/>
              <a:gdLst/>
              <a:ahLst/>
              <a:rect l="l" t="t" r="r" b="b"/>
              <a:pathLst>
                <a:path w="4351" h="2650">
                  <a:moveTo>
                    <a:pt x="0" y="2593"/>
                  </a:moveTo>
                  <a:lnTo>
                    <a:pt x="74" y="2447"/>
                  </a:lnTo>
                  <a:lnTo>
                    <a:pt x="165" y="2303"/>
                  </a:lnTo>
                  <a:lnTo>
                    <a:pt x="266" y="2172"/>
                  </a:lnTo>
                  <a:lnTo>
                    <a:pt x="357" y="2040"/>
                  </a:lnTo>
                  <a:lnTo>
                    <a:pt x="564" y="1781"/>
                  </a:lnTo>
                  <a:lnTo>
                    <a:pt x="787" y="1549"/>
                  </a:lnTo>
                  <a:lnTo>
                    <a:pt x="917" y="1433"/>
                  </a:lnTo>
                  <a:lnTo>
                    <a:pt x="1036" y="1316"/>
                  </a:lnTo>
                  <a:lnTo>
                    <a:pt x="1288" y="1101"/>
                  </a:lnTo>
                  <a:lnTo>
                    <a:pt x="1422" y="1000"/>
                  </a:lnTo>
                  <a:lnTo>
                    <a:pt x="1555" y="911"/>
                  </a:lnTo>
                  <a:lnTo>
                    <a:pt x="1835" y="723"/>
                  </a:lnTo>
                  <a:lnTo>
                    <a:pt x="1984" y="652"/>
                  </a:lnTo>
                  <a:lnTo>
                    <a:pt x="2132" y="566"/>
                  </a:lnTo>
                  <a:lnTo>
                    <a:pt x="2428" y="420"/>
                  </a:lnTo>
                  <a:lnTo>
                    <a:pt x="2591" y="360"/>
                  </a:lnTo>
                  <a:lnTo>
                    <a:pt x="2739" y="303"/>
                  </a:lnTo>
                  <a:lnTo>
                    <a:pt x="2902" y="245"/>
                  </a:lnTo>
                  <a:lnTo>
                    <a:pt x="3050" y="188"/>
                  </a:lnTo>
                  <a:lnTo>
                    <a:pt x="3213" y="145"/>
                  </a:lnTo>
                  <a:lnTo>
                    <a:pt x="3376" y="115"/>
                  </a:lnTo>
                  <a:lnTo>
                    <a:pt x="3537" y="71"/>
                  </a:lnTo>
                  <a:lnTo>
                    <a:pt x="3701" y="44"/>
                  </a:lnTo>
                  <a:lnTo>
                    <a:pt x="3864" y="30"/>
                  </a:lnTo>
                  <a:lnTo>
                    <a:pt x="4027" y="13"/>
                  </a:lnTo>
                  <a:lnTo>
                    <a:pt x="4190" y="0"/>
                  </a:lnTo>
                  <a:lnTo>
                    <a:pt x="4351" y="0"/>
                  </a:lnTo>
                  <a:lnTo>
                    <a:pt x="4351" y="115"/>
                  </a:lnTo>
                  <a:lnTo>
                    <a:pt x="4190" y="130"/>
                  </a:lnTo>
                  <a:lnTo>
                    <a:pt x="4027" y="130"/>
                  </a:lnTo>
                  <a:lnTo>
                    <a:pt x="3879" y="145"/>
                  </a:lnTo>
                  <a:lnTo>
                    <a:pt x="3716" y="174"/>
                  </a:lnTo>
                  <a:lnTo>
                    <a:pt x="3553" y="201"/>
                  </a:lnTo>
                  <a:lnTo>
                    <a:pt x="3405" y="232"/>
                  </a:lnTo>
                  <a:lnTo>
                    <a:pt x="3094" y="318"/>
                  </a:lnTo>
                  <a:lnTo>
                    <a:pt x="2931" y="360"/>
                  </a:lnTo>
                  <a:lnTo>
                    <a:pt x="2783" y="420"/>
                  </a:lnTo>
                  <a:lnTo>
                    <a:pt x="2487" y="535"/>
                  </a:lnTo>
                  <a:lnTo>
                    <a:pt x="2340" y="608"/>
                  </a:lnTo>
                  <a:lnTo>
                    <a:pt x="2192" y="681"/>
                  </a:lnTo>
                  <a:lnTo>
                    <a:pt x="2044" y="754"/>
                  </a:lnTo>
                  <a:lnTo>
                    <a:pt x="1910" y="838"/>
                  </a:lnTo>
                  <a:lnTo>
                    <a:pt x="1762" y="911"/>
                  </a:lnTo>
                  <a:lnTo>
                    <a:pt x="1627" y="1013"/>
                  </a:lnTo>
                  <a:lnTo>
                    <a:pt x="1363" y="1201"/>
                  </a:lnTo>
                  <a:lnTo>
                    <a:pt x="1244" y="1303"/>
                  </a:lnTo>
                  <a:lnTo>
                    <a:pt x="1126" y="1405"/>
                  </a:lnTo>
                  <a:lnTo>
                    <a:pt x="888" y="1622"/>
                  </a:lnTo>
                  <a:lnTo>
                    <a:pt x="769" y="1737"/>
                  </a:lnTo>
                  <a:lnTo>
                    <a:pt x="666" y="1867"/>
                  </a:lnTo>
                  <a:lnTo>
                    <a:pt x="564" y="1982"/>
                  </a:lnTo>
                  <a:lnTo>
                    <a:pt x="460" y="2115"/>
                  </a:lnTo>
                  <a:lnTo>
                    <a:pt x="370" y="2245"/>
                  </a:lnTo>
                  <a:lnTo>
                    <a:pt x="266" y="2374"/>
                  </a:lnTo>
                  <a:lnTo>
                    <a:pt x="103" y="2650"/>
                  </a:lnTo>
                  <a:lnTo>
                    <a:pt x="0" y="259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658840" y="5305680"/>
              <a:ext cx="132120" cy="698760"/>
            </a:xfrm>
            <a:custGeom>
              <a:avLst/>
              <a:gdLst/>
              <a:ahLst/>
              <a:rect l="l" t="t" r="r" b="b"/>
              <a:pathLst>
                <a:path w="205" h="911">
                  <a:moveTo>
                    <a:pt x="205" y="15"/>
                  </a:moveTo>
                  <a:lnTo>
                    <a:pt x="163" y="247"/>
                  </a:lnTo>
                  <a:lnTo>
                    <a:pt x="132" y="478"/>
                  </a:lnTo>
                  <a:lnTo>
                    <a:pt x="132" y="695"/>
                  </a:lnTo>
                  <a:lnTo>
                    <a:pt x="132" y="911"/>
                  </a:lnTo>
                  <a:lnTo>
                    <a:pt x="13" y="911"/>
                  </a:lnTo>
                  <a:lnTo>
                    <a:pt x="0" y="681"/>
                  </a:lnTo>
                  <a:lnTo>
                    <a:pt x="13" y="462"/>
                  </a:lnTo>
                  <a:lnTo>
                    <a:pt x="13" y="347"/>
                  </a:lnTo>
                  <a:lnTo>
                    <a:pt x="31" y="232"/>
                  </a:lnTo>
                  <a:lnTo>
                    <a:pt x="75" y="0"/>
                  </a:lnTo>
                  <a:lnTo>
                    <a:pt x="205" y="15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658840" y="5305680"/>
              <a:ext cx="132120" cy="698760"/>
            </a:xfrm>
            <a:custGeom>
              <a:avLst/>
              <a:gdLst/>
              <a:ahLst/>
              <a:rect l="l" t="t" r="r" b="b"/>
              <a:pathLst>
                <a:path w="205" h="911">
                  <a:moveTo>
                    <a:pt x="205" y="15"/>
                  </a:moveTo>
                  <a:lnTo>
                    <a:pt x="163" y="247"/>
                  </a:lnTo>
                  <a:lnTo>
                    <a:pt x="132" y="478"/>
                  </a:lnTo>
                  <a:lnTo>
                    <a:pt x="132" y="695"/>
                  </a:lnTo>
                  <a:lnTo>
                    <a:pt x="132" y="911"/>
                  </a:lnTo>
                  <a:lnTo>
                    <a:pt x="13" y="911"/>
                  </a:lnTo>
                  <a:lnTo>
                    <a:pt x="0" y="681"/>
                  </a:lnTo>
                  <a:lnTo>
                    <a:pt x="13" y="462"/>
                  </a:lnTo>
                  <a:lnTo>
                    <a:pt x="13" y="347"/>
                  </a:lnTo>
                  <a:lnTo>
                    <a:pt x="31" y="232"/>
                  </a:lnTo>
                  <a:lnTo>
                    <a:pt x="75" y="0"/>
                  </a:lnTo>
                  <a:lnTo>
                    <a:pt x="205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079960" y="4662000"/>
              <a:ext cx="3251160" cy="1342800"/>
            </a:xfrm>
            <a:custGeom>
              <a:avLst/>
              <a:gdLst/>
              <a:ahLst/>
              <a:rect l="l" t="t" r="r" b="b"/>
              <a:pathLst>
                <a:path w="5077" h="1750">
                  <a:moveTo>
                    <a:pt x="3879" y="1403"/>
                  </a:moveTo>
                  <a:lnTo>
                    <a:pt x="3820" y="1750"/>
                  </a:lnTo>
                  <a:lnTo>
                    <a:pt x="3597" y="1750"/>
                  </a:lnTo>
                  <a:lnTo>
                    <a:pt x="3612" y="1591"/>
                  </a:lnTo>
                  <a:lnTo>
                    <a:pt x="0" y="0"/>
                  </a:lnTo>
                  <a:lnTo>
                    <a:pt x="5077" y="693"/>
                  </a:lnTo>
                  <a:lnTo>
                    <a:pt x="3879" y="140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079960" y="4662000"/>
              <a:ext cx="3251160" cy="1342800"/>
            </a:xfrm>
            <a:custGeom>
              <a:avLst/>
              <a:gdLst/>
              <a:ahLst/>
              <a:rect l="l" t="t" r="r" b="b"/>
              <a:pathLst>
                <a:path w="5077" h="1750">
                  <a:moveTo>
                    <a:pt x="3879" y="1403"/>
                  </a:moveTo>
                  <a:lnTo>
                    <a:pt x="3820" y="1750"/>
                  </a:lnTo>
                  <a:lnTo>
                    <a:pt x="3597" y="1750"/>
                  </a:lnTo>
                  <a:lnTo>
                    <a:pt x="3612" y="1591"/>
                  </a:lnTo>
                  <a:lnTo>
                    <a:pt x="0" y="0"/>
                  </a:lnTo>
                  <a:lnTo>
                    <a:pt x="5077" y="693"/>
                  </a:lnTo>
                  <a:lnTo>
                    <a:pt x="3879" y="140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075160" y="5206320"/>
              <a:ext cx="1280160" cy="798480"/>
            </a:xfrm>
            <a:custGeom>
              <a:avLst/>
              <a:gdLst/>
              <a:ahLst/>
              <a:rect l="l" t="t" r="r" b="b"/>
              <a:pathLst>
                <a:path w="1998" h="1042">
                  <a:moveTo>
                    <a:pt x="962" y="941"/>
                  </a:moveTo>
                  <a:lnTo>
                    <a:pt x="1998" y="898"/>
                  </a:lnTo>
                  <a:lnTo>
                    <a:pt x="1998" y="1042"/>
                  </a:lnTo>
                  <a:lnTo>
                    <a:pt x="0" y="1042"/>
                  </a:lnTo>
                  <a:lnTo>
                    <a:pt x="399" y="0"/>
                  </a:lnTo>
                  <a:lnTo>
                    <a:pt x="962" y="941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075160" y="5206320"/>
              <a:ext cx="1280160" cy="798480"/>
            </a:xfrm>
            <a:custGeom>
              <a:avLst/>
              <a:gdLst/>
              <a:ahLst/>
              <a:rect l="l" t="t" r="r" b="b"/>
              <a:pathLst>
                <a:path w="1998" h="1042">
                  <a:moveTo>
                    <a:pt x="962" y="941"/>
                  </a:moveTo>
                  <a:lnTo>
                    <a:pt x="1998" y="898"/>
                  </a:lnTo>
                  <a:lnTo>
                    <a:pt x="1998" y="1042"/>
                  </a:lnTo>
                  <a:lnTo>
                    <a:pt x="0" y="1042"/>
                  </a:lnTo>
                  <a:lnTo>
                    <a:pt x="399" y="0"/>
                  </a:lnTo>
                  <a:lnTo>
                    <a:pt x="962" y="9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331480" y="2906640"/>
              <a:ext cx="1023840" cy="2444760"/>
            </a:xfrm>
            <a:custGeom>
              <a:avLst/>
              <a:gdLst/>
              <a:ahLst/>
              <a:rect l="l" t="t" r="r" b="b"/>
              <a:pathLst>
                <a:path w="1599" h="3188">
                  <a:moveTo>
                    <a:pt x="1200" y="2274"/>
                  </a:moveTo>
                  <a:lnTo>
                    <a:pt x="1599" y="0"/>
                  </a:lnTo>
                  <a:lnTo>
                    <a:pt x="1599" y="969"/>
                  </a:lnTo>
                  <a:lnTo>
                    <a:pt x="1467" y="2086"/>
                  </a:lnTo>
                  <a:lnTo>
                    <a:pt x="1599" y="2131"/>
                  </a:lnTo>
                  <a:lnTo>
                    <a:pt x="1599" y="3188"/>
                  </a:lnTo>
                  <a:lnTo>
                    <a:pt x="0" y="2969"/>
                  </a:lnTo>
                  <a:lnTo>
                    <a:pt x="1200" y="2274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331480" y="2906640"/>
              <a:ext cx="1023840" cy="2444760"/>
            </a:xfrm>
            <a:custGeom>
              <a:avLst/>
              <a:gdLst/>
              <a:ahLst/>
              <a:rect l="l" t="t" r="r" b="b"/>
              <a:pathLst>
                <a:path w="1599" h="3188">
                  <a:moveTo>
                    <a:pt x="1200" y="2274"/>
                  </a:moveTo>
                  <a:lnTo>
                    <a:pt x="1599" y="0"/>
                  </a:lnTo>
                  <a:lnTo>
                    <a:pt x="1599" y="969"/>
                  </a:lnTo>
                  <a:lnTo>
                    <a:pt x="1467" y="2086"/>
                  </a:lnTo>
                  <a:lnTo>
                    <a:pt x="1599" y="2131"/>
                  </a:lnTo>
                  <a:lnTo>
                    <a:pt x="1599" y="3188"/>
                  </a:lnTo>
                  <a:lnTo>
                    <a:pt x="0" y="2969"/>
                  </a:lnTo>
                  <a:lnTo>
                    <a:pt x="1200" y="2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223600" y="1773720"/>
              <a:ext cx="4132080" cy="3419640"/>
            </a:xfrm>
            <a:custGeom>
              <a:avLst/>
              <a:gdLst/>
              <a:ahLst/>
              <a:rect l="l" t="t" r="r" b="b"/>
              <a:pathLst>
                <a:path w="6454" h="4461">
                  <a:moveTo>
                    <a:pt x="4145" y="3290"/>
                  </a:moveTo>
                  <a:lnTo>
                    <a:pt x="6454" y="0"/>
                  </a:lnTo>
                  <a:lnTo>
                    <a:pt x="6454" y="307"/>
                  </a:lnTo>
                  <a:lnTo>
                    <a:pt x="4855" y="4461"/>
                  </a:lnTo>
                  <a:lnTo>
                    <a:pt x="4308" y="3505"/>
                  </a:lnTo>
                  <a:lnTo>
                    <a:pt x="0" y="3693"/>
                  </a:lnTo>
                  <a:lnTo>
                    <a:pt x="4145" y="3290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223600" y="1773720"/>
              <a:ext cx="4132080" cy="3419640"/>
            </a:xfrm>
            <a:custGeom>
              <a:avLst/>
              <a:gdLst/>
              <a:ahLst/>
              <a:rect l="l" t="t" r="r" b="b"/>
              <a:pathLst>
                <a:path w="6454" h="4461">
                  <a:moveTo>
                    <a:pt x="4145" y="3290"/>
                  </a:moveTo>
                  <a:lnTo>
                    <a:pt x="6454" y="0"/>
                  </a:lnTo>
                  <a:lnTo>
                    <a:pt x="6454" y="307"/>
                  </a:lnTo>
                  <a:lnTo>
                    <a:pt x="4855" y="4461"/>
                  </a:lnTo>
                  <a:lnTo>
                    <a:pt x="4308" y="3505"/>
                  </a:lnTo>
                  <a:lnTo>
                    <a:pt x="0" y="3693"/>
                  </a:lnTo>
                  <a:lnTo>
                    <a:pt x="4145" y="329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829280" y="2762640"/>
              <a:ext cx="644040" cy="212760"/>
            </a:xfrm>
            <a:custGeom>
              <a:avLst/>
              <a:gdLst/>
              <a:ahLst/>
              <a:rect l="l" t="t" r="r" b="b"/>
              <a:pathLst>
                <a:path w="1006" h="276">
                  <a:moveTo>
                    <a:pt x="0" y="161"/>
                  </a:moveTo>
                  <a:lnTo>
                    <a:pt x="251" y="73"/>
                  </a:lnTo>
                  <a:lnTo>
                    <a:pt x="384" y="44"/>
                  </a:lnTo>
                  <a:lnTo>
                    <a:pt x="503" y="0"/>
                  </a:lnTo>
                  <a:lnTo>
                    <a:pt x="1006" y="73"/>
                  </a:lnTo>
                  <a:lnTo>
                    <a:pt x="873" y="276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108200" y="3219480"/>
              <a:ext cx="1061640" cy="300240"/>
            </a:xfrm>
            <a:custGeom>
              <a:avLst/>
              <a:gdLst/>
              <a:ahLst/>
              <a:rect l="l" t="t" r="r" b="b"/>
              <a:pathLst>
                <a:path w="1659" h="391">
                  <a:moveTo>
                    <a:pt x="0" y="188"/>
                  </a:moveTo>
                  <a:lnTo>
                    <a:pt x="269" y="0"/>
                  </a:lnTo>
                  <a:lnTo>
                    <a:pt x="1659" y="188"/>
                  </a:lnTo>
                  <a:lnTo>
                    <a:pt x="1511" y="391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663960" y="3729960"/>
              <a:ext cx="1194480" cy="344520"/>
            </a:xfrm>
            <a:custGeom>
              <a:avLst/>
              <a:gdLst/>
              <a:ahLst/>
              <a:rect l="l" t="t" r="r" b="b"/>
              <a:pathLst>
                <a:path w="1866" h="449">
                  <a:moveTo>
                    <a:pt x="0" y="203"/>
                  </a:moveTo>
                  <a:lnTo>
                    <a:pt x="179" y="0"/>
                  </a:lnTo>
                  <a:lnTo>
                    <a:pt x="1866" y="246"/>
                  </a:lnTo>
                  <a:lnTo>
                    <a:pt x="1732" y="449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426000" y="4272480"/>
              <a:ext cx="48240" cy="11880"/>
            </a:xfrm>
            <a:custGeom>
              <a:avLst/>
              <a:gdLst/>
              <a:ahLst/>
              <a:rect l="l" t="t" r="r" b="b"/>
              <a:pathLst>
                <a:path w="75" h="16">
                  <a:moveTo>
                    <a:pt x="15" y="0"/>
                  </a:moveTo>
                  <a:lnTo>
                    <a:pt x="75" y="16"/>
                  </a:lnTo>
                  <a:lnTo>
                    <a:pt x="0" y="1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c53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010920" y="5405400"/>
              <a:ext cx="538920" cy="254160"/>
            </a:xfrm>
            <a:custGeom>
              <a:avLst/>
              <a:gdLst/>
              <a:ahLst/>
              <a:rect l="l" t="t" r="r" b="b"/>
              <a:pathLst>
                <a:path w="843" h="332">
                  <a:moveTo>
                    <a:pt x="0" y="217"/>
                  </a:moveTo>
                  <a:lnTo>
                    <a:pt x="13" y="102"/>
                  </a:lnTo>
                  <a:lnTo>
                    <a:pt x="42" y="0"/>
                  </a:lnTo>
                  <a:lnTo>
                    <a:pt x="175" y="14"/>
                  </a:lnTo>
                  <a:lnTo>
                    <a:pt x="843" y="332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267080" y="4461120"/>
              <a:ext cx="699120" cy="222480"/>
            </a:xfrm>
            <a:custGeom>
              <a:avLst/>
              <a:gdLst/>
              <a:ahLst/>
              <a:rect l="l" t="t" r="r" b="b"/>
              <a:pathLst>
                <a:path w="1092" h="290">
                  <a:moveTo>
                    <a:pt x="0" y="161"/>
                  </a:moveTo>
                  <a:lnTo>
                    <a:pt x="58" y="0"/>
                  </a:lnTo>
                  <a:lnTo>
                    <a:pt x="1092" y="146"/>
                  </a:lnTo>
                  <a:lnTo>
                    <a:pt x="1035" y="290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c53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3505320" y="64008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ManTech Propriet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066680" y="1447920"/>
            <a:ext cx="777240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394240" y="750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38080" y="762120"/>
            <a:ext cx="6553440" cy="62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Proposal Gen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We would like to assume that all three RFP will be very similar to the NTM-I proposal Marv managed in 2006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However we would be remiss in not planning for major devi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Especially considering the RFP’s will be released by two different organizations (NAMSA- Kosovo and NC3A- KAF &amp; JCC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Even if all three of these are very similar but  we are required to present the candidates with each proposal  (53, 37, &amp; 95)– will mandate large efforts for each opport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We will use our internal SME’s (Ron Vanleishout and Clint Barn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4267080" y="1773720"/>
            <a:ext cx="5088600" cy="4231080"/>
            <a:chOff x="4267080" y="1773720"/>
            <a:chExt cx="5088600" cy="4231080"/>
          </a:xfrm>
        </p:grpSpPr>
        <p:sp>
          <p:nvSpPr>
            <p:cNvPr id="328" name=""/>
            <p:cNvSpPr/>
            <p:nvPr/>
          </p:nvSpPr>
          <p:spPr>
            <a:xfrm>
              <a:off x="5999400" y="2308680"/>
              <a:ext cx="2786400" cy="2031120"/>
            </a:xfrm>
            <a:custGeom>
              <a:avLst/>
              <a:gdLst/>
              <a:ahLst/>
              <a:rect l="l" t="t" r="r" b="b"/>
              <a:pathLst>
                <a:path w="4351" h="2650">
                  <a:moveTo>
                    <a:pt x="0" y="2593"/>
                  </a:moveTo>
                  <a:lnTo>
                    <a:pt x="74" y="2447"/>
                  </a:lnTo>
                  <a:lnTo>
                    <a:pt x="165" y="2303"/>
                  </a:lnTo>
                  <a:lnTo>
                    <a:pt x="266" y="2172"/>
                  </a:lnTo>
                  <a:lnTo>
                    <a:pt x="357" y="2040"/>
                  </a:lnTo>
                  <a:lnTo>
                    <a:pt x="564" y="1781"/>
                  </a:lnTo>
                  <a:lnTo>
                    <a:pt x="787" y="1549"/>
                  </a:lnTo>
                  <a:lnTo>
                    <a:pt x="917" y="1433"/>
                  </a:lnTo>
                  <a:lnTo>
                    <a:pt x="1036" y="1316"/>
                  </a:lnTo>
                  <a:lnTo>
                    <a:pt x="1288" y="1101"/>
                  </a:lnTo>
                  <a:lnTo>
                    <a:pt x="1422" y="1000"/>
                  </a:lnTo>
                  <a:lnTo>
                    <a:pt x="1555" y="911"/>
                  </a:lnTo>
                  <a:lnTo>
                    <a:pt x="1835" y="723"/>
                  </a:lnTo>
                  <a:lnTo>
                    <a:pt x="1984" y="652"/>
                  </a:lnTo>
                  <a:lnTo>
                    <a:pt x="2132" y="566"/>
                  </a:lnTo>
                  <a:lnTo>
                    <a:pt x="2428" y="420"/>
                  </a:lnTo>
                  <a:lnTo>
                    <a:pt x="2591" y="360"/>
                  </a:lnTo>
                  <a:lnTo>
                    <a:pt x="2739" y="303"/>
                  </a:lnTo>
                  <a:lnTo>
                    <a:pt x="2902" y="245"/>
                  </a:lnTo>
                  <a:lnTo>
                    <a:pt x="3050" y="188"/>
                  </a:lnTo>
                  <a:lnTo>
                    <a:pt x="3213" y="145"/>
                  </a:lnTo>
                  <a:lnTo>
                    <a:pt x="3376" y="115"/>
                  </a:lnTo>
                  <a:lnTo>
                    <a:pt x="3537" y="71"/>
                  </a:lnTo>
                  <a:lnTo>
                    <a:pt x="3701" y="44"/>
                  </a:lnTo>
                  <a:lnTo>
                    <a:pt x="3864" y="30"/>
                  </a:lnTo>
                  <a:lnTo>
                    <a:pt x="4027" y="13"/>
                  </a:lnTo>
                  <a:lnTo>
                    <a:pt x="4190" y="0"/>
                  </a:lnTo>
                  <a:lnTo>
                    <a:pt x="4351" y="0"/>
                  </a:lnTo>
                  <a:lnTo>
                    <a:pt x="4351" y="115"/>
                  </a:lnTo>
                  <a:lnTo>
                    <a:pt x="4190" y="130"/>
                  </a:lnTo>
                  <a:lnTo>
                    <a:pt x="4027" y="130"/>
                  </a:lnTo>
                  <a:lnTo>
                    <a:pt x="3879" y="145"/>
                  </a:lnTo>
                  <a:lnTo>
                    <a:pt x="3716" y="174"/>
                  </a:lnTo>
                  <a:lnTo>
                    <a:pt x="3553" y="201"/>
                  </a:lnTo>
                  <a:lnTo>
                    <a:pt x="3405" y="232"/>
                  </a:lnTo>
                  <a:lnTo>
                    <a:pt x="3094" y="318"/>
                  </a:lnTo>
                  <a:lnTo>
                    <a:pt x="2931" y="360"/>
                  </a:lnTo>
                  <a:lnTo>
                    <a:pt x="2783" y="420"/>
                  </a:lnTo>
                  <a:lnTo>
                    <a:pt x="2487" y="535"/>
                  </a:lnTo>
                  <a:lnTo>
                    <a:pt x="2340" y="608"/>
                  </a:lnTo>
                  <a:lnTo>
                    <a:pt x="2192" y="681"/>
                  </a:lnTo>
                  <a:lnTo>
                    <a:pt x="2044" y="754"/>
                  </a:lnTo>
                  <a:lnTo>
                    <a:pt x="1910" y="838"/>
                  </a:lnTo>
                  <a:lnTo>
                    <a:pt x="1762" y="911"/>
                  </a:lnTo>
                  <a:lnTo>
                    <a:pt x="1627" y="1013"/>
                  </a:lnTo>
                  <a:lnTo>
                    <a:pt x="1363" y="1201"/>
                  </a:lnTo>
                  <a:lnTo>
                    <a:pt x="1244" y="1303"/>
                  </a:lnTo>
                  <a:lnTo>
                    <a:pt x="1126" y="1405"/>
                  </a:lnTo>
                  <a:lnTo>
                    <a:pt x="888" y="1622"/>
                  </a:lnTo>
                  <a:lnTo>
                    <a:pt x="769" y="1737"/>
                  </a:lnTo>
                  <a:lnTo>
                    <a:pt x="666" y="1867"/>
                  </a:lnTo>
                  <a:lnTo>
                    <a:pt x="564" y="1982"/>
                  </a:lnTo>
                  <a:lnTo>
                    <a:pt x="460" y="2115"/>
                  </a:lnTo>
                  <a:lnTo>
                    <a:pt x="370" y="2245"/>
                  </a:lnTo>
                  <a:lnTo>
                    <a:pt x="266" y="2374"/>
                  </a:lnTo>
                  <a:lnTo>
                    <a:pt x="103" y="2650"/>
                  </a:lnTo>
                  <a:lnTo>
                    <a:pt x="0" y="259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658840" y="5305680"/>
              <a:ext cx="132120" cy="698760"/>
            </a:xfrm>
            <a:custGeom>
              <a:avLst/>
              <a:gdLst/>
              <a:ahLst/>
              <a:rect l="l" t="t" r="r" b="b"/>
              <a:pathLst>
                <a:path w="205" h="911">
                  <a:moveTo>
                    <a:pt x="205" y="15"/>
                  </a:moveTo>
                  <a:lnTo>
                    <a:pt x="163" y="247"/>
                  </a:lnTo>
                  <a:lnTo>
                    <a:pt x="132" y="478"/>
                  </a:lnTo>
                  <a:lnTo>
                    <a:pt x="132" y="695"/>
                  </a:lnTo>
                  <a:lnTo>
                    <a:pt x="132" y="911"/>
                  </a:lnTo>
                  <a:lnTo>
                    <a:pt x="13" y="911"/>
                  </a:lnTo>
                  <a:lnTo>
                    <a:pt x="0" y="681"/>
                  </a:lnTo>
                  <a:lnTo>
                    <a:pt x="13" y="462"/>
                  </a:lnTo>
                  <a:lnTo>
                    <a:pt x="13" y="347"/>
                  </a:lnTo>
                  <a:lnTo>
                    <a:pt x="31" y="232"/>
                  </a:lnTo>
                  <a:lnTo>
                    <a:pt x="75" y="0"/>
                  </a:lnTo>
                  <a:lnTo>
                    <a:pt x="205" y="15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658840" y="5305680"/>
              <a:ext cx="132120" cy="698760"/>
            </a:xfrm>
            <a:custGeom>
              <a:avLst/>
              <a:gdLst/>
              <a:ahLst/>
              <a:rect l="l" t="t" r="r" b="b"/>
              <a:pathLst>
                <a:path w="205" h="911">
                  <a:moveTo>
                    <a:pt x="205" y="15"/>
                  </a:moveTo>
                  <a:lnTo>
                    <a:pt x="163" y="247"/>
                  </a:lnTo>
                  <a:lnTo>
                    <a:pt x="132" y="478"/>
                  </a:lnTo>
                  <a:lnTo>
                    <a:pt x="132" y="695"/>
                  </a:lnTo>
                  <a:lnTo>
                    <a:pt x="132" y="911"/>
                  </a:lnTo>
                  <a:lnTo>
                    <a:pt x="13" y="911"/>
                  </a:lnTo>
                  <a:lnTo>
                    <a:pt x="0" y="681"/>
                  </a:lnTo>
                  <a:lnTo>
                    <a:pt x="13" y="462"/>
                  </a:lnTo>
                  <a:lnTo>
                    <a:pt x="13" y="347"/>
                  </a:lnTo>
                  <a:lnTo>
                    <a:pt x="31" y="232"/>
                  </a:lnTo>
                  <a:lnTo>
                    <a:pt x="75" y="0"/>
                  </a:lnTo>
                  <a:lnTo>
                    <a:pt x="205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079960" y="4662000"/>
              <a:ext cx="3251160" cy="1342800"/>
            </a:xfrm>
            <a:custGeom>
              <a:avLst/>
              <a:gdLst/>
              <a:ahLst/>
              <a:rect l="l" t="t" r="r" b="b"/>
              <a:pathLst>
                <a:path w="5077" h="1750">
                  <a:moveTo>
                    <a:pt x="3879" y="1403"/>
                  </a:moveTo>
                  <a:lnTo>
                    <a:pt x="3820" y="1750"/>
                  </a:lnTo>
                  <a:lnTo>
                    <a:pt x="3597" y="1750"/>
                  </a:lnTo>
                  <a:lnTo>
                    <a:pt x="3612" y="1591"/>
                  </a:lnTo>
                  <a:lnTo>
                    <a:pt x="0" y="0"/>
                  </a:lnTo>
                  <a:lnTo>
                    <a:pt x="5077" y="693"/>
                  </a:lnTo>
                  <a:lnTo>
                    <a:pt x="3879" y="140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079960" y="4662000"/>
              <a:ext cx="3251160" cy="1342800"/>
            </a:xfrm>
            <a:custGeom>
              <a:avLst/>
              <a:gdLst/>
              <a:ahLst/>
              <a:rect l="l" t="t" r="r" b="b"/>
              <a:pathLst>
                <a:path w="5077" h="1750">
                  <a:moveTo>
                    <a:pt x="3879" y="1403"/>
                  </a:moveTo>
                  <a:lnTo>
                    <a:pt x="3820" y="1750"/>
                  </a:lnTo>
                  <a:lnTo>
                    <a:pt x="3597" y="1750"/>
                  </a:lnTo>
                  <a:lnTo>
                    <a:pt x="3612" y="1591"/>
                  </a:lnTo>
                  <a:lnTo>
                    <a:pt x="0" y="0"/>
                  </a:lnTo>
                  <a:lnTo>
                    <a:pt x="5077" y="693"/>
                  </a:lnTo>
                  <a:lnTo>
                    <a:pt x="3879" y="140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075160" y="5206320"/>
              <a:ext cx="1280160" cy="798480"/>
            </a:xfrm>
            <a:custGeom>
              <a:avLst/>
              <a:gdLst/>
              <a:ahLst/>
              <a:rect l="l" t="t" r="r" b="b"/>
              <a:pathLst>
                <a:path w="1998" h="1042">
                  <a:moveTo>
                    <a:pt x="962" y="941"/>
                  </a:moveTo>
                  <a:lnTo>
                    <a:pt x="1998" y="898"/>
                  </a:lnTo>
                  <a:lnTo>
                    <a:pt x="1998" y="1042"/>
                  </a:lnTo>
                  <a:lnTo>
                    <a:pt x="0" y="1042"/>
                  </a:lnTo>
                  <a:lnTo>
                    <a:pt x="399" y="0"/>
                  </a:lnTo>
                  <a:lnTo>
                    <a:pt x="962" y="941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075160" y="5206320"/>
              <a:ext cx="1280160" cy="798480"/>
            </a:xfrm>
            <a:custGeom>
              <a:avLst/>
              <a:gdLst/>
              <a:ahLst/>
              <a:rect l="l" t="t" r="r" b="b"/>
              <a:pathLst>
                <a:path w="1998" h="1042">
                  <a:moveTo>
                    <a:pt x="962" y="941"/>
                  </a:moveTo>
                  <a:lnTo>
                    <a:pt x="1998" y="898"/>
                  </a:lnTo>
                  <a:lnTo>
                    <a:pt x="1998" y="1042"/>
                  </a:lnTo>
                  <a:lnTo>
                    <a:pt x="0" y="1042"/>
                  </a:lnTo>
                  <a:lnTo>
                    <a:pt x="399" y="0"/>
                  </a:lnTo>
                  <a:lnTo>
                    <a:pt x="962" y="9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331480" y="2906640"/>
              <a:ext cx="1023840" cy="2444760"/>
            </a:xfrm>
            <a:custGeom>
              <a:avLst/>
              <a:gdLst/>
              <a:ahLst/>
              <a:rect l="l" t="t" r="r" b="b"/>
              <a:pathLst>
                <a:path w="1599" h="3188">
                  <a:moveTo>
                    <a:pt x="1200" y="2274"/>
                  </a:moveTo>
                  <a:lnTo>
                    <a:pt x="1599" y="0"/>
                  </a:lnTo>
                  <a:lnTo>
                    <a:pt x="1599" y="969"/>
                  </a:lnTo>
                  <a:lnTo>
                    <a:pt x="1467" y="2086"/>
                  </a:lnTo>
                  <a:lnTo>
                    <a:pt x="1599" y="2131"/>
                  </a:lnTo>
                  <a:lnTo>
                    <a:pt x="1599" y="3188"/>
                  </a:lnTo>
                  <a:lnTo>
                    <a:pt x="0" y="2969"/>
                  </a:lnTo>
                  <a:lnTo>
                    <a:pt x="1200" y="2274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331480" y="2906640"/>
              <a:ext cx="1023840" cy="2444760"/>
            </a:xfrm>
            <a:custGeom>
              <a:avLst/>
              <a:gdLst/>
              <a:ahLst/>
              <a:rect l="l" t="t" r="r" b="b"/>
              <a:pathLst>
                <a:path w="1599" h="3188">
                  <a:moveTo>
                    <a:pt x="1200" y="2274"/>
                  </a:moveTo>
                  <a:lnTo>
                    <a:pt x="1599" y="0"/>
                  </a:lnTo>
                  <a:lnTo>
                    <a:pt x="1599" y="969"/>
                  </a:lnTo>
                  <a:lnTo>
                    <a:pt x="1467" y="2086"/>
                  </a:lnTo>
                  <a:lnTo>
                    <a:pt x="1599" y="2131"/>
                  </a:lnTo>
                  <a:lnTo>
                    <a:pt x="1599" y="3188"/>
                  </a:lnTo>
                  <a:lnTo>
                    <a:pt x="0" y="2969"/>
                  </a:lnTo>
                  <a:lnTo>
                    <a:pt x="1200" y="2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223600" y="1773720"/>
              <a:ext cx="4132080" cy="3419640"/>
            </a:xfrm>
            <a:custGeom>
              <a:avLst/>
              <a:gdLst/>
              <a:ahLst/>
              <a:rect l="l" t="t" r="r" b="b"/>
              <a:pathLst>
                <a:path w="6454" h="4461">
                  <a:moveTo>
                    <a:pt x="4145" y="3290"/>
                  </a:moveTo>
                  <a:lnTo>
                    <a:pt x="6454" y="0"/>
                  </a:lnTo>
                  <a:lnTo>
                    <a:pt x="6454" y="307"/>
                  </a:lnTo>
                  <a:lnTo>
                    <a:pt x="4855" y="4461"/>
                  </a:lnTo>
                  <a:lnTo>
                    <a:pt x="4308" y="3505"/>
                  </a:lnTo>
                  <a:lnTo>
                    <a:pt x="0" y="3693"/>
                  </a:lnTo>
                  <a:lnTo>
                    <a:pt x="4145" y="3290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223600" y="1773720"/>
              <a:ext cx="4132080" cy="3419640"/>
            </a:xfrm>
            <a:custGeom>
              <a:avLst/>
              <a:gdLst/>
              <a:ahLst/>
              <a:rect l="l" t="t" r="r" b="b"/>
              <a:pathLst>
                <a:path w="6454" h="4461">
                  <a:moveTo>
                    <a:pt x="4145" y="3290"/>
                  </a:moveTo>
                  <a:lnTo>
                    <a:pt x="6454" y="0"/>
                  </a:lnTo>
                  <a:lnTo>
                    <a:pt x="6454" y="307"/>
                  </a:lnTo>
                  <a:lnTo>
                    <a:pt x="4855" y="4461"/>
                  </a:lnTo>
                  <a:lnTo>
                    <a:pt x="4308" y="3505"/>
                  </a:lnTo>
                  <a:lnTo>
                    <a:pt x="0" y="3693"/>
                  </a:lnTo>
                  <a:lnTo>
                    <a:pt x="4145" y="329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829280" y="2762640"/>
              <a:ext cx="644040" cy="212760"/>
            </a:xfrm>
            <a:custGeom>
              <a:avLst/>
              <a:gdLst/>
              <a:ahLst/>
              <a:rect l="l" t="t" r="r" b="b"/>
              <a:pathLst>
                <a:path w="1006" h="276">
                  <a:moveTo>
                    <a:pt x="0" y="161"/>
                  </a:moveTo>
                  <a:lnTo>
                    <a:pt x="251" y="73"/>
                  </a:lnTo>
                  <a:lnTo>
                    <a:pt x="384" y="44"/>
                  </a:lnTo>
                  <a:lnTo>
                    <a:pt x="503" y="0"/>
                  </a:lnTo>
                  <a:lnTo>
                    <a:pt x="1006" y="73"/>
                  </a:lnTo>
                  <a:lnTo>
                    <a:pt x="873" y="276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108200" y="3219480"/>
              <a:ext cx="1061640" cy="300240"/>
            </a:xfrm>
            <a:custGeom>
              <a:avLst/>
              <a:gdLst/>
              <a:ahLst/>
              <a:rect l="l" t="t" r="r" b="b"/>
              <a:pathLst>
                <a:path w="1659" h="391">
                  <a:moveTo>
                    <a:pt x="0" y="188"/>
                  </a:moveTo>
                  <a:lnTo>
                    <a:pt x="269" y="0"/>
                  </a:lnTo>
                  <a:lnTo>
                    <a:pt x="1659" y="188"/>
                  </a:lnTo>
                  <a:lnTo>
                    <a:pt x="1511" y="391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663960" y="3729960"/>
              <a:ext cx="1194480" cy="344520"/>
            </a:xfrm>
            <a:custGeom>
              <a:avLst/>
              <a:gdLst/>
              <a:ahLst/>
              <a:rect l="l" t="t" r="r" b="b"/>
              <a:pathLst>
                <a:path w="1866" h="449">
                  <a:moveTo>
                    <a:pt x="0" y="203"/>
                  </a:moveTo>
                  <a:lnTo>
                    <a:pt x="179" y="0"/>
                  </a:lnTo>
                  <a:lnTo>
                    <a:pt x="1866" y="246"/>
                  </a:lnTo>
                  <a:lnTo>
                    <a:pt x="1732" y="449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426000" y="4272480"/>
              <a:ext cx="48240" cy="11880"/>
            </a:xfrm>
            <a:custGeom>
              <a:avLst/>
              <a:gdLst/>
              <a:ahLst/>
              <a:rect l="l" t="t" r="r" b="b"/>
              <a:pathLst>
                <a:path w="75" h="16">
                  <a:moveTo>
                    <a:pt x="15" y="0"/>
                  </a:moveTo>
                  <a:lnTo>
                    <a:pt x="75" y="16"/>
                  </a:lnTo>
                  <a:lnTo>
                    <a:pt x="0" y="1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c53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010920" y="5405400"/>
              <a:ext cx="538920" cy="254160"/>
            </a:xfrm>
            <a:custGeom>
              <a:avLst/>
              <a:gdLst/>
              <a:ahLst/>
              <a:rect l="l" t="t" r="r" b="b"/>
              <a:pathLst>
                <a:path w="843" h="332">
                  <a:moveTo>
                    <a:pt x="0" y="217"/>
                  </a:moveTo>
                  <a:lnTo>
                    <a:pt x="13" y="102"/>
                  </a:lnTo>
                  <a:lnTo>
                    <a:pt x="42" y="0"/>
                  </a:lnTo>
                  <a:lnTo>
                    <a:pt x="175" y="14"/>
                  </a:lnTo>
                  <a:lnTo>
                    <a:pt x="843" y="332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267080" y="4461120"/>
              <a:ext cx="699120" cy="222480"/>
            </a:xfrm>
            <a:custGeom>
              <a:avLst/>
              <a:gdLst/>
              <a:ahLst/>
              <a:rect l="l" t="t" r="r" b="b"/>
              <a:pathLst>
                <a:path w="1092" h="290">
                  <a:moveTo>
                    <a:pt x="0" y="161"/>
                  </a:moveTo>
                  <a:lnTo>
                    <a:pt x="58" y="0"/>
                  </a:lnTo>
                  <a:lnTo>
                    <a:pt x="1092" y="146"/>
                  </a:lnTo>
                  <a:lnTo>
                    <a:pt x="1035" y="290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c53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999400" y="2308680"/>
              <a:ext cx="2786400" cy="2031120"/>
            </a:xfrm>
            <a:custGeom>
              <a:avLst/>
              <a:gdLst/>
              <a:ahLst/>
              <a:rect l="l" t="t" r="r" b="b"/>
              <a:pathLst>
                <a:path w="4351" h="2650">
                  <a:moveTo>
                    <a:pt x="0" y="2593"/>
                  </a:moveTo>
                  <a:lnTo>
                    <a:pt x="74" y="2447"/>
                  </a:lnTo>
                  <a:lnTo>
                    <a:pt x="165" y="2303"/>
                  </a:lnTo>
                  <a:lnTo>
                    <a:pt x="266" y="2172"/>
                  </a:lnTo>
                  <a:lnTo>
                    <a:pt x="357" y="2040"/>
                  </a:lnTo>
                  <a:lnTo>
                    <a:pt x="564" y="1781"/>
                  </a:lnTo>
                  <a:lnTo>
                    <a:pt x="787" y="1549"/>
                  </a:lnTo>
                  <a:lnTo>
                    <a:pt x="917" y="1433"/>
                  </a:lnTo>
                  <a:lnTo>
                    <a:pt x="1036" y="1316"/>
                  </a:lnTo>
                  <a:lnTo>
                    <a:pt x="1288" y="1101"/>
                  </a:lnTo>
                  <a:lnTo>
                    <a:pt x="1422" y="1000"/>
                  </a:lnTo>
                  <a:lnTo>
                    <a:pt x="1555" y="911"/>
                  </a:lnTo>
                  <a:lnTo>
                    <a:pt x="1835" y="723"/>
                  </a:lnTo>
                  <a:lnTo>
                    <a:pt x="1984" y="652"/>
                  </a:lnTo>
                  <a:lnTo>
                    <a:pt x="2132" y="566"/>
                  </a:lnTo>
                  <a:lnTo>
                    <a:pt x="2428" y="420"/>
                  </a:lnTo>
                  <a:lnTo>
                    <a:pt x="2591" y="360"/>
                  </a:lnTo>
                  <a:lnTo>
                    <a:pt x="2739" y="303"/>
                  </a:lnTo>
                  <a:lnTo>
                    <a:pt x="2902" y="245"/>
                  </a:lnTo>
                  <a:lnTo>
                    <a:pt x="3050" y="188"/>
                  </a:lnTo>
                  <a:lnTo>
                    <a:pt x="3213" y="145"/>
                  </a:lnTo>
                  <a:lnTo>
                    <a:pt x="3376" y="115"/>
                  </a:lnTo>
                  <a:lnTo>
                    <a:pt x="3537" y="71"/>
                  </a:lnTo>
                  <a:lnTo>
                    <a:pt x="3701" y="44"/>
                  </a:lnTo>
                  <a:lnTo>
                    <a:pt x="3864" y="30"/>
                  </a:lnTo>
                  <a:lnTo>
                    <a:pt x="4027" y="13"/>
                  </a:lnTo>
                  <a:lnTo>
                    <a:pt x="4190" y="0"/>
                  </a:lnTo>
                  <a:lnTo>
                    <a:pt x="4351" y="0"/>
                  </a:lnTo>
                  <a:lnTo>
                    <a:pt x="4351" y="115"/>
                  </a:lnTo>
                  <a:lnTo>
                    <a:pt x="4190" y="130"/>
                  </a:lnTo>
                  <a:lnTo>
                    <a:pt x="4027" y="130"/>
                  </a:lnTo>
                  <a:lnTo>
                    <a:pt x="3879" y="145"/>
                  </a:lnTo>
                  <a:lnTo>
                    <a:pt x="3716" y="174"/>
                  </a:lnTo>
                  <a:lnTo>
                    <a:pt x="3553" y="201"/>
                  </a:lnTo>
                  <a:lnTo>
                    <a:pt x="3405" y="232"/>
                  </a:lnTo>
                  <a:lnTo>
                    <a:pt x="3094" y="318"/>
                  </a:lnTo>
                  <a:lnTo>
                    <a:pt x="2931" y="360"/>
                  </a:lnTo>
                  <a:lnTo>
                    <a:pt x="2783" y="420"/>
                  </a:lnTo>
                  <a:lnTo>
                    <a:pt x="2487" y="535"/>
                  </a:lnTo>
                  <a:lnTo>
                    <a:pt x="2340" y="608"/>
                  </a:lnTo>
                  <a:lnTo>
                    <a:pt x="2192" y="681"/>
                  </a:lnTo>
                  <a:lnTo>
                    <a:pt x="2044" y="754"/>
                  </a:lnTo>
                  <a:lnTo>
                    <a:pt x="1910" y="838"/>
                  </a:lnTo>
                  <a:lnTo>
                    <a:pt x="1762" y="911"/>
                  </a:lnTo>
                  <a:lnTo>
                    <a:pt x="1627" y="1013"/>
                  </a:lnTo>
                  <a:lnTo>
                    <a:pt x="1363" y="1201"/>
                  </a:lnTo>
                  <a:lnTo>
                    <a:pt x="1244" y="1303"/>
                  </a:lnTo>
                  <a:lnTo>
                    <a:pt x="1126" y="1405"/>
                  </a:lnTo>
                  <a:lnTo>
                    <a:pt x="888" y="1622"/>
                  </a:lnTo>
                  <a:lnTo>
                    <a:pt x="769" y="1737"/>
                  </a:lnTo>
                  <a:lnTo>
                    <a:pt x="666" y="1867"/>
                  </a:lnTo>
                  <a:lnTo>
                    <a:pt x="564" y="1982"/>
                  </a:lnTo>
                  <a:lnTo>
                    <a:pt x="460" y="2115"/>
                  </a:lnTo>
                  <a:lnTo>
                    <a:pt x="370" y="2245"/>
                  </a:lnTo>
                  <a:lnTo>
                    <a:pt x="266" y="2374"/>
                  </a:lnTo>
                  <a:lnTo>
                    <a:pt x="103" y="2650"/>
                  </a:lnTo>
                  <a:lnTo>
                    <a:pt x="0" y="259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658840" y="5305680"/>
              <a:ext cx="132120" cy="698760"/>
            </a:xfrm>
            <a:custGeom>
              <a:avLst/>
              <a:gdLst/>
              <a:ahLst/>
              <a:rect l="l" t="t" r="r" b="b"/>
              <a:pathLst>
                <a:path w="205" h="911">
                  <a:moveTo>
                    <a:pt x="205" y="15"/>
                  </a:moveTo>
                  <a:lnTo>
                    <a:pt x="163" y="247"/>
                  </a:lnTo>
                  <a:lnTo>
                    <a:pt x="132" y="478"/>
                  </a:lnTo>
                  <a:lnTo>
                    <a:pt x="132" y="695"/>
                  </a:lnTo>
                  <a:lnTo>
                    <a:pt x="132" y="911"/>
                  </a:lnTo>
                  <a:lnTo>
                    <a:pt x="13" y="911"/>
                  </a:lnTo>
                  <a:lnTo>
                    <a:pt x="0" y="681"/>
                  </a:lnTo>
                  <a:lnTo>
                    <a:pt x="13" y="462"/>
                  </a:lnTo>
                  <a:lnTo>
                    <a:pt x="13" y="347"/>
                  </a:lnTo>
                  <a:lnTo>
                    <a:pt x="31" y="232"/>
                  </a:lnTo>
                  <a:lnTo>
                    <a:pt x="75" y="0"/>
                  </a:lnTo>
                  <a:lnTo>
                    <a:pt x="205" y="15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658840" y="5305680"/>
              <a:ext cx="132120" cy="698760"/>
            </a:xfrm>
            <a:custGeom>
              <a:avLst/>
              <a:gdLst/>
              <a:ahLst/>
              <a:rect l="l" t="t" r="r" b="b"/>
              <a:pathLst>
                <a:path w="205" h="911">
                  <a:moveTo>
                    <a:pt x="205" y="15"/>
                  </a:moveTo>
                  <a:lnTo>
                    <a:pt x="163" y="247"/>
                  </a:lnTo>
                  <a:lnTo>
                    <a:pt x="132" y="478"/>
                  </a:lnTo>
                  <a:lnTo>
                    <a:pt x="132" y="695"/>
                  </a:lnTo>
                  <a:lnTo>
                    <a:pt x="132" y="911"/>
                  </a:lnTo>
                  <a:lnTo>
                    <a:pt x="13" y="911"/>
                  </a:lnTo>
                  <a:lnTo>
                    <a:pt x="0" y="681"/>
                  </a:lnTo>
                  <a:lnTo>
                    <a:pt x="13" y="462"/>
                  </a:lnTo>
                  <a:lnTo>
                    <a:pt x="13" y="347"/>
                  </a:lnTo>
                  <a:lnTo>
                    <a:pt x="31" y="232"/>
                  </a:lnTo>
                  <a:lnTo>
                    <a:pt x="75" y="0"/>
                  </a:lnTo>
                  <a:lnTo>
                    <a:pt x="205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079960" y="4662000"/>
              <a:ext cx="3251160" cy="1342800"/>
            </a:xfrm>
            <a:custGeom>
              <a:avLst/>
              <a:gdLst/>
              <a:ahLst/>
              <a:rect l="l" t="t" r="r" b="b"/>
              <a:pathLst>
                <a:path w="5077" h="1750">
                  <a:moveTo>
                    <a:pt x="3879" y="1403"/>
                  </a:moveTo>
                  <a:lnTo>
                    <a:pt x="3820" y="1750"/>
                  </a:lnTo>
                  <a:lnTo>
                    <a:pt x="3597" y="1750"/>
                  </a:lnTo>
                  <a:lnTo>
                    <a:pt x="3612" y="1591"/>
                  </a:lnTo>
                  <a:lnTo>
                    <a:pt x="0" y="0"/>
                  </a:lnTo>
                  <a:lnTo>
                    <a:pt x="5077" y="693"/>
                  </a:lnTo>
                  <a:lnTo>
                    <a:pt x="3879" y="140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79960" y="4662000"/>
              <a:ext cx="3251160" cy="1342800"/>
            </a:xfrm>
            <a:custGeom>
              <a:avLst/>
              <a:gdLst/>
              <a:ahLst/>
              <a:rect l="l" t="t" r="r" b="b"/>
              <a:pathLst>
                <a:path w="5077" h="1750">
                  <a:moveTo>
                    <a:pt x="3879" y="1403"/>
                  </a:moveTo>
                  <a:lnTo>
                    <a:pt x="3820" y="1750"/>
                  </a:lnTo>
                  <a:lnTo>
                    <a:pt x="3597" y="1750"/>
                  </a:lnTo>
                  <a:lnTo>
                    <a:pt x="3612" y="1591"/>
                  </a:lnTo>
                  <a:lnTo>
                    <a:pt x="0" y="0"/>
                  </a:lnTo>
                  <a:lnTo>
                    <a:pt x="5077" y="693"/>
                  </a:lnTo>
                  <a:lnTo>
                    <a:pt x="3879" y="140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075160" y="5206320"/>
              <a:ext cx="1280160" cy="798480"/>
            </a:xfrm>
            <a:custGeom>
              <a:avLst/>
              <a:gdLst/>
              <a:ahLst/>
              <a:rect l="l" t="t" r="r" b="b"/>
              <a:pathLst>
                <a:path w="1998" h="1042">
                  <a:moveTo>
                    <a:pt x="962" y="941"/>
                  </a:moveTo>
                  <a:lnTo>
                    <a:pt x="1998" y="898"/>
                  </a:lnTo>
                  <a:lnTo>
                    <a:pt x="1998" y="1042"/>
                  </a:lnTo>
                  <a:lnTo>
                    <a:pt x="0" y="1042"/>
                  </a:lnTo>
                  <a:lnTo>
                    <a:pt x="399" y="0"/>
                  </a:lnTo>
                  <a:lnTo>
                    <a:pt x="962" y="941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075160" y="5206320"/>
              <a:ext cx="1280160" cy="798480"/>
            </a:xfrm>
            <a:custGeom>
              <a:avLst/>
              <a:gdLst/>
              <a:ahLst/>
              <a:rect l="l" t="t" r="r" b="b"/>
              <a:pathLst>
                <a:path w="1998" h="1042">
                  <a:moveTo>
                    <a:pt x="962" y="941"/>
                  </a:moveTo>
                  <a:lnTo>
                    <a:pt x="1998" y="898"/>
                  </a:lnTo>
                  <a:lnTo>
                    <a:pt x="1998" y="1042"/>
                  </a:lnTo>
                  <a:lnTo>
                    <a:pt x="0" y="1042"/>
                  </a:lnTo>
                  <a:lnTo>
                    <a:pt x="399" y="0"/>
                  </a:lnTo>
                  <a:lnTo>
                    <a:pt x="962" y="9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331480" y="2906640"/>
              <a:ext cx="1023840" cy="2444760"/>
            </a:xfrm>
            <a:custGeom>
              <a:avLst/>
              <a:gdLst/>
              <a:ahLst/>
              <a:rect l="l" t="t" r="r" b="b"/>
              <a:pathLst>
                <a:path w="1599" h="3188">
                  <a:moveTo>
                    <a:pt x="1200" y="2274"/>
                  </a:moveTo>
                  <a:lnTo>
                    <a:pt x="1599" y="0"/>
                  </a:lnTo>
                  <a:lnTo>
                    <a:pt x="1599" y="969"/>
                  </a:lnTo>
                  <a:lnTo>
                    <a:pt x="1467" y="2086"/>
                  </a:lnTo>
                  <a:lnTo>
                    <a:pt x="1599" y="2131"/>
                  </a:lnTo>
                  <a:lnTo>
                    <a:pt x="1599" y="3188"/>
                  </a:lnTo>
                  <a:lnTo>
                    <a:pt x="0" y="2969"/>
                  </a:lnTo>
                  <a:lnTo>
                    <a:pt x="1200" y="2274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331480" y="2906640"/>
              <a:ext cx="1023840" cy="2444760"/>
            </a:xfrm>
            <a:custGeom>
              <a:avLst/>
              <a:gdLst/>
              <a:ahLst/>
              <a:rect l="l" t="t" r="r" b="b"/>
              <a:pathLst>
                <a:path w="1599" h="3188">
                  <a:moveTo>
                    <a:pt x="1200" y="2274"/>
                  </a:moveTo>
                  <a:lnTo>
                    <a:pt x="1599" y="0"/>
                  </a:lnTo>
                  <a:lnTo>
                    <a:pt x="1599" y="969"/>
                  </a:lnTo>
                  <a:lnTo>
                    <a:pt x="1467" y="2086"/>
                  </a:lnTo>
                  <a:lnTo>
                    <a:pt x="1599" y="2131"/>
                  </a:lnTo>
                  <a:lnTo>
                    <a:pt x="1599" y="3188"/>
                  </a:lnTo>
                  <a:lnTo>
                    <a:pt x="0" y="2969"/>
                  </a:lnTo>
                  <a:lnTo>
                    <a:pt x="1200" y="2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223600" y="1773720"/>
              <a:ext cx="4132080" cy="3419640"/>
            </a:xfrm>
            <a:custGeom>
              <a:avLst/>
              <a:gdLst/>
              <a:ahLst/>
              <a:rect l="l" t="t" r="r" b="b"/>
              <a:pathLst>
                <a:path w="6454" h="4461">
                  <a:moveTo>
                    <a:pt x="4145" y="3290"/>
                  </a:moveTo>
                  <a:lnTo>
                    <a:pt x="6454" y="0"/>
                  </a:lnTo>
                  <a:lnTo>
                    <a:pt x="6454" y="307"/>
                  </a:lnTo>
                  <a:lnTo>
                    <a:pt x="4855" y="4461"/>
                  </a:lnTo>
                  <a:lnTo>
                    <a:pt x="4308" y="3505"/>
                  </a:lnTo>
                  <a:lnTo>
                    <a:pt x="0" y="3693"/>
                  </a:lnTo>
                  <a:lnTo>
                    <a:pt x="4145" y="3290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223600" y="1773720"/>
              <a:ext cx="4132080" cy="3419640"/>
            </a:xfrm>
            <a:custGeom>
              <a:avLst/>
              <a:gdLst/>
              <a:ahLst/>
              <a:rect l="l" t="t" r="r" b="b"/>
              <a:pathLst>
                <a:path w="6454" h="4461">
                  <a:moveTo>
                    <a:pt x="4145" y="3290"/>
                  </a:moveTo>
                  <a:lnTo>
                    <a:pt x="6454" y="0"/>
                  </a:lnTo>
                  <a:lnTo>
                    <a:pt x="6454" y="307"/>
                  </a:lnTo>
                  <a:lnTo>
                    <a:pt x="4855" y="4461"/>
                  </a:lnTo>
                  <a:lnTo>
                    <a:pt x="4308" y="3505"/>
                  </a:lnTo>
                  <a:lnTo>
                    <a:pt x="0" y="3693"/>
                  </a:lnTo>
                  <a:lnTo>
                    <a:pt x="4145" y="329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29280" y="2762640"/>
              <a:ext cx="644040" cy="212760"/>
            </a:xfrm>
            <a:custGeom>
              <a:avLst/>
              <a:gdLst/>
              <a:ahLst/>
              <a:rect l="l" t="t" r="r" b="b"/>
              <a:pathLst>
                <a:path w="1006" h="276">
                  <a:moveTo>
                    <a:pt x="0" y="161"/>
                  </a:moveTo>
                  <a:lnTo>
                    <a:pt x="251" y="73"/>
                  </a:lnTo>
                  <a:lnTo>
                    <a:pt x="384" y="44"/>
                  </a:lnTo>
                  <a:lnTo>
                    <a:pt x="503" y="0"/>
                  </a:lnTo>
                  <a:lnTo>
                    <a:pt x="1006" y="73"/>
                  </a:lnTo>
                  <a:lnTo>
                    <a:pt x="873" y="276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108200" y="3219480"/>
              <a:ext cx="1061640" cy="300240"/>
            </a:xfrm>
            <a:custGeom>
              <a:avLst/>
              <a:gdLst/>
              <a:ahLst/>
              <a:rect l="l" t="t" r="r" b="b"/>
              <a:pathLst>
                <a:path w="1659" h="391">
                  <a:moveTo>
                    <a:pt x="0" y="188"/>
                  </a:moveTo>
                  <a:lnTo>
                    <a:pt x="269" y="0"/>
                  </a:lnTo>
                  <a:lnTo>
                    <a:pt x="1659" y="188"/>
                  </a:lnTo>
                  <a:lnTo>
                    <a:pt x="1511" y="391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663960" y="3729960"/>
              <a:ext cx="1194480" cy="344520"/>
            </a:xfrm>
            <a:custGeom>
              <a:avLst/>
              <a:gdLst/>
              <a:ahLst/>
              <a:rect l="l" t="t" r="r" b="b"/>
              <a:pathLst>
                <a:path w="1866" h="449">
                  <a:moveTo>
                    <a:pt x="0" y="203"/>
                  </a:moveTo>
                  <a:lnTo>
                    <a:pt x="179" y="0"/>
                  </a:lnTo>
                  <a:lnTo>
                    <a:pt x="1866" y="246"/>
                  </a:lnTo>
                  <a:lnTo>
                    <a:pt x="1732" y="449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426000" y="4272480"/>
              <a:ext cx="48240" cy="11880"/>
            </a:xfrm>
            <a:custGeom>
              <a:avLst/>
              <a:gdLst/>
              <a:ahLst/>
              <a:rect l="l" t="t" r="r" b="b"/>
              <a:pathLst>
                <a:path w="75" h="16">
                  <a:moveTo>
                    <a:pt x="15" y="0"/>
                  </a:moveTo>
                  <a:lnTo>
                    <a:pt x="75" y="16"/>
                  </a:lnTo>
                  <a:lnTo>
                    <a:pt x="0" y="1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c53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010920" y="5405400"/>
              <a:ext cx="538920" cy="254160"/>
            </a:xfrm>
            <a:custGeom>
              <a:avLst/>
              <a:gdLst/>
              <a:ahLst/>
              <a:rect l="l" t="t" r="r" b="b"/>
              <a:pathLst>
                <a:path w="843" h="332">
                  <a:moveTo>
                    <a:pt x="0" y="217"/>
                  </a:moveTo>
                  <a:lnTo>
                    <a:pt x="13" y="102"/>
                  </a:lnTo>
                  <a:lnTo>
                    <a:pt x="42" y="0"/>
                  </a:lnTo>
                  <a:lnTo>
                    <a:pt x="175" y="14"/>
                  </a:lnTo>
                  <a:lnTo>
                    <a:pt x="843" y="332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267080" y="4461120"/>
              <a:ext cx="699120" cy="222480"/>
            </a:xfrm>
            <a:custGeom>
              <a:avLst/>
              <a:gdLst/>
              <a:ahLst/>
              <a:rect l="l" t="t" r="r" b="b"/>
              <a:pathLst>
                <a:path w="1092" h="290">
                  <a:moveTo>
                    <a:pt x="0" y="161"/>
                  </a:moveTo>
                  <a:lnTo>
                    <a:pt x="58" y="0"/>
                  </a:lnTo>
                  <a:lnTo>
                    <a:pt x="1092" y="146"/>
                  </a:lnTo>
                  <a:lnTo>
                    <a:pt x="1035" y="290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c53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4267080" y="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roposal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3505320" y="64008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ManTech Propriet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066680" y="1447920"/>
            <a:ext cx="777240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394240" y="750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447920" y="1905120"/>
            <a:ext cx="6553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B &amp; P Doll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4267080" y="1773720"/>
            <a:ext cx="5088600" cy="4231080"/>
            <a:chOff x="4267080" y="1773720"/>
            <a:chExt cx="5088600" cy="4231080"/>
          </a:xfrm>
        </p:grpSpPr>
        <p:sp>
          <p:nvSpPr>
            <p:cNvPr id="368" name=""/>
            <p:cNvSpPr/>
            <p:nvPr/>
          </p:nvSpPr>
          <p:spPr>
            <a:xfrm>
              <a:off x="5999400" y="2308680"/>
              <a:ext cx="2786400" cy="2031120"/>
            </a:xfrm>
            <a:custGeom>
              <a:avLst/>
              <a:gdLst/>
              <a:ahLst/>
              <a:rect l="l" t="t" r="r" b="b"/>
              <a:pathLst>
                <a:path w="4351" h="2650">
                  <a:moveTo>
                    <a:pt x="0" y="2593"/>
                  </a:moveTo>
                  <a:lnTo>
                    <a:pt x="74" y="2447"/>
                  </a:lnTo>
                  <a:lnTo>
                    <a:pt x="165" y="2303"/>
                  </a:lnTo>
                  <a:lnTo>
                    <a:pt x="266" y="2172"/>
                  </a:lnTo>
                  <a:lnTo>
                    <a:pt x="357" y="2040"/>
                  </a:lnTo>
                  <a:lnTo>
                    <a:pt x="564" y="1781"/>
                  </a:lnTo>
                  <a:lnTo>
                    <a:pt x="787" y="1549"/>
                  </a:lnTo>
                  <a:lnTo>
                    <a:pt x="917" y="1433"/>
                  </a:lnTo>
                  <a:lnTo>
                    <a:pt x="1036" y="1316"/>
                  </a:lnTo>
                  <a:lnTo>
                    <a:pt x="1288" y="1101"/>
                  </a:lnTo>
                  <a:lnTo>
                    <a:pt x="1422" y="1000"/>
                  </a:lnTo>
                  <a:lnTo>
                    <a:pt x="1555" y="911"/>
                  </a:lnTo>
                  <a:lnTo>
                    <a:pt x="1835" y="723"/>
                  </a:lnTo>
                  <a:lnTo>
                    <a:pt x="1984" y="652"/>
                  </a:lnTo>
                  <a:lnTo>
                    <a:pt x="2132" y="566"/>
                  </a:lnTo>
                  <a:lnTo>
                    <a:pt x="2428" y="420"/>
                  </a:lnTo>
                  <a:lnTo>
                    <a:pt x="2591" y="360"/>
                  </a:lnTo>
                  <a:lnTo>
                    <a:pt x="2739" y="303"/>
                  </a:lnTo>
                  <a:lnTo>
                    <a:pt x="2902" y="245"/>
                  </a:lnTo>
                  <a:lnTo>
                    <a:pt x="3050" y="188"/>
                  </a:lnTo>
                  <a:lnTo>
                    <a:pt x="3213" y="145"/>
                  </a:lnTo>
                  <a:lnTo>
                    <a:pt x="3376" y="115"/>
                  </a:lnTo>
                  <a:lnTo>
                    <a:pt x="3537" y="71"/>
                  </a:lnTo>
                  <a:lnTo>
                    <a:pt x="3701" y="44"/>
                  </a:lnTo>
                  <a:lnTo>
                    <a:pt x="3864" y="30"/>
                  </a:lnTo>
                  <a:lnTo>
                    <a:pt x="4027" y="13"/>
                  </a:lnTo>
                  <a:lnTo>
                    <a:pt x="4190" y="0"/>
                  </a:lnTo>
                  <a:lnTo>
                    <a:pt x="4351" y="0"/>
                  </a:lnTo>
                  <a:lnTo>
                    <a:pt x="4351" y="115"/>
                  </a:lnTo>
                  <a:lnTo>
                    <a:pt x="4190" y="130"/>
                  </a:lnTo>
                  <a:lnTo>
                    <a:pt x="4027" y="130"/>
                  </a:lnTo>
                  <a:lnTo>
                    <a:pt x="3879" y="145"/>
                  </a:lnTo>
                  <a:lnTo>
                    <a:pt x="3716" y="174"/>
                  </a:lnTo>
                  <a:lnTo>
                    <a:pt x="3553" y="201"/>
                  </a:lnTo>
                  <a:lnTo>
                    <a:pt x="3405" y="232"/>
                  </a:lnTo>
                  <a:lnTo>
                    <a:pt x="3094" y="318"/>
                  </a:lnTo>
                  <a:lnTo>
                    <a:pt x="2931" y="360"/>
                  </a:lnTo>
                  <a:lnTo>
                    <a:pt x="2783" y="420"/>
                  </a:lnTo>
                  <a:lnTo>
                    <a:pt x="2487" y="535"/>
                  </a:lnTo>
                  <a:lnTo>
                    <a:pt x="2340" y="608"/>
                  </a:lnTo>
                  <a:lnTo>
                    <a:pt x="2192" y="681"/>
                  </a:lnTo>
                  <a:lnTo>
                    <a:pt x="2044" y="754"/>
                  </a:lnTo>
                  <a:lnTo>
                    <a:pt x="1910" y="838"/>
                  </a:lnTo>
                  <a:lnTo>
                    <a:pt x="1762" y="911"/>
                  </a:lnTo>
                  <a:lnTo>
                    <a:pt x="1627" y="1013"/>
                  </a:lnTo>
                  <a:lnTo>
                    <a:pt x="1363" y="1201"/>
                  </a:lnTo>
                  <a:lnTo>
                    <a:pt x="1244" y="1303"/>
                  </a:lnTo>
                  <a:lnTo>
                    <a:pt x="1126" y="1405"/>
                  </a:lnTo>
                  <a:lnTo>
                    <a:pt x="888" y="1622"/>
                  </a:lnTo>
                  <a:lnTo>
                    <a:pt x="769" y="1737"/>
                  </a:lnTo>
                  <a:lnTo>
                    <a:pt x="666" y="1867"/>
                  </a:lnTo>
                  <a:lnTo>
                    <a:pt x="564" y="1982"/>
                  </a:lnTo>
                  <a:lnTo>
                    <a:pt x="460" y="2115"/>
                  </a:lnTo>
                  <a:lnTo>
                    <a:pt x="370" y="2245"/>
                  </a:lnTo>
                  <a:lnTo>
                    <a:pt x="266" y="2374"/>
                  </a:lnTo>
                  <a:lnTo>
                    <a:pt x="103" y="2650"/>
                  </a:lnTo>
                  <a:lnTo>
                    <a:pt x="0" y="259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658840" y="5305680"/>
              <a:ext cx="132120" cy="698760"/>
            </a:xfrm>
            <a:custGeom>
              <a:avLst/>
              <a:gdLst/>
              <a:ahLst/>
              <a:rect l="l" t="t" r="r" b="b"/>
              <a:pathLst>
                <a:path w="205" h="911">
                  <a:moveTo>
                    <a:pt x="205" y="15"/>
                  </a:moveTo>
                  <a:lnTo>
                    <a:pt x="163" y="247"/>
                  </a:lnTo>
                  <a:lnTo>
                    <a:pt x="132" y="478"/>
                  </a:lnTo>
                  <a:lnTo>
                    <a:pt x="132" y="695"/>
                  </a:lnTo>
                  <a:lnTo>
                    <a:pt x="132" y="911"/>
                  </a:lnTo>
                  <a:lnTo>
                    <a:pt x="13" y="911"/>
                  </a:lnTo>
                  <a:lnTo>
                    <a:pt x="0" y="681"/>
                  </a:lnTo>
                  <a:lnTo>
                    <a:pt x="13" y="462"/>
                  </a:lnTo>
                  <a:lnTo>
                    <a:pt x="13" y="347"/>
                  </a:lnTo>
                  <a:lnTo>
                    <a:pt x="31" y="232"/>
                  </a:lnTo>
                  <a:lnTo>
                    <a:pt x="75" y="0"/>
                  </a:lnTo>
                  <a:lnTo>
                    <a:pt x="205" y="15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658840" y="5305680"/>
              <a:ext cx="132120" cy="698760"/>
            </a:xfrm>
            <a:custGeom>
              <a:avLst/>
              <a:gdLst/>
              <a:ahLst/>
              <a:rect l="l" t="t" r="r" b="b"/>
              <a:pathLst>
                <a:path w="205" h="911">
                  <a:moveTo>
                    <a:pt x="205" y="15"/>
                  </a:moveTo>
                  <a:lnTo>
                    <a:pt x="163" y="247"/>
                  </a:lnTo>
                  <a:lnTo>
                    <a:pt x="132" y="478"/>
                  </a:lnTo>
                  <a:lnTo>
                    <a:pt x="132" y="695"/>
                  </a:lnTo>
                  <a:lnTo>
                    <a:pt x="132" y="911"/>
                  </a:lnTo>
                  <a:lnTo>
                    <a:pt x="13" y="911"/>
                  </a:lnTo>
                  <a:lnTo>
                    <a:pt x="0" y="681"/>
                  </a:lnTo>
                  <a:lnTo>
                    <a:pt x="13" y="462"/>
                  </a:lnTo>
                  <a:lnTo>
                    <a:pt x="13" y="347"/>
                  </a:lnTo>
                  <a:lnTo>
                    <a:pt x="31" y="232"/>
                  </a:lnTo>
                  <a:lnTo>
                    <a:pt x="75" y="0"/>
                  </a:lnTo>
                  <a:lnTo>
                    <a:pt x="205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079960" y="4662000"/>
              <a:ext cx="3251160" cy="1342800"/>
            </a:xfrm>
            <a:custGeom>
              <a:avLst/>
              <a:gdLst/>
              <a:ahLst/>
              <a:rect l="l" t="t" r="r" b="b"/>
              <a:pathLst>
                <a:path w="5077" h="1750">
                  <a:moveTo>
                    <a:pt x="3879" y="1403"/>
                  </a:moveTo>
                  <a:lnTo>
                    <a:pt x="3820" y="1750"/>
                  </a:lnTo>
                  <a:lnTo>
                    <a:pt x="3597" y="1750"/>
                  </a:lnTo>
                  <a:lnTo>
                    <a:pt x="3612" y="1591"/>
                  </a:lnTo>
                  <a:lnTo>
                    <a:pt x="0" y="0"/>
                  </a:lnTo>
                  <a:lnTo>
                    <a:pt x="5077" y="693"/>
                  </a:lnTo>
                  <a:lnTo>
                    <a:pt x="3879" y="140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079960" y="4662000"/>
              <a:ext cx="3251160" cy="1342800"/>
            </a:xfrm>
            <a:custGeom>
              <a:avLst/>
              <a:gdLst/>
              <a:ahLst/>
              <a:rect l="l" t="t" r="r" b="b"/>
              <a:pathLst>
                <a:path w="5077" h="1750">
                  <a:moveTo>
                    <a:pt x="3879" y="1403"/>
                  </a:moveTo>
                  <a:lnTo>
                    <a:pt x="3820" y="1750"/>
                  </a:lnTo>
                  <a:lnTo>
                    <a:pt x="3597" y="1750"/>
                  </a:lnTo>
                  <a:lnTo>
                    <a:pt x="3612" y="1591"/>
                  </a:lnTo>
                  <a:lnTo>
                    <a:pt x="0" y="0"/>
                  </a:lnTo>
                  <a:lnTo>
                    <a:pt x="5077" y="693"/>
                  </a:lnTo>
                  <a:lnTo>
                    <a:pt x="3879" y="140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075160" y="5206320"/>
              <a:ext cx="1280160" cy="798480"/>
            </a:xfrm>
            <a:custGeom>
              <a:avLst/>
              <a:gdLst/>
              <a:ahLst/>
              <a:rect l="l" t="t" r="r" b="b"/>
              <a:pathLst>
                <a:path w="1998" h="1042">
                  <a:moveTo>
                    <a:pt x="962" y="941"/>
                  </a:moveTo>
                  <a:lnTo>
                    <a:pt x="1998" y="898"/>
                  </a:lnTo>
                  <a:lnTo>
                    <a:pt x="1998" y="1042"/>
                  </a:lnTo>
                  <a:lnTo>
                    <a:pt x="0" y="1042"/>
                  </a:lnTo>
                  <a:lnTo>
                    <a:pt x="399" y="0"/>
                  </a:lnTo>
                  <a:lnTo>
                    <a:pt x="962" y="941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075160" y="5206320"/>
              <a:ext cx="1280160" cy="798480"/>
            </a:xfrm>
            <a:custGeom>
              <a:avLst/>
              <a:gdLst/>
              <a:ahLst/>
              <a:rect l="l" t="t" r="r" b="b"/>
              <a:pathLst>
                <a:path w="1998" h="1042">
                  <a:moveTo>
                    <a:pt x="962" y="941"/>
                  </a:moveTo>
                  <a:lnTo>
                    <a:pt x="1998" y="898"/>
                  </a:lnTo>
                  <a:lnTo>
                    <a:pt x="1998" y="1042"/>
                  </a:lnTo>
                  <a:lnTo>
                    <a:pt x="0" y="1042"/>
                  </a:lnTo>
                  <a:lnTo>
                    <a:pt x="399" y="0"/>
                  </a:lnTo>
                  <a:lnTo>
                    <a:pt x="962" y="9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331480" y="2906640"/>
              <a:ext cx="1023840" cy="2444760"/>
            </a:xfrm>
            <a:custGeom>
              <a:avLst/>
              <a:gdLst/>
              <a:ahLst/>
              <a:rect l="l" t="t" r="r" b="b"/>
              <a:pathLst>
                <a:path w="1599" h="3188">
                  <a:moveTo>
                    <a:pt x="1200" y="2274"/>
                  </a:moveTo>
                  <a:lnTo>
                    <a:pt x="1599" y="0"/>
                  </a:lnTo>
                  <a:lnTo>
                    <a:pt x="1599" y="969"/>
                  </a:lnTo>
                  <a:lnTo>
                    <a:pt x="1467" y="2086"/>
                  </a:lnTo>
                  <a:lnTo>
                    <a:pt x="1599" y="2131"/>
                  </a:lnTo>
                  <a:lnTo>
                    <a:pt x="1599" y="3188"/>
                  </a:lnTo>
                  <a:lnTo>
                    <a:pt x="0" y="2969"/>
                  </a:lnTo>
                  <a:lnTo>
                    <a:pt x="1200" y="2274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331480" y="2906640"/>
              <a:ext cx="1023840" cy="2444760"/>
            </a:xfrm>
            <a:custGeom>
              <a:avLst/>
              <a:gdLst/>
              <a:ahLst/>
              <a:rect l="l" t="t" r="r" b="b"/>
              <a:pathLst>
                <a:path w="1599" h="3188">
                  <a:moveTo>
                    <a:pt x="1200" y="2274"/>
                  </a:moveTo>
                  <a:lnTo>
                    <a:pt x="1599" y="0"/>
                  </a:lnTo>
                  <a:lnTo>
                    <a:pt x="1599" y="969"/>
                  </a:lnTo>
                  <a:lnTo>
                    <a:pt x="1467" y="2086"/>
                  </a:lnTo>
                  <a:lnTo>
                    <a:pt x="1599" y="2131"/>
                  </a:lnTo>
                  <a:lnTo>
                    <a:pt x="1599" y="3188"/>
                  </a:lnTo>
                  <a:lnTo>
                    <a:pt x="0" y="2969"/>
                  </a:lnTo>
                  <a:lnTo>
                    <a:pt x="1200" y="2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223600" y="1773720"/>
              <a:ext cx="4132080" cy="3419640"/>
            </a:xfrm>
            <a:custGeom>
              <a:avLst/>
              <a:gdLst/>
              <a:ahLst/>
              <a:rect l="l" t="t" r="r" b="b"/>
              <a:pathLst>
                <a:path w="6454" h="4461">
                  <a:moveTo>
                    <a:pt x="4145" y="3290"/>
                  </a:moveTo>
                  <a:lnTo>
                    <a:pt x="6454" y="0"/>
                  </a:lnTo>
                  <a:lnTo>
                    <a:pt x="6454" y="307"/>
                  </a:lnTo>
                  <a:lnTo>
                    <a:pt x="4855" y="4461"/>
                  </a:lnTo>
                  <a:lnTo>
                    <a:pt x="4308" y="3505"/>
                  </a:lnTo>
                  <a:lnTo>
                    <a:pt x="0" y="3693"/>
                  </a:lnTo>
                  <a:lnTo>
                    <a:pt x="4145" y="3290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223600" y="1773720"/>
              <a:ext cx="4132080" cy="3419640"/>
            </a:xfrm>
            <a:custGeom>
              <a:avLst/>
              <a:gdLst/>
              <a:ahLst/>
              <a:rect l="l" t="t" r="r" b="b"/>
              <a:pathLst>
                <a:path w="6454" h="4461">
                  <a:moveTo>
                    <a:pt x="4145" y="3290"/>
                  </a:moveTo>
                  <a:lnTo>
                    <a:pt x="6454" y="0"/>
                  </a:lnTo>
                  <a:lnTo>
                    <a:pt x="6454" y="307"/>
                  </a:lnTo>
                  <a:lnTo>
                    <a:pt x="4855" y="4461"/>
                  </a:lnTo>
                  <a:lnTo>
                    <a:pt x="4308" y="3505"/>
                  </a:lnTo>
                  <a:lnTo>
                    <a:pt x="0" y="3693"/>
                  </a:lnTo>
                  <a:lnTo>
                    <a:pt x="4145" y="329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829280" y="2762640"/>
              <a:ext cx="644040" cy="212760"/>
            </a:xfrm>
            <a:custGeom>
              <a:avLst/>
              <a:gdLst/>
              <a:ahLst/>
              <a:rect l="l" t="t" r="r" b="b"/>
              <a:pathLst>
                <a:path w="1006" h="276">
                  <a:moveTo>
                    <a:pt x="0" y="161"/>
                  </a:moveTo>
                  <a:lnTo>
                    <a:pt x="251" y="73"/>
                  </a:lnTo>
                  <a:lnTo>
                    <a:pt x="384" y="44"/>
                  </a:lnTo>
                  <a:lnTo>
                    <a:pt x="503" y="0"/>
                  </a:lnTo>
                  <a:lnTo>
                    <a:pt x="1006" y="73"/>
                  </a:lnTo>
                  <a:lnTo>
                    <a:pt x="873" y="276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108200" y="3219480"/>
              <a:ext cx="1061640" cy="300240"/>
            </a:xfrm>
            <a:custGeom>
              <a:avLst/>
              <a:gdLst/>
              <a:ahLst/>
              <a:rect l="l" t="t" r="r" b="b"/>
              <a:pathLst>
                <a:path w="1659" h="391">
                  <a:moveTo>
                    <a:pt x="0" y="188"/>
                  </a:moveTo>
                  <a:lnTo>
                    <a:pt x="269" y="0"/>
                  </a:lnTo>
                  <a:lnTo>
                    <a:pt x="1659" y="188"/>
                  </a:lnTo>
                  <a:lnTo>
                    <a:pt x="1511" y="391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663960" y="3729960"/>
              <a:ext cx="1194480" cy="344520"/>
            </a:xfrm>
            <a:custGeom>
              <a:avLst/>
              <a:gdLst/>
              <a:ahLst/>
              <a:rect l="l" t="t" r="r" b="b"/>
              <a:pathLst>
                <a:path w="1866" h="449">
                  <a:moveTo>
                    <a:pt x="0" y="203"/>
                  </a:moveTo>
                  <a:lnTo>
                    <a:pt x="179" y="0"/>
                  </a:lnTo>
                  <a:lnTo>
                    <a:pt x="1866" y="246"/>
                  </a:lnTo>
                  <a:lnTo>
                    <a:pt x="1732" y="449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426000" y="4272480"/>
              <a:ext cx="48240" cy="11880"/>
            </a:xfrm>
            <a:custGeom>
              <a:avLst/>
              <a:gdLst/>
              <a:ahLst/>
              <a:rect l="l" t="t" r="r" b="b"/>
              <a:pathLst>
                <a:path w="75" h="16">
                  <a:moveTo>
                    <a:pt x="15" y="0"/>
                  </a:moveTo>
                  <a:lnTo>
                    <a:pt x="75" y="16"/>
                  </a:lnTo>
                  <a:lnTo>
                    <a:pt x="0" y="1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c53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010920" y="5405400"/>
              <a:ext cx="538920" cy="254160"/>
            </a:xfrm>
            <a:custGeom>
              <a:avLst/>
              <a:gdLst/>
              <a:ahLst/>
              <a:rect l="l" t="t" r="r" b="b"/>
              <a:pathLst>
                <a:path w="843" h="332">
                  <a:moveTo>
                    <a:pt x="0" y="217"/>
                  </a:moveTo>
                  <a:lnTo>
                    <a:pt x="13" y="102"/>
                  </a:lnTo>
                  <a:lnTo>
                    <a:pt x="42" y="0"/>
                  </a:lnTo>
                  <a:lnTo>
                    <a:pt x="175" y="14"/>
                  </a:lnTo>
                  <a:lnTo>
                    <a:pt x="843" y="332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67080" y="4461120"/>
              <a:ext cx="699120" cy="222480"/>
            </a:xfrm>
            <a:custGeom>
              <a:avLst/>
              <a:gdLst/>
              <a:ahLst/>
              <a:rect l="l" t="t" r="r" b="b"/>
              <a:pathLst>
                <a:path w="1092" h="290">
                  <a:moveTo>
                    <a:pt x="0" y="161"/>
                  </a:moveTo>
                  <a:lnTo>
                    <a:pt x="58" y="0"/>
                  </a:lnTo>
                  <a:lnTo>
                    <a:pt x="1092" y="146"/>
                  </a:lnTo>
                  <a:lnTo>
                    <a:pt x="1035" y="290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c53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999400" y="2308680"/>
              <a:ext cx="2786400" cy="2031120"/>
            </a:xfrm>
            <a:custGeom>
              <a:avLst/>
              <a:gdLst/>
              <a:ahLst/>
              <a:rect l="l" t="t" r="r" b="b"/>
              <a:pathLst>
                <a:path w="4351" h="2650">
                  <a:moveTo>
                    <a:pt x="0" y="2593"/>
                  </a:moveTo>
                  <a:lnTo>
                    <a:pt x="74" y="2447"/>
                  </a:lnTo>
                  <a:lnTo>
                    <a:pt x="165" y="2303"/>
                  </a:lnTo>
                  <a:lnTo>
                    <a:pt x="266" y="2172"/>
                  </a:lnTo>
                  <a:lnTo>
                    <a:pt x="357" y="2040"/>
                  </a:lnTo>
                  <a:lnTo>
                    <a:pt x="564" y="1781"/>
                  </a:lnTo>
                  <a:lnTo>
                    <a:pt x="787" y="1549"/>
                  </a:lnTo>
                  <a:lnTo>
                    <a:pt x="917" y="1433"/>
                  </a:lnTo>
                  <a:lnTo>
                    <a:pt x="1036" y="1316"/>
                  </a:lnTo>
                  <a:lnTo>
                    <a:pt x="1288" y="1101"/>
                  </a:lnTo>
                  <a:lnTo>
                    <a:pt x="1422" y="1000"/>
                  </a:lnTo>
                  <a:lnTo>
                    <a:pt x="1555" y="911"/>
                  </a:lnTo>
                  <a:lnTo>
                    <a:pt x="1835" y="723"/>
                  </a:lnTo>
                  <a:lnTo>
                    <a:pt x="1984" y="652"/>
                  </a:lnTo>
                  <a:lnTo>
                    <a:pt x="2132" y="566"/>
                  </a:lnTo>
                  <a:lnTo>
                    <a:pt x="2428" y="420"/>
                  </a:lnTo>
                  <a:lnTo>
                    <a:pt x="2591" y="360"/>
                  </a:lnTo>
                  <a:lnTo>
                    <a:pt x="2739" y="303"/>
                  </a:lnTo>
                  <a:lnTo>
                    <a:pt x="2902" y="245"/>
                  </a:lnTo>
                  <a:lnTo>
                    <a:pt x="3050" y="188"/>
                  </a:lnTo>
                  <a:lnTo>
                    <a:pt x="3213" y="145"/>
                  </a:lnTo>
                  <a:lnTo>
                    <a:pt x="3376" y="115"/>
                  </a:lnTo>
                  <a:lnTo>
                    <a:pt x="3537" y="71"/>
                  </a:lnTo>
                  <a:lnTo>
                    <a:pt x="3701" y="44"/>
                  </a:lnTo>
                  <a:lnTo>
                    <a:pt x="3864" y="30"/>
                  </a:lnTo>
                  <a:lnTo>
                    <a:pt x="4027" y="13"/>
                  </a:lnTo>
                  <a:lnTo>
                    <a:pt x="4190" y="0"/>
                  </a:lnTo>
                  <a:lnTo>
                    <a:pt x="4351" y="0"/>
                  </a:lnTo>
                  <a:lnTo>
                    <a:pt x="4351" y="115"/>
                  </a:lnTo>
                  <a:lnTo>
                    <a:pt x="4190" y="130"/>
                  </a:lnTo>
                  <a:lnTo>
                    <a:pt x="4027" y="130"/>
                  </a:lnTo>
                  <a:lnTo>
                    <a:pt x="3879" y="145"/>
                  </a:lnTo>
                  <a:lnTo>
                    <a:pt x="3716" y="174"/>
                  </a:lnTo>
                  <a:lnTo>
                    <a:pt x="3553" y="201"/>
                  </a:lnTo>
                  <a:lnTo>
                    <a:pt x="3405" y="232"/>
                  </a:lnTo>
                  <a:lnTo>
                    <a:pt x="3094" y="318"/>
                  </a:lnTo>
                  <a:lnTo>
                    <a:pt x="2931" y="360"/>
                  </a:lnTo>
                  <a:lnTo>
                    <a:pt x="2783" y="420"/>
                  </a:lnTo>
                  <a:lnTo>
                    <a:pt x="2487" y="535"/>
                  </a:lnTo>
                  <a:lnTo>
                    <a:pt x="2340" y="608"/>
                  </a:lnTo>
                  <a:lnTo>
                    <a:pt x="2192" y="681"/>
                  </a:lnTo>
                  <a:lnTo>
                    <a:pt x="2044" y="754"/>
                  </a:lnTo>
                  <a:lnTo>
                    <a:pt x="1910" y="838"/>
                  </a:lnTo>
                  <a:lnTo>
                    <a:pt x="1762" y="911"/>
                  </a:lnTo>
                  <a:lnTo>
                    <a:pt x="1627" y="1013"/>
                  </a:lnTo>
                  <a:lnTo>
                    <a:pt x="1363" y="1201"/>
                  </a:lnTo>
                  <a:lnTo>
                    <a:pt x="1244" y="1303"/>
                  </a:lnTo>
                  <a:lnTo>
                    <a:pt x="1126" y="1405"/>
                  </a:lnTo>
                  <a:lnTo>
                    <a:pt x="888" y="1622"/>
                  </a:lnTo>
                  <a:lnTo>
                    <a:pt x="769" y="1737"/>
                  </a:lnTo>
                  <a:lnTo>
                    <a:pt x="666" y="1867"/>
                  </a:lnTo>
                  <a:lnTo>
                    <a:pt x="564" y="1982"/>
                  </a:lnTo>
                  <a:lnTo>
                    <a:pt x="460" y="2115"/>
                  </a:lnTo>
                  <a:lnTo>
                    <a:pt x="370" y="2245"/>
                  </a:lnTo>
                  <a:lnTo>
                    <a:pt x="266" y="2374"/>
                  </a:lnTo>
                  <a:lnTo>
                    <a:pt x="103" y="2650"/>
                  </a:lnTo>
                  <a:lnTo>
                    <a:pt x="0" y="259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658840" y="5305680"/>
              <a:ext cx="132120" cy="698760"/>
            </a:xfrm>
            <a:custGeom>
              <a:avLst/>
              <a:gdLst/>
              <a:ahLst/>
              <a:rect l="l" t="t" r="r" b="b"/>
              <a:pathLst>
                <a:path w="205" h="911">
                  <a:moveTo>
                    <a:pt x="205" y="15"/>
                  </a:moveTo>
                  <a:lnTo>
                    <a:pt x="163" y="247"/>
                  </a:lnTo>
                  <a:lnTo>
                    <a:pt x="132" y="478"/>
                  </a:lnTo>
                  <a:lnTo>
                    <a:pt x="132" y="695"/>
                  </a:lnTo>
                  <a:lnTo>
                    <a:pt x="132" y="911"/>
                  </a:lnTo>
                  <a:lnTo>
                    <a:pt x="13" y="911"/>
                  </a:lnTo>
                  <a:lnTo>
                    <a:pt x="0" y="681"/>
                  </a:lnTo>
                  <a:lnTo>
                    <a:pt x="13" y="462"/>
                  </a:lnTo>
                  <a:lnTo>
                    <a:pt x="13" y="347"/>
                  </a:lnTo>
                  <a:lnTo>
                    <a:pt x="31" y="232"/>
                  </a:lnTo>
                  <a:lnTo>
                    <a:pt x="75" y="0"/>
                  </a:lnTo>
                  <a:lnTo>
                    <a:pt x="205" y="15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658840" y="5305680"/>
              <a:ext cx="132120" cy="698760"/>
            </a:xfrm>
            <a:custGeom>
              <a:avLst/>
              <a:gdLst/>
              <a:ahLst/>
              <a:rect l="l" t="t" r="r" b="b"/>
              <a:pathLst>
                <a:path w="205" h="911">
                  <a:moveTo>
                    <a:pt x="205" y="15"/>
                  </a:moveTo>
                  <a:lnTo>
                    <a:pt x="163" y="247"/>
                  </a:lnTo>
                  <a:lnTo>
                    <a:pt x="132" y="478"/>
                  </a:lnTo>
                  <a:lnTo>
                    <a:pt x="132" y="695"/>
                  </a:lnTo>
                  <a:lnTo>
                    <a:pt x="132" y="911"/>
                  </a:lnTo>
                  <a:lnTo>
                    <a:pt x="13" y="911"/>
                  </a:lnTo>
                  <a:lnTo>
                    <a:pt x="0" y="681"/>
                  </a:lnTo>
                  <a:lnTo>
                    <a:pt x="13" y="462"/>
                  </a:lnTo>
                  <a:lnTo>
                    <a:pt x="13" y="347"/>
                  </a:lnTo>
                  <a:lnTo>
                    <a:pt x="31" y="232"/>
                  </a:lnTo>
                  <a:lnTo>
                    <a:pt x="75" y="0"/>
                  </a:lnTo>
                  <a:lnTo>
                    <a:pt x="205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079960" y="4662000"/>
              <a:ext cx="3251160" cy="1342800"/>
            </a:xfrm>
            <a:custGeom>
              <a:avLst/>
              <a:gdLst/>
              <a:ahLst/>
              <a:rect l="l" t="t" r="r" b="b"/>
              <a:pathLst>
                <a:path w="5077" h="1750">
                  <a:moveTo>
                    <a:pt x="3879" y="1403"/>
                  </a:moveTo>
                  <a:lnTo>
                    <a:pt x="3820" y="1750"/>
                  </a:lnTo>
                  <a:lnTo>
                    <a:pt x="3597" y="1750"/>
                  </a:lnTo>
                  <a:lnTo>
                    <a:pt x="3612" y="1591"/>
                  </a:lnTo>
                  <a:lnTo>
                    <a:pt x="0" y="0"/>
                  </a:lnTo>
                  <a:lnTo>
                    <a:pt x="5077" y="693"/>
                  </a:lnTo>
                  <a:lnTo>
                    <a:pt x="3879" y="140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079960" y="4662000"/>
              <a:ext cx="3251160" cy="1342800"/>
            </a:xfrm>
            <a:custGeom>
              <a:avLst/>
              <a:gdLst/>
              <a:ahLst/>
              <a:rect l="l" t="t" r="r" b="b"/>
              <a:pathLst>
                <a:path w="5077" h="1750">
                  <a:moveTo>
                    <a:pt x="3879" y="1403"/>
                  </a:moveTo>
                  <a:lnTo>
                    <a:pt x="3820" y="1750"/>
                  </a:lnTo>
                  <a:lnTo>
                    <a:pt x="3597" y="1750"/>
                  </a:lnTo>
                  <a:lnTo>
                    <a:pt x="3612" y="1591"/>
                  </a:lnTo>
                  <a:lnTo>
                    <a:pt x="0" y="0"/>
                  </a:lnTo>
                  <a:lnTo>
                    <a:pt x="5077" y="693"/>
                  </a:lnTo>
                  <a:lnTo>
                    <a:pt x="3879" y="140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075160" y="5206320"/>
              <a:ext cx="1280160" cy="798480"/>
            </a:xfrm>
            <a:custGeom>
              <a:avLst/>
              <a:gdLst/>
              <a:ahLst/>
              <a:rect l="l" t="t" r="r" b="b"/>
              <a:pathLst>
                <a:path w="1998" h="1042">
                  <a:moveTo>
                    <a:pt x="962" y="941"/>
                  </a:moveTo>
                  <a:lnTo>
                    <a:pt x="1998" y="898"/>
                  </a:lnTo>
                  <a:lnTo>
                    <a:pt x="1998" y="1042"/>
                  </a:lnTo>
                  <a:lnTo>
                    <a:pt x="0" y="1042"/>
                  </a:lnTo>
                  <a:lnTo>
                    <a:pt x="399" y="0"/>
                  </a:lnTo>
                  <a:lnTo>
                    <a:pt x="962" y="941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075160" y="5206320"/>
              <a:ext cx="1280160" cy="798480"/>
            </a:xfrm>
            <a:custGeom>
              <a:avLst/>
              <a:gdLst/>
              <a:ahLst/>
              <a:rect l="l" t="t" r="r" b="b"/>
              <a:pathLst>
                <a:path w="1998" h="1042">
                  <a:moveTo>
                    <a:pt x="962" y="941"/>
                  </a:moveTo>
                  <a:lnTo>
                    <a:pt x="1998" y="898"/>
                  </a:lnTo>
                  <a:lnTo>
                    <a:pt x="1998" y="1042"/>
                  </a:lnTo>
                  <a:lnTo>
                    <a:pt x="0" y="1042"/>
                  </a:lnTo>
                  <a:lnTo>
                    <a:pt x="399" y="0"/>
                  </a:lnTo>
                  <a:lnTo>
                    <a:pt x="962" y="9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331480" y="2906640"/>
              <a:ext cx="1023840" cy="2444760"/>
            </a:xfrm>
            <a:custGeom>
              <a:avLst/>
              <a:gdLst/>
              <a:ahLst/>
              <a:rect l="l" t="t" r="r" b="b"/>
              <a:pathLst>
                <a:path w="1599" h="3188">
                  <a:moveTo>
                    <a:pt x="1200" y="2274"/>
                  </a:moveTo>
                  <a:lnTo>
                    <a:pt x="1599" y="0"/>
                  </a:lnTo>
                  <a:lnTo>
                    <a:pt x="1599" y="969"/>
                  </a:lnTo>
                  <a:lnTo>
                    <a:pt x="1467" y="2086"/>
                  </a:lnTo>
                  <a:lnTo>
                    <a:pt x="1599" y="2131"/>
                  </a:lnTo>
                  <a:lnTo>
                    <a:pt x="1599" y="3188"/>
                  </a:lnTo>
                  <a:lnTo>
                    <a:pt x="0" y="2969"/>
                  </a:lnTo>
                  <a:lnTo>
                    <a:pt x="1200" y="2274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331480" y="2906640"/>
              <a:ext cx="1023840" cy="2444760"/>
            </a:xfrm>
            <a:custGeom>
              <a:avLst/>
              <a:gdLst/>
              <a:ahLst/>
              <a:rect l="l" t="t" r="r" b="b"/>
              <a:pathLst>
                <a:path w="1599" h="3188">
                  <a:moveTo>
                    <a:pt x="1200" y="2274"/>
                  </a:moveTo>
                  <a:lnTo>
                    <a:pt x="1599" y="0"/>
                  </a:lnTo>
                  <a:lnTo>
                    <a:pt x="1599" y="969"/>
                  </a:lnTo>
                  <a:lnTo>
                    <a:pt x="1467" y="2086"/>
                  </a:lnTo>
                  <a:lnTo>
                    <a:pt x="1599" y="2131"/>
                  </a:lnTo>
                  <a:lnTo>
                    <a:pt x="1599" y="3188"/>
                  </a:lnTo>
                  <a:lnTo>
                    <a:pt x="0" y="2969"/>
                  </a:lnTo>
                  <a:lnTo>
                    <a:pt x="1200" y="2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23600" y="1773720"/>
              <a:ext cx="4132080" cy="3419640"/>
            </a:xfrm>
            <a:custGeom>
              <a:avLst/>
              <a:gdLst/>
              <a:ahLst/>
              <a:rect l="l" t="t" r="r" b="b"/>
              <a:pathLst>
                <a:path w="6454" h="4461">
                  <a:moveTo>
                    <a:pt x="4145" y="3290"/>
                  </a:moveTo>
                  <a:lnTo>
                    <a:pt x="6454" y="0"/>
                  </a:lnTo>
                  <a:lnTo>
                    <a:pt x="6454" y="307"/>
                  </a:lnTo>
                  <a:lnTo>
                    <a:pt x="4855" y="4461"/>
                  </a:lnTo>
                  <a:lnTo>
                    <a:pt x="4308" y="3505"/>
                  </a:lnTo>
                  <a:lnTo>
                    <a:pt x="0" y="3693"/>
                  </a:lnTo>
                  <a:lnTo>
                    <a:pt x="4145" y="3290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223600" y="1773720"/>
              <a:ext cx="4132080" cy="3419640"/>
            </a:xfrm>
            <a:custGeom>
              <a:avLst/>
              <a:gdLst/>
              <a:ahLst/>
              <a:rect l="l" t="t" r="r" b="b"/>
              <a:pathLst>
                <a:path w="6454" h="4461">
                  <a:moveTo>
                    <a:pt x="4145" y="3290"/>
                  </a:moveTo>
                  <a:lnTo>
                    <a:pt x="6454" y="0"/>
                  </a:lnTo>
                  <a:lnTo>
                    <a:pt x="6454" y="307"/>
                  </a:lnTo>
                  <a:lnTo>
                    <a:pt x="4855" y="4461"/>
                  </a:lnTo>
                  <a:lnTo>
                    <a:pt x="4308" y="3505"/>
                  </a:lnTo>
                  <a:lnTo>
                    <a:pt x="0" y="3693"/>
                  </a:lnTo>
                  <a:lnTo>
                    <a:pt x="4145" y="329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829280" y="2762640"/>
              <a:ext cx="644040" cy="212760"/>
            </a:xfrm>
            <a:custGeom>
              <a:avLst/>
              <a:gdLst/>
              <a:ahLst/>
              <a:rect l="l" t="t" r="r" b="b"/>
              <a:pathLst>
                <a:path w="1006" h="276">
                  <a:moveTo>
                    <a:pt x="0" y="161"/>
                  </a:moveTo>
                  <a:lnTo>
                    <a:pt x="251" y="73"/>
                  </a:lnTo>
                  <a:lnTo>
                    <a:pt x="384" y="44"/>
                  </a:lnTo>
                  <a:lnTo>
                    <a:pt x="503" y="0"/>
                  </a:lnTo>
                  <a:lnTo>
                    <a:pt x="1006" y="73"/>
                  </a:lnTo>
                  <a:lnTo>
                    <a:pt x="873" y="276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108200" y="3219480"/>
              <a:ext cx="1061640" cy="300240"/>
            </a:xfrm>
            <a:custGeom>
              <a:avLst/>
              <a:gdLst/>
              <a:ahLst/>
              <a:rect l="l" t="t" r="r" b="b"/>
              <a:pathLst>
                <a:path w="1659" h="391">
                  <a:moveTo>
                    <a:pt x="0" y="188"/>
                  </a:moveTo>
                  <a:lnTo>
                    <a:pt x="269" y="0"/>
                  </a:lnTo>
                  <a:lnTo>
                    <a:pt x="1659" y="188"/>
                  </a:lnTo>
                  <a:lnTo>
                    <a:pt x="1511" y="391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663960" y="3729960"/>
              <a:ext cx="1194480" cy="344520"/>
            </a:xfrm>
            <a:custGeom>
              <a:avLst/>
              <a:gdLst/>
              <a:ahLst/>
              <a:rect l="l" t="t" r="r" b="b"/>
              <a:pathLst>
                <a:path w="1866" h="449">
                  <a:moveTo>
                    <a:pt x="0" y="203"/>
                  </a:moveTo>
                  <a:lnTo>
                    <a:pt x="179" y="0"/>
                  </a:lnTo>
                  <a:lnTo>
                    <a:pt x="1866" y="246"/>
                  </a:lnTo>
                  <a:lnTo>
                    <a:pt x="1732" y="449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426000" y="4272480"/>
              <a:ext cx="48240" cy="11880"/>
            </a:xfrm>
            <a:custGeom>
              <a:avLst/>
              <a:gdLst/>
              <a:ahLst/>
              <a:rect l="l" t="t" r="r" b="b"/>
              <a:pathLst>
                <a:path w="75" h="16">
                  <a:moveTo>
                    <a:pt x="15" y="0"/>
                  </a:moveTo>
                  <a:lnTo>
                    <a:pt x="75" y="16"/>
                  </a:lnTo>
                  <a:lnTo>
                    <a:pt x="0" y="1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c53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010920" y="5405400"/>
              <a:ext cx="538920" cy="254160"/>
            </a:xfrm>
            <a:custGeom>
              <a:avLst/>
              <a:gdLst/>
              <a:ahLst/>
              <a:rect l="l" t="t" r="r" b="b"/>
              <a:pathLst>
                <a:path w="843" h="332">
                  <a:moveTo>
                    <a:pt x="0" y="217"/>
                  </a:moveTo>
                  <a:lnTo>
                    <a:pt x="13" y="102"/>
                  </a:lnTo>
                  <a:lnTo>
                    <a:pt x="42" y="0"/>
                  </a:lnTo>
                  <a:lnTo>
                    <a:pt x="175" y="14"/>
                  </a:lnTo>
                  <a:lnTo>
                    <a:pt x="843" y="332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267080" y="4461120"/>
              <a:ext cx="699120" cy="222480"/>
            </a:xfrm>
            <a:custGeom>
              <a:avLst/>
              <a:gdLst/>
              <a:ahLst/>
              <a:rect l="l" t="t" r="r" b="b"/>
              <a:pathLst>
                <a:path w="1092" h="290">
                  <a:moveTo>
                    <a:pt x="0" y="161"/>
                  </a:moveTo>
                  <a:lnTo>
                    <a:pt x="58" y="0"/>
                  </a:lnTo>
                  <a:lnTo>
                    <a:pt x="1092" y="146"/>
                  </a:lnTo>
                  <a:lnTo>
                    <a:pt x="1035" y="290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c53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3276720" y="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B &amp; P Dollar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3505320" y="64008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ManTech Propriet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066680" y="1447920"/>
            <a:ext cx="777240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394240" y="750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5800" y="1214280"/>
            <a:ext cx="6553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GS is diffe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GS has direct overhead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GS has full time marketing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GS has high travel expen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GS must  have the ability to manage its costs and make spending trade off deci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MGS needs an individu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Operating Bu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to manage its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4267080" y="1773720"/>
            <a:ext cx="5088600" cy="4231080"/>
            <a:chOff x="4267080" y="1773720"/>
            <a:chExt cx="5088600" cy="4231080"/>
          </a:xfrm>
        </p:grpSpPr>
        <p:sp>
          <p:nvSpPr>
            <p:cNvPr id="408" name=""/>
            <p:cNvSpPr/>
            <p:nvPr/>
          </p:nvSpPr>
          <p:spPr>
            <a:xfrm>
              <a:off x="5999400" y="2308680"/>
              <a:ext cx="2786400" cy="2031120"/>
            </a:xfrm>
            <a:custGeom>
              <a:avLst/>
              <a:gdLst/>
              <a:ahLst/>
              <a:rect l="l" t="t" r="r" b="b"/>
              <a:pathLst>
                <a:path w="4351" h="2650">
                  <a:moveTo>
                    <a:pt x="0" y="2593"/>
                  </a:moveTo>
                  <a:lnTo>
                    <a:pt x="74" y="2447"/>
                  </a:lnTo>
                  <a:lnTo>
                    <a:pt x="165" y="2303"/>
                  </a:lnTo>
                  <a:lnTo>
                    <a:pt x="266" y="2172"/>
                  </a:lnTo>
                  <a:lnTo>
                    <a:pt x="357" y="2040"/>
                  </a:lnTo>
                  <a:lnTo>
                    <a:pt x="564" y="1781"/>
                  </a:lnTo>
                  <a:lnTo>
                    <a:pt x="787" y="1549"/>
                  </a:lnTo>
                  <a:lnTo>
                    <a:pt x="917" y="1433"/>
                  </a:lnTo>
                  <a:lnTo>
                    <a:pt x="1036" y="1316"/>
                  </a:lnTo>
                  <a:lnTo>
                    <a:pt x="1288" y="1101"/>
                  </a:lnTo>
                  <a:lnTo>
                    <a:pt x="1422" y="1000"/>
                  </a:lnTo>
                  <a:lnTo>
                    <a:pt x="1555" y="911"/>
                  </a:lnTo>
                  <a:lnTo>
                    <a:pt x="1835" y="723"/>
                  </a:lnTo>
                  <a:lnTo>
                    <a:pt x="1984" y="652"/>
                  </a:lnTo>
                  <a:lnTo>
                    <a:pt x="2132" y="566"/>
                  </a:lnTo>
                  <a:lnTo>
                    <a:pt x="2428" y="420"/>
                  </a:lnTo>
                  <a:lnTo>
                    <a:pt x="2591" y="360"/>
                  </a:lnTo>
                  <a:lnTo>
                    <a:pt x="2739" y="303"/>
                  </a:lnTo>
                  <a:lnTo>
                    <a:pt x="2902" y="245"/>
                  </a:lnTo>
                  <a:lnTo>
                    <a:pt x="3050" y="188"/>
                  </a:lnTo>
                  <a:lnTo>
                    <a:pt x="3213" y="145"/>
                  </a:lnTo>
                  <a:lnTo>
                    <a:pt x="3376" y="115"/>
                  </a:lnTo>
                  <a:lnTo>
                    <a:pt x="3537" y="71"/>
                  </a:lnTo>
                  <a:lnTo>
                    <a:pt x="3701" y="44"/>
                  </a:lnTo>
                  <a:lnTo>
                    <a:pt x="3864" y="30"/>
                  </a:lnTo>
                  <a:lnTo>
                    <a:pt x="4027" y="13"/>
                  </a:lnTo>
                  <a:lnTo>
                    <a:pt x="4190" y="0"/>
                  </a:lnTo>
                  <a:lnTo>
                    <a:pt x="4351" y="0"/>
                  </a:lnTo>
                  <a:lnTo>
                    <a:pt x="4351" y="115"/>
                  </a:lnTo>
                  <a:lnTo>
                    <a:pt x="4190" y="130"/>
                  </a:lnTo>
                  <a:lnTo>
                    <a:pt x="4027" y="130"/>
                  </a:lnTo>
                  <a:lnTo>
                    <a:pt x="3879" y="145"/>
                  </a:lnTo>
                  <a:lnTo>
                    <a:pt x="3716" y="174"/>
                  </a:lnTo>
                  <a:lnTo>
                    <a:pt x="3553" y="201"/>
                  </a:lnTo>
                  <a:lnTo>
                    <a:pt x="3405" y="232"/>
                  </a:lnTo>
                  <a:lnTo>
                    <a:pt x="3094" y="318"/>
                  </a:lnTo>
                  <a:lnTo>
                    <a:pt x="2931" y="360"/>
                  </a:lnTo>
                  <a:lnTo>
                    <a:pt x="2783" y="420"/>
                  </a:lnTo>
                  <a:lnTo>
                    <a:pt x="2487" y="535"/>
                  </a:lnTo>
                  <a:lnTo>
                    <a:pt x="2340" y="608"/>
                  </a:lnTo>
                  <a:lnTo>
                    <a:pt x="2192" y="681"/>
                  </a:lnTo>
                  <a:lnTo>
                    <a:pt x="2044" y="754"/>
                  </a:lnTo>
                  <a:lnTo>
                    <a:pt x="1910" y="838"/>
                  </a:lnTo>
                  <a:lnTo>
                    <a:pt x="1762" y="911"/>
                  </a:lnTo>
                  <a:lnTo>
                    <a:pt x="1627" y="1013"/>
                  </a:lnTo>
                  <a:lnTo>
                    <a:pt x="1363" y="1201"/>
                  </a:lnTo>
                  <a:lnTo>
                    <a:pt x="1244" y="1303"/>
                  </a:lnTo>
                  <a:lnTo>
                    <a:pt x="1126" y="1405"/>
                  </a:lnTo>
                  <a:lnTo>
                    <a:pt x="888" y="1622"/>
                  </a:lnTo>
                  <a:lnTo>
                    <a:pt x="769" y="1737"/>
                  </a:lnTo>
                  <a:lnTo>
                    <a:pt x="666" y="1867"/>
                  </a:lnTo>
                  <a:lnTo>
                    <a:pt x="564" y="1982"/>
                  </a:lnTo>
                  <a:lnTo>
                    <a:pt x="460" y="2115"/>
                  </a:lnTo>
                  <a:lnTo>
                    <a:pt x="370" y="2245"/>
                  </a:lnTo>
                  <a:lnTo>
                    <a:pt x="266" y="2374"/>
                  </a:lnTo>
                  <a:lnTo>
                    <a:pt x="103" y="2650"/>
                  </a:lnTo>
                  <a:lnTo>
                    <a:pt x="0" y="259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658840" y="5305680"/>
              <a:ext cx="132120" cy="698760"/>
            </a:xfrm>
            <a:custGeom>
              <a:avLst/>
              <a:gdLst/>
              <a:ahLst/>
              <a:rect l="l" t="t" r="r" b="b"/>
              <a:pathLst>
                <a:path w="205" h="911">
                  <a:moveTo>
                    <a:pt x="205" y="15"/>
                  </a:moveTo>
                  <a:lnTo>
                    <a:pt x="163" y="247"/>
                  </a:lnTo>
                  <a:lnTo>
                    <a:pt x="132" y="478"/>
                  </a:lnTo>
                  <a:lnTo>
                    <a:pt x="132" y="695"/>
                  </a:lnTo>
                  <a:lnTo>
                    <a:pt x="132" y="911"/>
                  </a:lnTo>
                  <a:lnTo>
                    <a:pt x="13" y="911"/>
                  </a:lnTo>
                  <a:lnTo>
                    <a:pt x="0" y="681"/>
                  </a:lnTo>
                  <a:lnTo>
                    <a:pt x="13" y="462"/>
                  </a:lnTo>
                  <a:lnTo>
                    <a:pt x="13" y="347"/>
                  </a:lnTo>
                  <a:lnTo>
                    <a:pt x="31" y="232"/>
                  </a:lnTo>
                  <a:lnTo>
                    <a:pt x="75" y="0"/>
                  </a:lnTo>
                  <a:lnTo>
                    <a:pt x="205" y="15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658840" y="5305680"/>
              <a:ext cx="132120" cy="698760"/>
            </a:xfrm>
            <a:custGeom>
              <a:avLst/>
              <a:gdLst/>
              <a:ahLst/>
              <a:rect l="l" t="t" r="r" b="b"/>
              <a:pathLst>
                <a:path w="205" h="911">
                  <a:moveTo>
                    <a:pt x="205" y="15"/>
                  </a:moveTo>
                  <a:lnTo>
                    <a:pt x="163" y="247"/>
                  </a:lnTo>
                  <a:lnTo>
                    <a:pt x="132" y="478"/>
                  </a:lnTo>
                  <a:lnTo>
                    <a:pt x="132" y="695"/>
                  </a:lnTo>
                  <a:lnTo>
                    <a:pt x="132" y="911"/>
                  </a:lnTo>
                  <a:lnTo>
                    <a:pt x="13" y="911"/>
                  </a:lnTo>
                  <a:lnTo>
                    <a:pt x="0" y="681"/>
                  </a:lnTo>
                  <a:lnTo>
                    <a:pt x="13" y="462"/>
                  </a:lnTo>
                  <a:lnTo>
                    <a:pt x="13" y="347"/>
                  </a:lnTo>
                  <a:lnTo>
                    <a:pt x="31" y="232"/>
                  </a:lnTo>
                  <a:lnTo>
                    <a:pt x="75" y="0"/>
                  </a:lnTo>
                  <a:lnTo>
                    <a:pt x="205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079960" y="4662000"/>
              <a:ext cx="3251160" cy="1342800"/>
            </a:xfrm>
            <a:custGeom>
              <a:avLst/>
              <a:gdLst/>
              <a:ahLst/>
              <a:rect l="l" t="t" r="r" b="b"/>
              <a:pathLst>
                <a:path w="5077" h="1750">
                  <a:moveTo>
                    <a:pt x="3879" y="1403"/>
                  </a:moveTo>
                  <a:lnTo>
                    <a:pt x="3820" y="1750"/>
                  </a:lnTo>
                  <a:lnTo>
                    <a:pt x="3597" y="1750"/>
                  </a:lnTo>
                  <a:lnTo>
                    <a:pt x="3612" y="1591"/>
                  </a:lnTo>
                  <a:lnTo>
                    <a:pt x="0" y="0"/>
                  </a:lnTo>
                  <a:lnTo>
                    <a:pt x="5077" y="693"/>
                  </a:lnTo>
                  <a:lnTo>
                    <a:pt x="3879" y="140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079960" y="4662000"/>
              <a:ext cx="3251160" cy="1342800"/>
            </a:xfrm>
            <a:custGeom>
              <a:avLst/>
              <a:gdLst/>
              <a:ahLst/>
              <a:rect l="l" t="t" r="r" b="b"/>
              <a:pathLst>
                <a:path w="5077" h="1750">
                  <a:moveTo>
                    <a:pt x="3879" y="1403"/>
                  </a:moveTo>
                  <a:lnTo>
                    <a:pt x="3820" y="1750"/>
                  </a:lnTo>
                  <a:lnTo>
                    <a:pt x="3597" y="1750"/>
                  </a:lnTo>
                  <a:lnTo>
                    <a:pt x="3612" y="1591"/>
                  </a:lnTo>
                  <a:lnTo>
                    <a:pt x="0" y="0"/>
                  </a:lnTo>
                  <a:lnTo>
                    <a:pt x="5077" y="693"/>
                  </a:lnTo>
                  <a:lnTo>
                    <a:pt x="3879" y="140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075160" y="5206320"/>
              <a:ext cx="1280160" cy="798480"/>
            </a:xfrm>
            <a:custGeom>
              <a:avLst/>
              <a:gdLst/>
              <a:ahLst/>
              <a:rect l="l" t="t" r="r" b="b"/>
              <a:pathLst>
                <a:path w="1998" h="1042">
                  <a:moveTo>
                    <a:pt x="962" y="941"/>
                  </a:moveTo>
                  <a:lnTo>
                    <a:pt x="1998" y="898"/>
                  </a:lnTo>
                  <a:lnTo>
                    <a:pt x="1998" y="1042"/>
                  </a:lnTo>
                  <a:lnTo>
                    <a:pt x="0" y="1042"/>
                  </a:lnTo>
                  <a:lnTo>
                    <a:pt x="399" y="0"/>
                  </a:lnTo>
                  <a:lnTo>
                    <a:pt x="962" y="941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075160" y="5206320"/>
              <a:ext cx="1280160" cy="798480"/>
            </a:xfrm>
            <a:custGeom>
              <a:avLst/>
              <a:gdLst/>
              <a:ahLst/>
              <a:rect l="l" t="t" r="r" b="b"/>
              <a:pathLst>
                <a:path w="1998" h="1042">
                  <a:moveTo>
                    <a:pt x="962" y="941"/>
                  </a:moveTo>
                  <a:lnTo>
                    <a:pt x="1998" y="898"/>
                  </a:lnTo>
                  <a:lnTo>
                    <a:pt x="1998" y="1042"/>
                  </a:lnTo>
                  <a:lnTo>
                    <a:pt x="0" y="1042"/>
                  </a:lnTo>
                  <a:lnTo>
                    <a:pt x="399" y="0"/>
                  </a:lnTo>
                  <a:lnTo>
                    <a:pt x="962" y="9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331480" y="2906640"/>
              <a:ext cx="1023840" cy="2444760"/>
            </a:xfrm>
            <a:custGeom>
              <a:avLst/>
              <a:gdLst/>
              <a:ahLst/>
              <a:rect l="l" t="t" r="r" b="b"/>
              <a:pathLst>
                <a:path w="1599" h="3188">
                  <a:moveTo>
                    <a:pt x="1200" y="2274"/>
                  </a:moveTo>
                  <a:lnTo>
                    <a:pt x="1599" y="0"/>
                  </a:lnTo>
                  <a:lnTo>
                    <a:pt x="1599" y="969"/>
                  </a:lnTo>
                  <a:lnTo>
                    <a:pt x="1467" y="2086"/>
                  </a:lnTo>
                  <a:lnTo>
                    <a:pt x="1599" y="2131"/>
                  </a:lnTo>
                  <a:lnTo>
                    <a:pt x="1599" y="3188"/>
                  </a:lnTo>
                  <a:lnTo>
                    <a:pt x="0" y="2969"/>
                  </a:lnTo>
                  <a:lnTo>
                    <a:pt x="1200" y="2274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331480" y="2906640"/>
              <a:ext cx="1023840" cy="2444760"/>
            </a:xfrm>
            <a:custGeom>
              <a:avLst/>
              <a:gdLst/>
              <a:ahLst/>
              <a:rect l="l" t="t" r="r" b="b"/>
              <a:pathLst>
                <a:path w="1599" h="3188">
                  <a:moveTo>
                    <a:pt x="1200" y="2274"/>
                  </a:moveTo>
                  <a:lnTo>
                    <a:pt x="1599" y="0"/>
                  </a:lnTo>
                  <a:lnTo>
                    <a:pt x="1599" y="969"/>
                  </a:lnTo>
                  <a:lnTo>
                    <a:pt x="1467" y="2086"/>
                  </a:lnTo>
                  <a:lnTo>
                    <a:pt x="1599" y="2131"/>
                  </a:lnTo>
                  <a:lnTo>
                    <a:pt x="1599" y="3188"/>
                  </a:lnTo>
                  <a:lnTo>
                    <a:pt x="0" y="2969"/>
                  </a:lnTo>
                  <a:lnTo>
                    <a:pt x="1200" y="2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223600" y="1773720"/>
              <a:ext cx="4132080" cy="3419640"/>
            </a:xfrm>
            <a:custGeom>
              <a:avLst/>
              <a:gdLst/>
              <a:ahLst/>
              <a:rect l="l" t="t" r="r" b="b"/>
              <a:pathLst>
                <a:path w="6454" h="4461">
                  <a:moveTo>
                    <a:pt x="4145" y="3290"/>
                  </a:moveTo>
                  <a:lnTo>
                    <a:pt x="6454" y="0"/>
                  </a:lnTo>
                  <a:lnTo>
                    <a:pt x="6454" y="307"/>
                  </a:lnTo>
                  <a:lnTo>
                    <a:pt x="4855" y="4461"/>
                  </a:lnTo>
                  <a:lnTo>
                    <a:pt x="4308" y="3505"/>
                  </a:lnTo>
                  <a:lnTo>
                    <a:pt x="0" y="3693"/>
                  </a:lnTo>
                  <a:lnTo>
                    <a:pt x="4145" y="3290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223600" y="1773720"/>
              <a:ext cx="4132080" cy="3419640"/>
            </a:xfrm>
            <a:custGeom>
              <a:avLst/>
              <a:gdLst/>
              <a:ahLst/>
              <a:rect l="l" t="t" r="r" b="b"/>
              <a:pathLst>
                <a:path w="6454" h="4461">
                  <a:moveTo>
                    <a:pt x="4145" y="3290"/>
                  </a:moveTo>
                  <a:lnTo>
                    <a:pt x="6454" y="0"/>
                  </a:lnTo>
                  <a:lnTo>
                    <a:pt x="6454" y="307"/>
                  </a:lnTo>
                  <a:lnTo>
                    <a:pt x="4855" y="4461"/>
                  </a:lnTo>
                  <a:lnTo>
                    <a:pt x="4308" y="3505"/>
                  </a:lnTo>
                  <a:lnTo>
                    <a:pt x="0" y="3693"/>
                  </a:lnTo>
                  <a:lnTo>
                    <a:pt x="4145" y="329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829280" y="2762640"/>
              <a:ext cx="644040" cy="212760"/>
            </a:xfrm>
            <a:custGeom>
              <a:avLst/>
              <a:gdLst/>
              <a:ahLst/>
              <a:rect l="l" t="t" r="r" b="b"/>
              <a:pathLst>
                <a:path w="1006" h="276">
                  <a:moveTo>
                    <a:pt x="0" y="161"/>
                  </a:moveTo>
                  <a:lnTo>
                    <a:pt x="251" y="73"/>
                  </a:lnTo>
                  <a:lnTo>
                    <a:pt x="384" y="44"/>
                  </a:lnTo>
                  <a:lnTo>
                    <a:pt x="503" y="0"/>
                  </a:lnTo>
                  <a:lnTo>
                    <a:pt x="1006" y="73"/>
                  </a:lnTo>
                  <a:lnTo>
                    <a:pt x="873" y="276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108200" y="3219480"/>
              <a:ext cx="1061640" cy="300240"/>
            </a:xfrm>
            <a:custGeom>
              <a:avLst/>
              <a:gdLst/>
              <a:ahLst/>
              <a:rect l="l" t="t" r="r" b="b"/>
              <a:pathLst>
                <a:path w="1659" h="391">
                  <a:moveTo>
                    <a:pt x="0" y="188"/>
                  </a:moveTo>
                  <a:lnTo>
                    <a:pt x="269" y="0"/>
                  </a:lnTo>
                  <a:lnTo>
                    <a:pt x="1659" y="188"/>
                  </a:lnTo>
                  <a:lnTo>
                    <a:pt x="1511" y="391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663960" y="3729960"/>
              <a:ext cx="1194480" cy="344520"/>
            </a:xfrm>
            <a:custGeom>
              <a:avLst/>
              <a:gdLst/>
              <a:ahLst/>
              <a:rect l="l" t="t" r="r" b="b"/>
              <a:pathLst>
                <a:path w="1866" h="449">
                  <a:moveTo>
                    <a:pt x="0" y="203"/>
                  </a:moveTo>
                  <a:lnTo>
                    <a:pt x="179" y="0"/>
                  </a:lnTo>
                  <a:lnTo>
                    <a:pt x="1866" y="246"/>
                  </a:lnTo>
                  <a:lnTo>
                    <a:pt x="1732" y="449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426000" y="4272480"/>
              <a:ext cx="48240" cy="11880"/>
            </a:xfrm>
            <a:custGeom>
              <a:avLst/>
              <a:gdLst/>
              <a:ahLst/>
              <a:rect l="l" t="t" r="r" b="b"/>
              <a:pathLst>
                <a:path w="75" h="16">
                  <a:moveTo>
                    <a:pt x="15" y="0"/>
                  </a:moveTo>
                  <a:lnTo>
                    <a:pt x="75" y="16"/>
                  </a:lnTo>
                  <a:lnTo>
                    <a:pt x="0" y="1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c53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010920" y="5405400"/>
              <a:ext cx="538920" cy="254160"/>
            </a:xfrm>
            <a:custGeom>
              <a:avLst/>
              <a:gdLst/>
              <a:ahLst/>
              <a:rect l="l" t="t" r="r" b="b"/>
              <a:pathLst>
                <a:path w="843" h="332">
                  <a:moveTo>
                    <a:pt x="0" y="217"/>
                  </a:moveTo>
                  <a:lnTo>
                    <a:pt x="13" y="102"/>
                  </a:lnTo>
                  <a:lnTo>
                    <a:pt x="42" y="0"/>
                  </a:lnTo>
                  <a:lnTo>
                    <a:pt x="175" y="14"/>
                  </a:lnTo>
                  <a:lnTo>
                    <a:pt x="843" y="332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267080" y="4461120"/>
              <a:ext cx="699120" cy="222480"/>
            </a:xfrm>
            <a:custGeom>
              <a:avLst/>
              <a:gdLst/>
              <a:ahLst/>
              <a:rect l="l" t="t" r="r" b="b"/>
              <a:pathLst>
                <a:path w="1092" h="290">
                  <a:moveTo>
                    <a:pt x="0" y="161"/>
                  </a:moveTo>
                  <a:lnTo>
                    <a:pt x="58" y="0"/>
                  </a:lnTo>
                  <a:lnTo>
                    <a:pt x="1092" y="146"/>
                  </a:lnTo>
                  <a:lnTo>
                    <a:pt x="1035" y="290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c53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999400" y="2308680"/>
              <a:ext cx="2786400" cy="2031120"/>
            </a:xfrm>
            <a:custGeom>
              <a:avLst/>
              <a:gdLst/>
              <a:ahLst/>
              <a:rect l="l" t="t" r="r" b="b"/>
              <a:pathLst>
                <a:path w="4351" h="2650">
                  <a:moveTo>
                    <a:pt x="0" y="2593"/>
                  </a:moveTo>
                  <a:lnTo>
                    <a:pt x="74" y="2447"/>
                  </a:lnTo>
                  <a:lnTo>
                    <a:pt x="165" y="2303"/>
                  </a:lnTo>
                  <a:lnTo>
                    <a:pt x="266" y="2172"/>
                  </a:lnTo>
                  <a:lnTo>
                    <a:pt x="357" y="2040"/>
                  </a:lnTo>
                  <a:lnTo>
                    <a:pt x="564" y="1781"/>
                  </a:lnTo>
                  <a:lnTo>
                    <a:pt x="787" y="1549"/>
                  </a:lnTo>
                  <a:lnTo>
                    <a:pt x="917" y="1433"/>
                  </a:lnTo>
                  <a:lnTo>
                    <a:pt x="1036" y="1316"/>
                  </a:lnTo>
                  <a:lnTo>
                    <a:pt x="1288" y="1101"/>
                  </a:lnTo>
                  <a:lnTo>
                    <a:pt x="1422" y="1000"/>
                  </a:lnTo>
                  <a:lnTo>
                    <a:pt x="1555" y="911"/>
                  </a:lnTo>
                  <a:lnTo>
                    <a:pt x="1835" y="723"/>
                  </a:lnTo>
                  <a:lnTo>
                    <a:pt x="1984" y="652"/>
                  </a:lnTo>
                  <a:lnTo>
                    <a:pt x="2132" y="566"/>
                  </a:lnTo>
                  <a:lnTo>
                    <a:pt x="2428" y="420"/>
                  </a:lnTo>
                  <a:lnTo>
                    <a:pt x="2591" y="360"/>
                  </a:lnTo>
                  <a:lnTo>
                    <a:pt x="2739" y="303"/>
                  </a:lnTo>
                  <a:lnTo>
                    <a:pt x="2902" y="245"/>
                  </a:lnTo>
                  <a:lnTo>
                    <a:pt x="3050" y="188"/>
                  </a:lnTo>
                  <a:lnTo>
                    <a:pt x="3213" y="145"/>
                  </a:lnTo>
                  <a:lnTo>
                    <a:pt x="3376" y="115"/>
                  </a:lnTo>
                  <a:lnTo>
                    <a:pt x="3537" y="71"/>
                  </a:lnTo>
                  <a:lnTo>
                    <a:pt x="3701" y="44"/>
                  </a:lnTo>
                  <a:lnTo>
                    <a:pt x="3864" y="30"/>
                  </a:lnTo>
                  <a:lnTo>
                    <a:pt x="4027" y="13"/>
                  </a:lnTo>
                  <a:lnTo>
                    <a:pt x="4190" y="0"/>
                  </a:lnTo>
                  <a:lnTo>
                    <a:pt x="4351" y="0"/>
                  </a:lnTo>
                  <a:lnTo>
                    <a:pt x="4351" y="115"/>
                  </a:lnTo>
                  <a:lnTo>
                    <a:pt x="4190" y="130"/>
                  </a:lnTo>
                  <a:lnTo>
                    <a:pt x="4027" y="130"/>
                  </a:lnTo>
                  <a:lnTo>
                    <a:pt x="3879" y="145"/>
                  </a:lnTo>
                  <a:lnTo>
                    <a:pt x="3716" y="174"/>
                  </a:lnTo>
                  <a:lnTo>
                    <a:pt x="3553" y="201"/>
                  </a:lnTo>
                  <a:lnTo>
                    <a:pt x="3405" y="232"/>
                  </a:lnTo>
                  <a:lnTo>
                    <a:pt x="3094" y="318"/>
                  </a:lnTo>
                  <a:lnTo>
                    <a:pt x="2931" y="360"/>
                  </a:lnTo>
                  <a:lnTo>
                    <a:pt x="2783" y="420"/>
                  </a:lnTo>
                  <a:lnTo>
                    <a:pt x="2487" y="535"/>
                  </a:lnTo>
                  <a:lnTo>
                    <a:pt x="2340" y="608"/>
                  </a:lnTo>
                  <a:lnTo>
                    <a:pt x="2192" y="681"/>
                  </a:lnTo>
                  <a:lnTo>
                    <a:pt x="2044" y="754"/>
                  </a:lnTo>
                  <a:lnTo>
                    <a:pt x="1910" y="838"/>
                  </a:lnTo>
                  <a:lnTo>
                    <a:pt x="1762" y="911"/>
                  </a:lnTo>
                  <a:lnTo>
                    <a:pt x="1627" y="1013"/>
                  </a:lnTo>
                  <a:lnTo>
                    <a:pt x="1363" y="1201"/>
                  </a:lnTo>
                  <a:lnTo>
                    <a:pt x="1244" y="1303"/>
                  </a:lnTo>
                  <a:lnTo>
                    <a:pt x="1126" y="1405"/>
                  </a:lnTo>
                  <a:lnTo>
                    <a:pt x="888" y="1622"/>
                  </a:lnTo>
                  <a:lnTo>
                    <a:pt x="769" y="1737"/>
                  </a:lnTo>
                  <a:lnTo>
                    <a:pt x="666" y="1867"/>
                  </a:lnTo>
                  <a:lnTo>
                    <a:pt x="564" y="1982"/>
                  </a:lnTo>
                  <a:lnTo>
                    <a:pt x="460" y="2115"/>
                  </a:lnTo>
                  <a:lnTo>
                    <a:pt x="370" y="2245"/>
                  </a:lnTo>
                  <a:lnTo>
                    <a:pt x="266" y="2374"/>
                  </a:lnTo>
                  <a:lnTo>
                    <a:pt x="103" y="2650"/>
                  </a:lnTo>
                  <a:lnTo>
                    <a:pt x="0" y="259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658840" y="5305680"/>
              <a:ext cx="132120" cy="698760"/>
            </a:xfrm>
            <a:custGeom>
              <a:avLst/>
              <a:gdLst/>
              <a:ahLst/>
              <a:rect l="l" t="t" r="r" b="b"/>
              <a:pathLst>
                <a:path w="205" h="911">
                  <a:moveTo>
                    <a:pt x="205" y="15"/>
                  </a:moveTo>
                  <a:lnTo>
                    <a:pt x="163" y="247"/>
                  </a:lnTo>
                  <a:lnTo>
                    <a:pt x="132" y="478"/>
                  </a:lnTo>
                  <a:lnTo>
                    <a:pt x="132" y="695"/>
                  </a:lnTo>
                  <a:lnTo>
                    <a:pt x="132" y="911"/>
                  </a:lnTo>
                  <a:lnTo>
                    <a:pt x="13" y="911"/>
                  </a:lnTo>
                  <a:lnTo>
                    <a:pt x="0" y="681"/>
                  </a:lnTo>
                  <a:lnTo>
                    <a:pt x="13" y="462"/>
                  </a:lnTo>
                  <a:lnTo>
                    <a:pt x="13" y="347"/>
                  </a:lnTo>
                  <a:lnTo>
                    <a:pt x="31" y="232"/>
                  </a:lnTo>
                  <a:lnTo>
                    <a:pt x="75" y="0"/>
                  </a:lnTo>
                  <a:lnTo>
                    <a:pt x="205" y="15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658840" y="5305680"/>
              <a:ext cx="132120" cy="698760"/>
            </a:xfrm>
            <a:custGeom>
              <a:avLst/>
              <a:gdLst/>
              <a:ahLst/>
              <a:rect l="l" t="t" r="r" b="b"/>
              <a:pathLst>
                <a:path w="205" h="911">
                  <a:moveTo>
                    <a:pt x="205" y="15"/>
                  </a:moveTo>
                  <a:lnTo>
                    <a:pt x="163" y="247"/>
                  </a:lnTo>
                  <a:lnTo>
                    <a:pt x="132" y="478"/>
                  </a:lnTo>
                  <a:lnTo>
                    <a:pt x="132" y="695"/>
                  </a:lnTo>
                  <a:lnTo>
                    <a:pt x="132" y="911"/>
                  </a:lnTo>
                  <a:lnTo>
                    <a:pt x="13" y="911"/>
                  </a:lnTo>
                  <a:lnTo>
                    <a:pt x="0" y="681"/>
                  </a:lnTo>
                  <a:lnTo>
                    <a:pt x="13" y="462"/>
                  </a:lnTo>
                  <a:lnTo>
                    <a:pt x="13" y="347"/>
                  </a:lnTo>
                  <a:lnTo>
                    <a:pt x="31" y="232"/>
                  </a:lnTo>
                  <a:lnTo>
                    <a:pt x="75" y="0"/>
                  </a:lnTo>
                  <a:lnTo>
                    <a:pt x="205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079960" y="4662000"/>
              <a:ext cx="3251160" cy="1342800"/>
            </a:xfrm>
            <a:custGeom>
              <a:avLst/>
              <a:gdLst/>
              <a:ahLst/>
              <a:rect l="l" t="t" r="r" b="b"/>
              <a:pathLst>
                <a:path w="5077" h="1750">
                  <a:moveTo>
                    <a:pt x="3879" y="1403"/>
                  </a:moveTo>
                  <a:lnTo>
                    <a:pt x="3820" y="1750"/>
                  </a:lnTo>
                  <a:lnTo>
                    <a:pt x="3597" y="1750"/>
                  </a:lnTo>
                  <a:lnTo>
                    <a:pt x="3612" y="1591"/>
                  </a:lnTo>
                  <a:lnTo>
                    <a:pt x="0" y="0"/>
                  </a:lnTo>
                  <a:lnTo>
                    <a:pt x="5077" y="693"/>
                  </a:lnTo>
                  <a:lnTo>
                    <a:pt x="3879" y="140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079960" y="4662000"/>
              <a:ext cx="3251160" cy="1342800"/>
            </a:xfrm>
            <a:custGeom>
              <a:avLst/>
              <a:gdLst/>
              <a:ahLst/>
              <a:rect l="l" t="t" r="r" b="b"/>
              <a:pathLst>
                <a:path w="5077" h="1750">
                  <a:moveTo>
                    <a:pt x="3879" y="1403"/>
                  </a:moveTo>
                  <a:lnTo>
                    <a:pt x="3820" y="1750"/>
                  </a:lnTo>
                  <a:lnTo>
                    <a:pt x="3597" y="1750"/>
                  </a:lnTo>
                  <a:lnTo>
                    <a:pt x="3612" y="1591"/>
                  </a:lnTo>
                  <a:lnTo>
                    <a:pt x="0" y="0"/>
                  </a:lnTo>
                  <a:lnTo>
                    <a:pt x="5077" y="693"/>
                  </a:lnTo>
                  <a:lnTo>
                    <a:pt x="3879" y="140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075160" y="5206320"/>
              <a:ext cx="1280160" cy="798480"/>
            </a:xfrm>
            <a:custGeom>
              <a:avLst/>
              <a:gdLst/>
              <a:ahLst/>
              <a:rect l="l" t="t" r="r" b="b"/>
              <a:pathLst>
                <a:path w="1998" h="1042">
                  <a:moveTo>
                    <a:pt x="962" y="941"/>
                  </a:moveTo>
                  <a:lnTo>
                    <a:pt x="1998" y="898"/>
                  </a:lnTo>
                  <a:lnTo>
                    <a:pt x="1998" y="1042"/>
                  </a:lnTo>
                  <a:lnTo>
                    <a:pt x="0" y="1042"/>
                  </a:lnTo>
                  <a:lnTo>
                    <a:pt x="399" y="0"/>
                  </a:lnTo>
                  <a:lnTo>
                    <a:pt x="962" y="941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075160" y="5206320"/>
              <a:ext cx="1280160" cy="798480"/>
            </a:xfrm>
            <a:custGeom>
              <a:avLst/>
              <a:gdLst/>
              <a:ahLst/>
              <a:rect l="l" t="t" r="r" b="b"/>
              <a:pathLst>
                <a:path w="1998" h="1042">
                  <a:moveTo>
                    <a:pt x="962" y="941"/>
                  </a:moveTo>
                  <a:lnTo>
                    <a:pt x="1998" y="898"/>
                  </a:lnTo>
                  <a:lnTo>
                    <a:pt x="1998" y="1042"/>
                  </a:lnTo>
                  <a:lnTo>
                    <a:pt x="0" y="1042"/>
                  </a:lnTo>
                  <a:lnTo>
                    <a:pt x="399" y="0"/>
                  </a:lnTo>
                  <a:lnTo>
                    <a:pt x="962" y="9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331480" y="2906640"/>
              <a:ext cx="1023840" cy="2444760"/>
            </a:xfrm>
            <a:custGeom>
              <a:avLst/>
              <a:gdLst/>
              <a:ahLst/>
              <a:rect l="l" t="t" r="r" b="b"/>
              <a:pathLst>
                <a:path w="1599" h="3188">
                  <a:moveTo>
                    <a:pt x="1200" y="2274"/>
                  </a:moveTo>
                  <a:lnTo>
                    <a:pt x="1599" y="0"/>
                  </a:lnTo>
                  <a:lnTo>
                    <a:pt x="1599" y="969"/>
                  </a:lnTo>
                  <a:lnTo>
                    <a:pt x="1467" y="2086"/>
                  </a:lnTo>
                  <a:lnTo>
                    <a:pt x="1599" y="2131"/>
                  </a:lnTo>
                  <a:lnTo>
                    <a:pt x="1599" y="3188"/>
                  </a:lnTo>
                  <a:lnTo>
                    <a:pt x="0" y="2969"/>
                  </a:lnTo>
                  <a:lnTo>
                    <a:pt x="1200" y="2274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331480" y="2906640"/>
              <a:ext cx="1023840" cy="2444760"/>
            </a:xfrm>
            <a:custGeom>
              <a:avLst/>
              <a:gdLst/>
              <a:ahLst/>
              <a:rect l="l" t="t" r="r" b="b"/>
              <a:pathLst>
                <a:path w="1599" h="3188">
                  <a:moveTo>
                    <a:pt x="1200" y="2274"/>
                  </a:moveTo>
                  <a:lnTo>
                    <a:pt x="1599" y="0"/>
                  </a:lnTo>
                  <a:lnTo>
                    <a:pt x="1599" y="969"/>
                  </a:lnTo>
                  <a:lnTo>
                    <a:pt x="1467" y="2086"/>
                  </a:lnTo>
                  <a:lnTo>
                    <a:pt x="1599" y="2131"/>
                  </a:lnTo>
                  <a:lnTo>
                    <a:pt x="1599" y="3188"/>
                  </a:lnTo>
                  <a:lnTo>
                    <a:pt x="0" y="2969"/>
                  </a:lnTo>
                  <a:lnTo>
                    <a:pt x="1200" y="2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223600" y="1773720"/>
              <a:ext cx="4132080" cy="3419640"/>
            </a:xfrm>
            <a:custGeom>
              <a:avLst/>
              <a:gdLst/>
              <a:ahLst/>
              <a:rect l="l" t="t" r="r" b="b"/>
              <a:pathLst>
                <a:path w="6454" h="4461">
                  <a:moveTo>
                    <a:pt x="4145" y="3290"/>
                  </a:moveTo>
                  <a:lnTo>
                    <a:pt x="6454" y="0"/>
                  </a:lnTo>
                  <a:lnTo>
                    <a:pt x="6454" y="307"/>
                  </a:lnTo>
                  <a:lnTo>
                    <a:pt x="4855" y="4461"/>
                  </a:lnTo>
                  <a:lnTo>
                    <a:pt x="4308" y="3505"/>
                  </a:lnTo>
                  <a:lnTo>
                    <a:pt x="0" y="3693"/>
                  </a:lnTo>
                  <a:lnTo>
                    <a:pt x="4145" y="3290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223600" y="1773720"/>
              <a:ext cx="4132080" cy="3419640"/>
            </a:xfrm>
            <a:custGeom>
              <a:avLst/>
              <a:gdLst/>
              <a:ahLst/>
              <a:rect l="l" t="t" r="r" b="b"/>
              <a:pathLst>
                <a:path w="6454" h="4461">
                  <a:moveTo>
                    <a:pt x="4145" y="3290"/>
                  </a:moveTo>
                  <a:lnTo>
                    <a:pt x="6454" y="0"/>
                  </a:lnTo>
                  <a:lnTo>
                    <a:pt x="6454" y="307"/>
                  </a:lnTo>
                  <a:lnTo>
                    <a:pt x="4855" y="4461"/>
                  </a:lnTo>
                  <a:lnTo>
                    <a:pt x="4308" y="3505"/>
                  </a:lnTo>
                  <a:lnTo>
                    <a:pt x="0" y="3693"/>
                  </a:lnTo>
                  <a:lnTo>
                    <a:pt x="4145" y="329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829280" y="2762640"/>
              <a:ext cx="644040" cy="212760"/>
            </a:xfrm>
            <a:custGeom>
              <a:avLst/>
              <a:gdLst/>
              <a:ahLst/>
              <a:rect l="l" t="t" r="r" b="b"/>
              <a:pathLst>
                <a:path w="1006" h="276">
                  <a:moveTo>
                    <a:pt x="0" y="161"/>
                  </a:moveTo>
                  <a:lnTo>
                    <a:pt x="251" y="73"/>
                  </a:lnTo>
                  <a:lnTo>
                    <a:pt x="384" y="44"/>
                  </a:lnTo>
                  <a:lnTo>
                    <a:pt x="503" y="0"/>
                  </a:lnTo>
                  <a:lnTo>
                    <a:pt x="1006" y="73"/>
                  </a:lnTo>
                  <a:lnTo>
                    <a:pt x="873" y="276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08200" y="3219480"/>
              <a:ext cx="1061640" cy="300240"/>
            </a:xfrm>
            <a:custGeom>
              <a:avLst/>
              <a:gdLst/>
              <a:ahLst/>
              <a:rect l="l" t="t" r="r" b="b"/>
              <a:pathLst>
                <a:path w="1659" h="391">
                  <a:moveTo>
                    <a:pt x="0" y="188"/>
                  </a:moveTo>
                  <a:lnTo>
                    <a:pt x="269" y="0"/>
                  </a:lnTo>
                  <a:lnTo>
                    <a:pt x="1659" y="188"/>
                  </a:lnTo>
                  <a:lnTo>
                    <a:pt x="1511" y="391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663960" y="3729960"/>
              <a:ext cx="1194480" cy="344520"/>
            </a:xfrm>
            <a:custGeom>
              <a:avLst/>
              <a:gdLst/>
              <a:ahLst/>
              <a:rect l="l" t="t" r="r" b="b"/>
              <a:pathLst>
                <a:path w="1866" h="449">
                  <a:moveTo>
                    <a:pt x="0" y="203"/>
                  </a:moveTo>
                  <a:lnTo>
                    <a:pt x="179" y="0"/>
                  </a:lnTo>
                  <a:lnTo>
                    <a:pt x="1866" y="246"/>
                  </a:lnTo>
                  <a:lnTo>
                    <a:pt x="1732" y="449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426000" y="4272480"/>
              <a:ext cx="48240" cy="11880"/>
            </a:xfrm>
            <a:custGeom>
              <a:avLst/>
              <a:gdLst/>
              <a:ahLst/>
              <a:rect l="l" t="t" r="r" b="b"/>
              <a:pathLst>
                <a:path w="75" h="16">
                  <a:moveTo>
                    <a:pt x="15" y="0"/>
                  </a:moveTo>
                  <a:lnTo>
                    <a:pt x="75" y="16"/>
                  </a:lnTo>
                  <a:lnTo>
                    <a:pt x="0" y="1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c53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010920" y="5405400"/>
              <a:ext cx="538920" cy="254160"/>
            </a:xfrm>
            <a:custGeom>
              <a:avLst/>
              <a:gdLst/>
              <a:ahLst/>
              <a:rect l="l" t="t" r="r" b="b"/>
              <a:pathLst>
                <a:path w="843" h="332">
                  <a:moveTo>
                    <a:pt x="0" y="217"/>
                  </a:moveTo>
                  <a:lnTo>
                    <a:pt x="13" y="102"/>
                  </a:lnTo>
                  <a:lnTo>
                    <a:pt x="42" y="0"/>
                  </a:lnTo>
                  <a:lnTo>
                    <a:pt x="175" y="14"/>
                  </a:lnTo>
                  <a:lnTo>
                    <a:pt x="843" y="332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267080" y="4461120"/>
              <a:ext cx="699120" cy="222480"/>
            </a:xfrm>
            <a:custGeom>
              <a:avLst/>
              <a:gdLst/>
              <a:ahLst/>
              <a:rect l="l" t="t" r="r" b="b"/>
              <a:pathLst>
                <a:path w="1092" h="290">
                  <a:moveTo>
                    <a:pt x="0" y="161"/>
                  </a:moveTo>
                  <a:lnTo>
                    <a:pt x="58" y="0"/>
                  </a:lnTo>
                  <a:lnTo>
                    <a:pt x="1092" y="146"/>
                  </a:lnTo>
                  <a:lnTo>
                    <a:pt x="1035" y="290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c53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3276720" y="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Fin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3505320" y="64008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ManTech Propriet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066680" y="1447920"/>
            <a:ext cx="777240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394240" y="750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85800" y="914400"/>
            <a:ext cx="6553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Hiring pac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Employees and Consult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Let show consultants how to do business in Belg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Compensation plans with innovation, giving  Mantech recruiting advantages and hiring o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4267080" y="1773720"/>
            <a:ext cx="5088600" cy="4231080"/>
            <a:chOff x="4267080" y="1773720"/>
            <a:chExt cx="5088600" cy="4231080"/>
          </a:xfrm>
        </p:grpSpPr>
        <p:sp>
          <p:nvSpPr>
            <p:cNvPr id="448" name=""/>
            <p:cNvSpPr/>
            <p:nvPr/>
          </p:nvSpPr>
          <p:spPr>
            <a:xfrm>
              <a:off x="5999400" y="2308680"/>
              <a:ext cx="2786400" cy="2031120"/>
            </a:xfrm>
            <a:custGeom>
              <a:avLst/>
              <a:gdLst/>
              <a:ahLst/>
              <a:rect l="l" t="t" r="r" b="b"/>
              <a:pathLst>
                <a:path w="4351" h="2650">
                  <a:moveTo>
                    <a:pt x="0" y="2593"/>
                  </a:moveTo>
                  <a:lnTo>
                    <a:pt x="74" y="2447"/>
                  </a:lnTo>
                  <a:lnTo>
                    <a:pt x="165" y="2303"/>
                  </a:lnTo>
                  <a:lnTo>
                    <a:pt x="266" y="2172"/>
                  </a:lnTo>
                  <a:lnTo>
                    <a:pt x="357" y="2040"/>
                  </a:lnTo>
                  <a:lnTo>
                    <a:pt x="564" y="1781"/>
                  </a:lnTo>
                  <a:lnTo>
                    <a:pt x="787" y="1549"/>
                  </a:lnTo>
                  <a:lnTo>
                    <a:pt x="917" y="1433"/>
                  </a:lnTo>
                  <a:lnTo>
                    <a:pt x="1036" y="1316"/>
                  </a:lnTo>
                  <a:lnTo>
                    <a:pt x="1288" y="1101"/>
                  </a:lnTo>
                  <a:lnTo>
                    <a:pt x="1422" y="1000"/>
                  </a:lnTo>
                  <a:lnTo>
                    <a:pt x="1555" y="911"/>
                  </a:lnTo>
                  <a:lnTo>
                    <a:pt x="1835" y="723"/>
                  </a:lnTo>
                  <a:lnTo>
                    <a:pt x="1984" y="652"/>
                  </a:lnTo>
                  <a:lnTo>
                    <a:pt x="2132" y="566"/>
                  </a:lnTo>
                  <a:lnTo>
                    <a:pt x="2428" y="420"/>
                  </a:lnTo>
                  <a:lnTo>
                    <a:pt x="2591" y="360"/>
                  </a:lnTo>
                  <a:lnTo>
                    <a:pt x="2739" y="303"/>
                  </a:lnTo>
                  <a:lnTo>
                    <a:pt x="2902" y="245"/>
                  </a:lnTo>
                  <a:lnTo>
                    <a:pt x="3050" y="188"/>
                  </a:lnTo>
                  <a:lnTo>
                    <a:pt x="3213" y="145"/>
                  </a:lnTo>
                  <a:lnTo>
                    <a:pt x="3376" y="115"/>
                  </a:lnTo>
                  <a:lnTo>
                    <a:pt x="3537" y="71"/>
                  </a:lnTo>
                  <a:lnTo>
                    <a:pt x="3701" y="44"/>
                  </a:lnTo>
                  <a:lnTo>
                    <a:pt x="3864" y="30"/>
                  </a:lnTo>
                  <a:lnTo>
                    <a:pt x="4027" y="13"/>
                  </a:lnTo>
                  <a:lnTo>
                    <a:pt x="4190" y="0"/>
                  </a:lnTo>
                  <a:lnTo>
                    <a:pt x="4351" y="0"/>
                  </a:lnTo>
                  <a:lnTo>
                    <a:pt x="4351" y="115"/>
                  </a:lnTo>
                  <a:lnTo>
                    <a:pt x="4190" y="130"/>
                  </a:lnTo>
                  <a:lnTo>
                    <a:pt x="4027" y="130"/>
                  </a:lnTo>
                  <a:lnTo>
                    <a:pt x="3879" y="145"/>
                  </a:lnTo>
                  <a:lnTo>
                    <a:pt x="3716" y="174"/>
                  </a:lnTo>
                  <a:lnTo>
                    <a:pt x="3553" y="201"/>
                  </a:lnTo>
                  <a:lnTo>
                    <a:pt x="3405" y="232"/>
                  </a:lnTo>
                  <a:lnTo>
                    <a:pt x="3094" y="318"/>
                  </a:lnTo>
                  <a:lnTo>
                    <a:pt x="2931" y="360"/>
                  </a:lnTo>
                  <a:lnTo>
                    <a:pt x="2783" y="420"/>
                  </a:lnTo>
                  <a:lnTo>
                    <a:pt x="2487" y="535"/>
                  </a:lnTo>
                  <a:lnTo>
                    <a:pt x="2340" y="608"/>
                  </a:lnTo>
                  <a:lnTo>
                    <a:pt x="2192" y="681"/>
                  </a:lnTo>
                  <a:lnTo>
                    <a:pt x="2044" y="754"/>
                  </a:lnTo>
                  <a:lnTo>
                    <a:pt x="1910" y="838"/>
                  </a:lnTo>
                  <a:lnTo>
                    <a:pt x="1762" y="911"/>
                  </a:lnTo>
                  <a:lnTo>
                    <a:pt x="1627" y="1013"/>
                  </a:lnTo>
                  <a:lnTo>
                    <a:pt x="1363" y="1201"/>
                  </a:lnTo>
                  <a:lnTo>
                    <a:pt x="1244" y="1303"/>
                  </a:lnTo>
                  <a:lnTo>
                    <a:pt x="1126" y="1405"/>
                  </a:lnTo>
                  <a:lnTo>
                    <a:pt x="888" y="1622"/>
                  </a:lnTo>
                  <a:lnTo>
                    <a:pt x="769" y="1737"/>
                  </a:lnTo>
                  <a:lnTo>
                    <a:pt x="666" y="1867"/>
                  </a:lnTo>
                  <a:lnTo>
                    <a:pt x="564" y="1982"/>
                  </a:lnTo>
                  <a:lnTo>
                    <a:pt x="460" y="2115"/>
                  </a:lnTo>
                  <a:lnTo>
                    <a:pt x="370" y="2245"/>
                  </a:lnTo>
                  <a:lnTo>
                    <a:pt x="266" y="2374"/>
                  </a:lnTo>
                  <a:lnTo>
                    <a:pt x="103" y="2650"/>
                  </a:lnTo>
                  <a:lnTo>
                    <a:pt x="0" y="259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658840" y="5305680"/>
              <a:ext cx="132120" cy="698760"/>
            </a:xfrm>
            <a:custGeom>
              <a:avLst/>
              <a:gdLst/>
              <a:ahLst/>
              <a:rect l="l" t="t" r="r" b="b"/>
              <a:pathLst>
                <a:path w="205" h="911">
                  <a:moveTo>
                    <a:pt x="205" y="15"/>
                  </a:moveTo>
                  <a:lnTo>
                    <a:pt x="163" y="247"/>
                  </a:lnTo>
                  <a:lnTo>
                    <a:pt x="132" y="478"/>
                  </a:lnTo>
                  <a:lnTo>
                    <a:pt x="132" y="695"/>
                  </a:lnTo>
                  <a:lnTo>
                    <a:pt x="132" y="911"/>
                  </a:lnTo>
                  <a:lnTo>
                    <a:pt x="13" y="911"/>
                  </a:lnTo>
                  <a:lnTo>
                    <a:pt x="0" y="681"/>
                  </a:lnTo>
                  <a:lnTo>
                    <a:pt x="13" y="462"/>
                  </a:lnTo>
                  <a:lnTo>
                    <a:pt x="13" y="347"/>
                  </a:lnTo>
                  <a:lnTo>
                    <a:pt x="31" y="232"/>
                  </a:lnTo>
                  <a:lnTo>
                    <a:pt x="75" y="0"/>
                  </a:lnTo>
                  <a:lnTo>
                    <a:pt x="205" y="15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658840" y="5305680"/>
              <a:ext cx="132120" cy="698760"/>
            </a:xfrm>
            <a:custGeom>
              <a:avLst/>
              <a:gdLst/>
              <a:ahLst/>
              <a:rect l="l" t="t" r="r" b="b"/>
              <a:pathLst>
                <a:path w="205" h="911">
                  <a:moveTo>
                    <a:pt x="205" y="15"/>
                  </a:moveTo>
                  <a:lnTo>
                    <a:pt x="163" y="247"/>
                  </a:lnTo>
                  <a:lnTo>
                    <a:pt x="132" y="478"/>
                  </a:lnTo>
                  <a:lnTo>
                    <a:pt x="132" y="695"/>
                  </a:lnTo>
                  <a:lnTo>
                    <a:pt x="132" y="911"/>
                  </a:lnTo>
                  <a:lnTo>
                    <a:pt x="13" y="911"/>
                  </a:lnTo>
                  <a:lnTo>
                    <a:pt x="0" y="681"/>
                  </a:lnTo>
                  <a:lnTo>
                    <a:pt x="13" y="462"/>
                  </a:lnTo>
                  <a:lnTo>
                    <a:pt x="13" y="347"/>
                  </a:lnTo>
                  <a:lnTo>
                    <a:pt x="31" y="232"/>
                  </a:lnTo>
                  <a:lnTo>
                    <a:pt x="75" y="0"/>
                  </a:lnTo>
                  <a:lnTo>
                    <a:pt x="205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079960" y="4662000"/>
              <a:ext cx="3251160" cy="1342800"/>
            </a:xfrm>
            <a:custGeom>
              <a:avLst/>
              <a:gdLst/>
              <a:ahLst/>
              <a:rect l="l" t="t" r="r" b="b"/>
              <a:pathLst>
                <a:path w="5077" h="1750">
                  <a:moveTo>
                    <a:pt x="3879" y="1403"/>
                  </a:moveTo>
                  <a:lnTo>
                    <a:pt x="3820" y="1750"/>
                  </a:lnTo>
                  <a:lnTo>
                    <a:pt x="3597" y="1750"/>
                  </a:lnTo>
                  <a:lnTo>
                    <a:pt x="3612" y="1591"/>
                  </a:lnTo>
                  <a:lnTo>
                    <a:pt x="0" y="0"/>
                  </a:lnTo>
                  <a:lnTo>
                    <a:pt x="5077" y="693"/>
                  </a:lnTo>
                  <a:lnTo>
                    <a:pt x="3879" y="140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079960" y="4662000"/>
              <a:ext cx="3251160" cy="1342800"/>
            </a:xfrm>
            <a:custGeom>
              <a:avLst/>
              <a:gdLst/>
              <a:ahLst/>
              <a:rect l="l" t="t" r="r" b="b"/>
              <a:pathLst>
                <a:path w="5077" h="1750">
                  <a:moveTo>
                    <a:pt x="3879" y="1403"/>
                  </a:moveTo>
                  <a:lnTo>
                    <a:pt x="3820" y="1750"/>
                  </a:lnTo>
                  <a:lnTo>
                    <a:pt x="3597" y="1750"/>
                  </a:lnTo>
                  <a:lnTo>
                    <a:pt x="3612" y="1591"/>
                  </a:lnTo>
                  <a:lnTo>
                    <a:pt x="0" y="0"/>
                  </a:lnTo>
                  <a:lnTo>
                    <a:pt x="5077" y="693"/>
                  </a:lnTo>
                  <a:lnTo>
                    <a:pt x="3879" y="140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075160" y="5206320"/>
              <a:ext cx="1280160" cy="798480"/>
            </a:xfrm>
            <a:custGeom>
              <a:avLst/>
              <a:gdLst/>
              <a:ahLst/>
              <a:rect l="l" t="t" r="r" b="b"/>
              <a:pathLst>
                <a:path w="1998" h="1042">
                  <a:moveTo>
                    <a:pt x="962" y="941"/>
                  </a:moveTo>
                  <a:lnTo>
                    <a:pt x="1998" y="898"/>
                  </a:lnTo>
                  <a:lnTo>
                    <a:pt x="1998" y="1042"/>
                  </a:lnTo>
                  <a:lnTo>
                    <a:pt x="0" y="1042"/>
                  </a:lnTo>
                  <a:lnTo>
                    <a:pt x="399" y="0"/>
                  </a:lnTo>
                  <a:lnTo>
                    <a:pt x="962" y="941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8075160" y="5206320"/>
              <a:ext cx="1280160" cy="798480"/>
            </a:xfrm>
            <a:custGeom>
              <a:avLst/>
              <a:gdLst/>
              <a:ahLst/>
              <a:rect l="l" t="t" r="r" b="b"/>
              <a:pathLst>
                <a:path w="1998" h="1042">
                  <a:moveTo>
                    <a:pt x="962" y="941"/>
                  </a:moveTo>
                  <a:lnTo>
                    <a:pt x="1998" y="898"/>
                  </a:lnTo>
                  <a:lnTo>
                    <a:pt x="1998" y="1042"/>
                  </a:lnTo>
                  <a:lnTo>
                    <a:pt x="0" y="1042"/>
                  </a:lnTo>
                  <a:lnTo>
                    <a:pt x="399" y="0"/>
                  </a:lnTo>
                  <a:lnTo>
                    <a:pt x="962" y="9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331480" y="2906640"/>
              <a:ext cx="1023840" cy="2444760"/>
            </a:xfrm>
            <a:custGeom>
              <a:avLst/>
              <a:gdLst/>
              <a:ahLst/>
              <a:rect l="l" t="t" r="r" b="b"/>
              <a:pathLst>
                <a:path w="1599" h="3188">
                  <a:moveTo>
                    <a:pt x="1200" y="2274"/>
                  </a:moveTo>
                  <a:lnTo>
                    <a:pt x="1599" y="0"/>
                  </a:lnTo>
                  <a:lnTo>
                    <a:pt x="1599" y="969"/>
                  </a:lnTo>
                  <a:lnTo>
                    <a:pt x="1467" y="2086"/>
                  </a:lnTo>
                  <a:lnTo>
                    <a:pt x="1599" y="2131"/>
                  </a:lnTo>
                  <a:lnTo>
                    <a:pt x="1599" y="3188"/>
                  </a:lnTo>
                  <a:lnTo>
                    <a:pt x="0" y="2969"/>
                  </a:lnTo>
                  <a:lnTo>
                    <a:pt x="1200" y="2274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331480" y="2906640"/>
              <a:ext cx="1023840" cy="2444760"/>
            </a:xfrm>
            <a:custGeom>
              <a:avLst/>
              <a:gdLst/>
              <a:ahLst/>
              <a:rect l="l" t="t" r="r" b="b"/>
              <a:pathLst>
                <a:path w="1599" h="3188">
                  <a:moveTo>
                    <a:pt x="1200" y="2274"/>
                  </a:moveTo>
                  <a:lnTo>
                    <a:pt x="1599" y="0"/>
                  </a:lnTo>
                  <a:lnTo>
                    <a:pt x="1599" y="969"/>
                  </a:lnTo>
                  <a:lnTo>
                    <a:pt x="1467" y="2086"/>
                  </a:lnTo>
                  <a:lnTo>
                    <a:pt x="1599" y="2131"/>
                  </a:lnTo>
                  <a:lnTo>
                    <a:pt x="1599" y="3188"/>
                  </a:lnTo>
                  <a:lnTo>
                    <a:pt x="0" y="2969"/>
                  </a:lnTo>
                  <a:lnTo>
                    <a:pt x="1200" y="2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223600" y="1773720"/>
              <a:ext cx="4132080" cy="3419640"/>
            </a:xfrm>
            <a:custGeom>
              <a:avLst/>
              <a:gdLst/>
              <a:ahLst/>
              <a:rect l="l" t="t" r="r" b="b"/>
              <a:pathLst>
                <a:path w="6454" h="4461">
                  <a:moveTo>
                    <a:pt x="4145" y="3290"/>
                  </a:moveTo>
                  <a:lnTo>
                    <a:pt x="6454" y="0"/>
                  </a:lnTo>
                  <a:lnTo>
                    <a:pt x="6454" y="307"/>
                  </a:lnTo>
                  <a:lnTo>
                    <a:pt x="4855" y="4461"/>
                  </a:lnTo>
                  <a:lnTo>
                    <a:pt x="4308" y="3505"/>
                  </a:lnTo>
                  <a:lnTo>
                    <a:pt x="0" y="3693"/>
                  </a:lnTo>
                  <a:lnTo>
                    <a:pt x="4145" y="3290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223600" y="1773720"/>
              <a:ext cx="4132080" cy="3419640"/>
            </a:xfrm>
            <a:custGeom>
              <a:avLst/>
              <a:gdLst/>
              <a:ahLst/>
              <a:rect l="l" t="t" r="r" b="b"/>
              <a:pathLst>
                <a:path w="6454" h="4461">
                  <a:moveTo>
                    <a:pt x="4145" y="3290"/>
                  </a:moveTo>
                  <a:lnTo>
                    <a:pt x="6454" y="0"/>
                  </a:lnTo>
                  <a:lnTo>
                    <a:pt x="6454" y="307"/>
                  </a:lnTo>
                  <a:lnTo>
                    <a:pt x="4855" y="4461"/>
                  </a:lnTo>
                  <a:lnTo>
                    <a:pt x="4308" y="3505"/>
                  </a:lnTo>
                  <a:lnTo>
                    <a:pt x="0" y="3693"/>
                  </a:lnTo>
                  <a:lnTo>
                    <a:pt x="4145" y="329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829280" y="2762640"/>
              <a:ext cx="644040" cy="212760"/>
            </a:xfrm>
            <a:custGeom>
              <a:avLst/>
              <a:gdLst/>
              <a:ahLst/>
              <a:rect l="l" t="t" r="r" b="b"/>
              <a:pathLst>
                <a:path w="1006" h="276">
                  <a:moveTo>
                    <a:pt x="0" y="161"/>
                  </a:moveTo>
                  <a:lnTo>
                    <a:pt x="251" y="73"/>
                  </a:lnTo>
                  <a:lnTo>
                    <a:pt x="384" y="44"/>
                  </a:lnTo>
                  <a:lnTo>
                    <a:pt x="503" y="0"/>
                  </a:lnTo>
                  <a:lnTo>
                    <a:pt x="1006" y="73"/>
                  </a:lnTo>
                  <a:lnTo>
                    <a:pt x="873" y="276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108200" y="3219480"/>
              <a:ext cx="1061640" cy="300240"/>
            </a:xfrm>
            <a:custGeom>
              <a:avLst/>
              <a:gdLst/>
              <a:ahLst/>
              <a:rect l="l" t="t" r="r" b="b"/>
              <a:pathLst>
                <a:path w="1659" h="391">
                  <a:moveTo>
                    <a:pt x="0" y="188"/>
                  </a:moveTo>
                  <a:lnTo>
                    <a:pt x="269" y="0"/>
                  </a:lnTo>
                  <a:lnTo>
                    <a:pt x="1659" y="188"/>
                  </a:lnTo>
                  <a:lnTo>
                    <a:pt x="1511" y="391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663960" y="3729960"/>
              <a:ext cx="1194480" cy="344520"/>
            </a:xfrm>
            <a:custGeom>
              <a:avLst/>
              <a:gdLst/>
              <a:ahLst/>
              <a:rect l="l" t="t" r="r" b="b"/>
              <a:pathLst>
                <a:path w="1866" h="449">
                  <a:moveTo>
                    <a:pt x="0" y="203"/>
                  </a:moveTo>
                  <a:lnTo>
                    <a:pt x="179" y="0"/>
                  </a:lnTo>
                  <a:lnTo>
                    <a:pt x="1866" y="246"/>
                  </a:lnTo>
                  <a:lnTo>
                    <a:pt x="1732" y="449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426000" y="4272480"/>
              <a:ext cx="48240" cy="11880"/>
            </a:xfrm>
            <a:custGeom>
              <a:avLst/>
              <a:gdLst/>
              <a:ahLst/>
              <a:rect l="l" t="t" r="r" b="b"/>
              <a:pathLst>
                <a:path w="75" h="16">
                  <a:moveTo>
                    <a:pt x="15" y="0"/>
                  </a:moveTo>
                  <a:lnTo>
                    <a:pt x="75" y="16"/>
                  </a:lnTo>
                  <a:lnTo>
                    <a:pt x="0" y="1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c53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010920" y="5405400"/>
              <a:ext cx="538920" cy="254160"/>
            </a:xfrm>
            <a:custGeom>
              <a:avLst/>
              <a:gdLst/>
              <a:ahLst/>
              <a:rect l="l" t="t" r="r" b="b"/>
              <a:pathLst>
                <a:path w="843" h="332">
                  <a:moveTo>
                    <a:pt x="0" y="217"/>
                  </a:moveTo>
                  <a:lnTo>
                    <a:pt x="13" y="102"/>
                  </a:lnTo>
                  <a:lnTo>
                    <a:pt x="42" y="0"/>
                  </a:lnTo>
                  <a:lnTo>
                    <a:pt x="175" y="14"/>
                  </a:lnTo>
                  <a:lnTo>
                    <a:pt x="843" y="332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267080" y="4461120"/>
              <a:ext cx="699120" cy="222480"/>
            </a:xfrm>
            <a:custGeom>
              <a:avLst/>
              <a:gdLst/>
              <a:ahLst/>
              <a:rect l="l" t="t" r="r" b="b"/>
              <a:pathLst>
                <a:path w="1092" h="290">
                  <a:moveTo>
                    <a:pt x="0" y="161"/>
                  </a:moveTo>
                  <a:lnTo>
                    <a:pt x="58" y="0"/>
                  </a:lnTo>
                  <a:lnTo>
                    <a:pt x="1092" y="146"/>
                  </a:lnTo>
                  <a:lnTo>
                    <a:pt x="1035" y="290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c53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999400" y="2308680"/>
              <a:ext cx="2786400" cy="2031120"/>
            </a:xfrm>
            <a:custGeom>
              <a:avLst/>
              <a:gdLst/>
              <a:ahLst/>
              <a:rect l="l" t="t" r="r" b="b"/>
              <a:pathLst>
                <a:path w="4351" h="2650">
                  <a:moveTo>
                    <a:pt x="0" y="2593"/>
                  </a:moveTo>
                  <a:lnTo>
                    <a:pt x="74" y="2447"/>
                  </a:lnTo>
                  <a:lnTo>
                    <a:pt x="165" y="2303"/>
                  </a:lnTo>
                  <a:lnTo>
                    <a:pt x="266" y="2172"/>
                  </a:lnTo>
                  <a:lnTo>
                    <a:pt x="357" y="2040"/>
                  </a:lnTo>
                  <a:lnTo>
                    <a:pt x="564" y="1781"/>
                  </a:lnTo>
                  <a:lnTo>
                    <a:pt x="787" y="1549"/>
                  </a:lnTo>
                  <a:lnTo>
                    <a:pt x="917" y="1433"/>
                  </a:lnTo>
                  <a:lnTo>
                    <a:pt x="1036" y="1316"/>
                  </a:lnTo>
                  <a:lnTo>
                    <a:pt x="1288" y="1101"/>
                  </a:lnTo>
                  <a:lnTo>
                    <a:pt x="1422" y="1000"/>
                  </a:lnTo>
                  <a:lnTo>
                    <a:pt x="1555" y="911"/>
                  </a:lnTo>
                  <a:lnTo>
                    <a:pt x="1835" y="723"/>
                  </a:lnTo>
                  <a:lnTo>
                    <a:pt x="1984" y="652"/>
                  </a:lnTo>
                  <a:lnTo>
                    <a:pt x="2132" y="566"/>
                  </a:lnTo>
                  <a:lnTo>
                    <a:pt x="2428" y="420"/>
                  </a:lnTo>
                  <a:lnTo>
                    <a:pt x="2591" y="360"/>
                  </a:lnTo>
                  <a:lnTo>
                    <a:pt x="2739" y="303"/>
                  </a:lnTo>
                  <a:lnTo>
                    <a:pt x="2902" y="245"/>
                  </a:lnTo>
                  <a:lnTo>
                    <a:pt x="3050" y="188"/>
                  </a:lnTo>
                  <a:lnTo>
                    <a:pt x="3213" y="145"/>
                  </a:lnTo>
                  <a:lnTo>
                    <a:pt x="3376" y="115"/>
                  </a:lnTo>
                  <a:lnTo>
                    <a:pt x="3537" y="71"/>
                  </a:lnTo>
                  <a:lnTo>
                    <a:pt x="3701" y="44"/>
                  </a:lnTo>
                  <a:lnTo>
                    <a:pt x="3864" y="30"/>
                  </a:lnTo>
                  <a:lnTo>
                    <a:pt x="4027" y="13"/>
                  </a:lnTo>
                  <a:lnTo>
                    <a:pt x="4190" y="0"/>
                  </a:lnTo>
                  <a:lnTo>
                    <a:pt x="4351" y="0"/>
                  </a:lnTo>
                  <a:lnTo>
                    <a:pt x="4351" y="115"/>
                  </a:lnTo>
                  <a:lnTo>
                    <a:pt x="4190" y="130"/>
                  </a:lnTo>
                  <a:lnTo>
                    <a:pt x="4027" y="130"/>
                  </a:lnTo>
                  <a:lnTo>
                    <a:pt x="3879" y="145"/>
                  </a:lnTo>
                  <a:lnTo>
                    <a:pt x="3716" y="174"/>
                  </a:lnTo>
                  <a:lnTo>
                    <a:pt x="3553" y="201"/>
                  </a:lnTo>
                  <a:lnTo>
                    <a:pt x="3405" y="232"/>
                  </a:lnTo>
                  <a:lnTo>
                    <a:pt x="3094" y="318"/>
                  </a:lnTo>
                  <a:lnTo>
                    <a:pt x="2931" y="360"/>
                  </a:lnTo>
                  <a:lnTo>
                    <a:pt x="2783" y="420"/>
                  </a:lnTo>
                  <a:lnTo>
                    <a:pt x="2487" y="535"/>
                  </a:lnTo>
                  <a:lnTo>
                    <a:pt x="2340" y="608"/>
                  </a:lnTo>
                  <a:lnTo>
                    <a:pt x="2192" y="681"/>
                  </a:lnTo>
                  <a:lnTo>
                    <a:pt x="2044" y="754"/>
                  </a:lnTo>
                  <a:lnTo>
                    <a:pt x="1910" y="838"/>
                  </a:lnTo>
                  <a:lnTo>
                    <a:pt x="1762" y="911"/>
                  </a:lnTo>
                  <a:lnTo>
                    <a:pt x="1627" y="1013"/>
                  </a:lnTo>
                  <a:lnTo>
                    <a:pt x="1363" y="1201"/>
                  </a:lnTo>
                  <a:lnTo>
                    <a:pt x="1244" y="1303"/>
                  </a:lnTo>
                  <a:lnTo>
                    <a:pt x="1126" y="1405"/>
                  </a:lnTo>
                  <a:lnTo>
                    <a:pt x="888" y="1622"/>
                  </a:lnTo>
                  <a:lnTo>
                    <a:pt x="769" y="1737"/>
                  </a:lnTo>
                  <a:lnTo>
                    <a:pt x="666" y="1867"/>
                  </a:lnTo>
                  <a:lnTo>
                    <a:pt x="564" y="1982"/>
                  </a:lnTo>
                  <a:lnTo>
                    <a:pt x="460" y="2115"/>
                  </a:lnTo>
                  <a:lnTo>
                    <a:pt x="370" y="2245"/>
                  </a:lnTo>
                  <a:lnTo>
                    <a:pt x="266" y="2374"/>
                  </a:lnTo>
                  <a:lnTo>
                    <a:pt x="103" y="2650"/>
                  </a:lnTo>
                  <a:lnTo>
                    <a:pt x="0" y="259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658840" y="5305680"/>
              <a:ext cx="132120" cy="698760"/>
            </a:xfrm>
            <a:custGeom>
              <a:avLst/>
              <a:gdLst/>
              <a:ahLst/>
              <a:rect l="l" t="t" r="r" b="b"/>
              <a:pathLst>
                <a:path w="205" h="911">
                  <a:moveTo>
                    <a:pt x="205" y="15"/>
                  </a:moveTo>
                  <a:lnTo>
                    <a:pt x="163" y="247"/>
                  </a:lnTo>
                  <a:lnTo>
                    <a:pt x="132" y="478"/>
                  </a:lnTo>
                  <a:lnTo>
                    <a:pt x="132" y="695"/>
                  </a:lnTo>
                  <a:lnTo>
                    <a:pt x="132" y="911"/>
                  </a:lnTo>
                  <a:lnTo>
                    <a:pt x="13" y="911"/>
                  </a:lnTo>
                  <a:lnTo>
                    <a:pt x="0" y="681"/>
                  </a:lnTo>
                  <a:lnTo>
                    <a:pt x="13" y="462"/>
                  </a:lnTo>
                  <a:lnTo>
                    <a:pt x="13" y="347"/>
                  </a:lnTo>
                  <a:lnTo>
                    <a:pt x="31" y="232"/>
                  </a:lnTo>
                  <a:lnTo>
                    <a:pt x="75" y="0"/>
                  </a:lnTo>
                  <a:lnTo>
                    <a:pt x="205" y="15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658840" y="5305680"/>
              <a:ext cx="132120" cy="698760"/>
            </a:xfrm>
            <a:custGeom>
              <a:avLst/>
              <a:gdLst/>
              <a:ahLst/>
              <a:rect l="l" t="t" r="r" b="b"/>
              <a:pathLst>
                <a:path w="205" h="911">
                  <a:moveTo>
                    <a:pt x="205" y="15"/>
                  </a:moveTo>
                  <a:lnTo>
                    <a:pt x="163" y="247"/>
                  </a:lnTo>
                  <a:lnTo>
                    <a:pt x="132" y="478"/>
                  </a:lnTo>
                  <a:lnTo>
                    <a:pt x="132" y="695"/>
                  </a:lnTo>
                  <a:lnTo>
                    <a:pt x="132" y="911"/>
                  </a:lnTo>
                  <a:lnTo>
                    <a:pt x="13" y="911"/>
                  </a:lnTo>
                  <a:lnTo>
                    <a:pt x="0" y="681"/>
                  </a:lnTo>
                  <a:lnTo>
                    <a:pt x="13" y="462"/>
                  </a:lnTo>
                  <a:lnTo>
                    <a:pt x="13" y="347"/>
                  </a:lnTo>
                  <a:lnTo>
                    <a:pt x="31" y="232"/>
                  </a:lnTo>
                  <a:lnTo>
                    <a:pt x="75" y="0"/>
                  </a:lnTo>
                  <a:lnTo>
                    <a:pt x="205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079960" y="4662000"/>
              <a:ext cx="3251160" cy="1342800"/>
            </a:xfrm>
            <a:custGeom>
              <a:avLst/>
              <a:gdLst/>
              <a:ahLst/>
              <a:rect l="l" t="t" r="r" b="b"/>
              <a:pathLst>
                <a:path w="5077" h="1750">
                  <a:moveTo>
                    <a:pt x="3879" y="1403"/>
                  </a:moveTo>
                  <a:lnTo>
                    <a:pt x="3820" y="1750"/>
                  </a:lnTo>
                  <a:lnTo>
                    <a:pt x="3597" y="1750"/>
                  </a:lnTo>
                  <a:lnTo>
                    <a:pt x="3612" y="1591"/>
                  </a:lnTo>
                  <a:lnTo>
                    <a:pt x="0" y="0"/>
                  </a:lnTo>
                  <a:lnTo>
                    <a:pt x="5077" y="693"/>
                  </a:lnTo>
                  <a:lnTo>
                    <a:pt x="3879" y="140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079960" y="4662000"/>
              <a:ext cx="3251160" cy="1342800"/>
            </a:xfrm>
            <a:custGeom>
              <a:avLst/>
              <a:gdLst/>
              <a:ahLst/>
              <a:rect l="l" t="t" r="r" b="b"/>
              <a:pathLst>
                <a:path w="5077" h="1750">
                  <a:moveTo>
                    <a:pt x="3879" y="1403"/>
                  </a:moveTo>
                  <a:lnTo>
                    <a:pt x="3820" y="1750"/>
                  </a:lnTo>
                  <a:lnTo>
                    <a:pt x="3597" y="1750"/>
                  </a:lnTo>
                  <a:lnTo>
                    <a:pt x="3612" y="1591"/>
                  </a:lnTo>
                  <a:lnTo>
                    <a:pt x="0" y="0"/>
                  </a:lnTo>
                  <a:lnTo>
                    <a:pt x="5077" y="693"/>
                  </a:lnTo>
                  <a:lnTo>
                    <a:pt x="3879" y="140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075160" y="5206320"/>
              <a:ext cx="1280160" cy="798480"/>
            </a:xfrm>
            <a:custGeom>
              <a:avLst/>
              <a:gdLst/>
              <a:ahLst/>
              <a:rect l="l" t="t" r="r" b="b"/>
              <a:pathLst>
                <a:path w="1998" h="1042">
                  <a:moveTo>
                    <a:pt x="962" y="941"/>
                  </a:moveTo>
                  <a:lnTo>
                    <a:pt x="1998" y="898"/>
                  </a:lnTo>
                  <a:lnTo>
                    <a:pt x="1998" y="1042"/>
                  </a:lnTo>
                  <a:lnTo>
                    <a:pt x="0" y="1042"/>
                  </a:lnTo>
                  <a:lnTo>
                    <a:pt x="399" y="0"/>
                  </a:lnTo>
                  <a:lnTo>
                    <a:pt x="962" y="941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075160" y="5206320"/>
              <a:ext cx="1280160" cy="798480"/>
            </a:xfrm>
            <a:custGeom>
              <a:avLst/>
              <a:gdLst/>
              <a:ahLst/>
              <a:rect l="l" t="t" r="r" b="b"/>
              <a:pathLst>
                <a:path w="1998" h="1042">
                  <a:moveTo>
                    <a:pt x="962" y="941"/>
                  </a:moveTo>
                  <a:lnTo>
                    <a:pt x="1998" y="898"/>
                  </a:lnTo>
                  <a:lnTo>
                    <a:pt x="1998" y="1042"/>
                  </a:lnTo>
                  <a:lnTo>
                    <a:pt x="0" y="1042"/>
                  </a:lnTo>
                  <a:lnTo>
                    <a:pt x="399" y="0"/>
                  </a:lnTo>
                  <a:lnTo>
                    <a:pt x="962" y="9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331480" y="2906640"/>
              <a:ext cx="1023840" cy="2444760"/>
            </a:xfrm>
            <a:custGeom>
              <a:avLst/>
              <a:gdLst/>
              <a:ahLst/>
              <a:rect l="l" t="t" r="r" b="b"/>
              <a:pathLst>
                <a:path w="1599" h="3188">
                  <a:moveTo>
                    <a:pt x="1200" y="2274"/>
                  </a:moveTo>
                  <a:lnTo>
                    <a:pt x="1599" y="0"/>
                  </a:lnTo>
                  <a:lnTo>
                    <a:pt x="1599" y="969"/>
                  </a:lnTo>
                  <a:lnTo>
                    <a:pt x="1467" y="2086"/>
                  </a:lnTo>
                  <a:lnTo>
                    <a:pt x="1599" y="2131"/>
                  </a:lnTo>
                  <a:lnTo>
                    <a:pt x="1599" y="3188"/>
                  </a:lnTo>
                  <a:lnTo>
                    <a:pt x="0" y="2969"/>
                  </a:lnTo>
                  <a:lnTo>
                    <a:pt x="1200" y="2274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331480" y="2906640"/>
              <a:ext cx="1023840" cy="2444760"/>
            </a:xfrm>
            <a:custGeom>
              <a:avLst/>
              <a:gdLst/>
              <a:ahLst/>
              <a:rect l="l" t="t" r="r" b="b"/>
              <a:pathLst>
                <a:path w="1599" h="3188">
                  <a:moveTo>
                    <a:pt x="1200" y="2274"/>
                  </a:moveTo>
                  <a:lnTo>
                    <a:pt x="1599" y="0"/>
                  </a:lnTo>
                  <a:lnTo>
                    <a:pt x="1599" y="969"/>
                  </a:lnTo>
                  <a:lnTo>
                    <a:pt x="1467" y="2086"/>
                  </a:lnTo>
                  <a:lnTo>
                    <a:pt x="1599" y="2131"/>
                  </a:lnTo>
                  <a:lnTo>
                    <a:pt x="1599" y="3188"/>
                  </a:lnTo>
                  <a:lnTo>
                    <a:pt x="0" y="2969"/>
                  </a:lnTo>
                  <a:lnTo>
                    <a:pt x="1200" y="2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23600" y="1773720"/>
              <a:ext cx="4132080" cy="3419640"/>
            </a:xfrm>
            <a:custGeom>
              <a:avLst/>
              <a:gdLst/>
              <a:ahLst/>
              <a:rect l="l" t="t" r="r" b="b"/>
              <a:pathLst>
                <a:path w="6454" h="4461">
                  <a:moveTo>
                    <a:pt x="4145" y="3290"/>
                  </a:moveTo>
                  <a:lnTo>
                    <a:pt x="6454" y="0"/>
                  </a:lnTo>
                  <a:lnTo>
                    <a:pt x="6454" y="307"/>
                  </a:lnTo>
                  <a:lnTo>
                    <a:pt x="4855" y="4461"/>
                  </a:lnTo>
                  <a:lnTo>
                    <a:pt x="4308" y="3505"/>
                  </a:lnTo>
                  <a:lnTo>
                    <a:pt x="0" y="3693"/>
                  </a:lnTo>
                  <a:lnTo>
                    <a:pt x="4145" y="3290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223600" y="1773720"/>
              <a:ext cx="4132080" cy="3419640"/>
            </a:xfrm>
            <a:custGeom>
              <a:avLst/>
              <a:gdLst/>
              <a:ahLst/>
              <a:rect l="l" t="t" r="r" b="b"/>
              <a:pathLst>
                <a:path w="6454" h="4461">
                  <a:moveTo>
                    <a:pt x="4145" y="3290"/>
                  </a:moveTo>
                  <a:lnTo>
                    <a:pt x="6454" y="0"/>
                  </a:lnTo>
                  <a:lnTo>
                    <a:pt x="6454" y="307"/>
                  </a:lnTo>
                  <a:lnTo>
                    <a:pt x="4855" y="4461"/>
                  </a:lnTo>
                  <a:lnTo>
                    <a:pt x="4308" y="3505"/>
                  </a:lnTo>
                  <a:lnTo>
                    <a:pt x="0" y="3693"/>
                  </a:lnTo>
                  <a:lnTo>
                    <a:pt x="4145" y="329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829280" y="2762640"/>
              <a:ext cx="644040" cy="212760"/>
            </a:xfrm>
            <a:custGeom>
              <a:avLst/>
              <a:gdLst/>
              <a:ahLst/>
              <a:rect l="l" t="t" r="r" b="b"/>
              <a:pathLst>
                <a:path w="1006" h="276">
                  <a:moveTo>
                    <a:pt x="0" y="161"/>
                  </a:moveTo>
                  <a:lnTo>
                    <a:pt x="251" y="73"/>
                  </a:lnTo>
                  <a:lnTo>
                    <a:pt x="384" y="44"/>
                  </a:lnTo>
                  <a:lnTo>
                    <a:pt x="503" y="0"/>
                  </a:lnTo>
                  <a:lnTo>
                    <a:pt x="1006" y="73"/>
                  </a:lnTo>
                  <a:lnTo>
                    <a:pt x="873" y="276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108200" y="3219480"/>
              <a:ext cx="1061640" cy="300240"/>
            </a:xfrm>
            <a:custGeom>
              <a:avLst/>
              <a:gdLst/>
              <a:ahLst/>
              <a:rect l="l" t="t" r="r" b="b"/>
              <a:pathLst>
                <a:path w="1659" h="391">
                  <a:moveTo>
                    <a:pt x="0" y="188"/>
                  </a:moveTo>
                  <a:lnTo>
                    <a:pt x="269" y="0"/>
                  </a:lnTo>
                  <a:lnTo>
                    <a:pt x="1659" y="188"/>
                  </a:lnTo>
                  <a:lnTo>
                    <a:pt x="1511" y="391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663960" y="3729960"/>
              <a:ext cx="1194480" cy="344520"/>
            </a:xfrm>
            <a:custGeom>
              <a:avLst/>
              <a:gdLst/>
              <a:ahLst/>
              <a:rect l="l" t="t" r="r" b="b"/>
              <a:pathLst>
                <a:path w="1866" h="449">
                  <a:moveTo>
                    <a:pt x="0" y="203"/>
                  </a:moveTo>
                  <a:lnTo>
                    <a:pt x="179" y="0"/>
                  </a:lnTo>
                  <a:lnTo>
                    <a:pt x="1866" y="246"/>
                  </a:lnTo>
                  <a:lnTo>
                    <a:pt x="1732" y="449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426000" y="4272480"/>
              <a:ext cx="48240" cy="11880"/>
            </a:xfrm>
            <a:custGeom>
              <a:avLst/>
              <a:gdLst/>
              <a:ahLst/>
              <a:rect l="l" t="t" r="r" b="b"/>
              <a:pathLst>
                <a:path w="75" h="16">
                  <a:moveTo>
                    <a:pt x="15" y="0"/>
                  </a:moveTo>
                  <a:lnTo>
                    <a:pt x="75" y="16"/>
                  </a:lnTo>
                  <a:lnTo>
                    <a:pt x="0" y="1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c53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010920" y="5405400"/>
              <a:ext cx="538920" cy="254160"/>
            </a:xfrm>
            <a:custGeom>
              <a:avLst/>
              <a:gdLst/>
              <a:ahLst/>
              <a:rect l="l" t="t" r="r" b="b"/>
              <a:pathLst>
                <a:path w="843" h="332">
                  <a:moveTo>
                    <a:pt x="0" y="217"/>
                  </a:moveTo>
                  <a:lnTo>
                    <a:pt x="13" y="102"/>
                  </a:lnTo>
                  <a:lnTo>
                    <a:pt x="42" y="0"/>
                  </a:lnTo>
                  <a:lnTo>
                    <a:pt x="175" y="14"/>
                  </a:lnTo>
                  <a:lnTo>
                    <a:pt x="843" y="332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61120"/>
              <a:ext cx="699120" cy="222480"/>
            </a:xfrm>
            <a:custGeom>
              <a:avLst/>
              <a:gdLst/>
              <a:ahLst/>
              <a:rect l="l" t="t" r="r" b="b"/>
              <a:pathLst>
                <a:path w="1092" h="290">
                  <a:moveTo>
                    <a:pt x="0" y="161"/>
                  </a:moveTo>
                  <a:lnTo>
                    <a:pt x="58" y="0"/>
                  </a:lnTo>
                  <a:lnTo>
                    <a:pt x="1092" y="146"/>
                  </a:lnTo>
                  <a:lnTo>
                    <a:pt x="1035" y="290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c53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3276720" y="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3505320" y="64008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ManTech Propriet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066680" y="1447920"/>
            <a:ext cx="777240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394240" y="750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09480" y="1066680"/>
            <a:ext cx="655344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Purchasing process is very cumber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Very time int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Non responsive to client dem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This is one of those situations where it does not matter what operations requires to meet our contractual obligations as long as we can pass an au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Note: these comments are directed at the PROCESS and NOT the pers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Implementing the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4267080" y="1773720"/>
            <a:ext cx="5088600" cy="4231080"/>
            <a:chOff x="4267080" y="1773720"/>
            <a:chExt cx="5088600" cy="4231080"/>
          </a:xfrm>
        </p:grpSpPr>
        <p:sp>
          <p:nvSpPr>
            <p:cNvPr id="488" name=""/>
            <p:cNvSpPr/>
            <p:nvPr/>
          </p:nvSpPr>
          <p:spPr>
            <a:xfrm>
              <a:off x="5999400" y="2308680"/>
              <a:ext cx="2786400" cy="2031120"/>
            </a:xfrm>
            <a:custGeom>
              <a:avLst/>
              <a:gdLst/>
              <a:ahLst/>
              <a:rect l="l" t="t" r="r" b="b"/>
              <a:pathLst>
                <a:path w="4351" h="2650">
                  <a:moveTo>
                    <a:pt x="0" y="2593"/>
                  </a:moveTo>
                  <a:lnTo>
                    <a:pt x="74" y="2447"/>
                  </a:lnTo>
                  <a:lnTo>
                    <a:pt x="165" y="2303"/>
                  </a:lnTo>
                  <a:lnTo>
                    <a:pt x="266" y="2172"/>
                  </a:lnTo>
                  <a:lnTo>
                    <a:pt x="357" y="2040"/>
                  </a:lnTo>
                  <a:lnTo>
                    <a:pt x="564" y="1781"/>
                  </a:lnTo>
                  <a:lnTo>
                    <a:pt x="787" y="1549"/>
                  </a:lnTo>
                  <a:lnTo>
                    <a:pt x="917" y="1433"/>
                  </a:lnTo>
                  <a:lnTo>
                    <a:pt x="1036" y="1316"/>
                  </a:lnTo>
                  <a:lnTo>
                    <a:pt x="1288" y="1101"/>
                  </a:lnTo>
                  <a:lnTo>
                    <a:pt x="1422" y="1000"/>
                  </a:lnTo>
                  <a:lnTo>
                    <a:pt x="1555" y="911"/>
                  </a:lnTo>
                  <a:lnTo>
                    <a:pt x="1835" y="723"/>
                  </a:lnTo>
                  <a:lnTo>
                    <a:pt x="1984" y="652"/>
                  </a:lnTo>
                  <a:lnTo>
                    <a:pt x="2132" y="566"/>
                  </a:lnTo>
                  <a:lnTo>
                    <a:pt x="2428" y="420"/>
                  </a:lnTo>
                  <a:lnTo>
                    <a:pt x="2591" y="360"/>
                  </a:lnTo>
                  <a:lnTo>
                    <a:pt x="2739" y="303"/>
                  </a:lnTo>
                  <a:lnTo>
                    <a:pt x="2902" y="245"/>
                  </a:lnTo>
                  <a:lnTo>
                    <a:pt x="3050" y="188"/>
                  </a:lnTo>
                  <a:lnTo>
                    <a:pt x="3213" y="145"/>
                  </a:lnTo>
                  <a:lnTo>
                    <a:pt x="3376" y="115"/>
                  </a:lnTo>
                  <a:lnTo>
                    <a:pt x="3537" y="71"/>
                  </a:lnTo>
                  <a:lnTo>
                    <a:pt x="3701" y="44"/>
                  </a:lnTo>
                  <a:lnTo>
                    <a:pt x="3864" y="30"/>
                  </a:lnTo>
                  <a:lnTo>
                    <a:pt x="4027" y="13"/>
                  </a:lnTo>
                  <a:lnTo>
                    <a:pt x="4190" y="0"/>
                  </a:lnTo>
                  <a:lnTo>
                    <a:pt x="4351" y="0"/>
                  </a:lnTo>
                  <a:lnTo>
                    <a:pt x="4351" y="115"/>
                  </a:lnTo>
                  <a:lnTo>
                    <a:pt x="4190" y="130"/>
                  </a:lnTo>
                  <a:lnTo>
                    <a:pt x="4027" y="130"/>
                  </a:lnTo>
                  <a:lnTo>
                    <a:pt x="3879" y="145"/>
                  </a:lnTo>
                  <a:lnTo>
                    <a:pt x="3716" y="174"/>
                  </a:lnTo>
                  <a:lnTo>
                    <a:pt x="3553" y="201"/>
                  </a:lnTo>
                  <a:lnTo>
                    <a:pt x="3405" y="232"/>
                  </a:lnTo>
                  <a:lnTo>
                    <a:pt x="3094" y="318"/>
                  </a:lnTo>
                  <a:lnTo>
                    <a:pt x="2931" y="360"/>
                  </a:lnTo>
                  <a:lnTo>
                    <a:pt x="2783" y="420"/>
                  </a:lnTo>
                  <a:lnTo>
                    <a:pt x="2487" y="535"/>
                  </a:lnTo>
                  <a:lnTo>
                    <a:pt x="2340" y="608"/>
                  </a:lnTo>
                  <a:lnTo>
                    <a:pt x="2192" y="681"/>
                  </a:lnTo>
                  <a:lnTo>
                    <a:pt x="2044" y="754"/>
                  </a:lnTo>
                  <a:lnTo>
                    <a:pt x="1910" y="838"/>
                  </a:lnTo>
                  <a:lnTo>
                    <a:pt x="1762" y="911"/>
                  </a:lnTo>
                  <a:lnTo>
                    <a:pt x="1627" y="1013"/>
                  </a:lnTo>
                  <a:lnTo>
                    <a:pt x="1363" y="1201"/>
                  </a:lnTo>
                  <a:lnTo>
                    <a:pt x="1244" y="1303"/>
                  </a:lnTo>
                  <a:lnTo>
                    <a:pt x="1126" y="1405"/>
                  </a:lnTo>
                  <a:lnTo>
                    <a:pt x="888" y="1622"/>
                  </a:lnTo>
                  <a:lnTo>
                    <a:pt x="769" y="1737"/>
                  </a:lnTo>
                  <a:lnTo>
                    <a:pt x="666" y="1867"/>
                  </a:lnTo>
                  <a:lnTo>
                    <a:pt x="564" y="1982"/>
                  </a:lnTo>
                  <a:lnTo>
                    <a:pt x="460" y="2115"/>
                  </a:lnTo>
                  <a:lnTo>
                    <a:pt x="370" y="2245"/>
                  </a:lnTo>
                  <a:lnTo>
                    <a:pt x="266" y="2374"/>
                  </a:lnTo>
                  <a:lnTo>
                    <a:pt x="103" y="2650"/>
                  </a:lnTo>
                  <a:lnTo>
                    <a:pt x="0" y="259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658840" y="5305680"/>
              <a:ext cx="132120" cy="698760"/>
            </a:xfrm>
            <a:custGeom>
              <a:avLst/>
              <a:gdLst/>
              <a:ahLst/>
              <a:rect l="l" t="t" r="r" b="b"/>
              <a:pathLst>
                <a:path w="205" h="911">
                  <a:moveTo>
                    <a:pt x="205" y="15"/>
                  </a:moveTo>
                  <a:lnTo>
                    <a:pt x="163" y="247"/>
                  </a:lnTo>
                  <a:lnTo>
                    <a:pt x="132" y="478"/>
                  </a:lnTo>
                  <a:lnTo>
                    <a:pt x="132" y="695"/>
                  </a:lnTo>
                  <a:lnTo>
                    <a:pt x="132" y="911"/>
                  </a:lnTo>
                  <a:lnTo>
                    <a:pt x="13" y="911"/>
                  </a:lnTo>
                  <a:lnTo>
                    <a:pt x="0" y="681"/>
                  </a:lnTo>
                  <a:lnTo>
                    <a:pt x="13" y="462"/>
                  </a:lnTo>
                  <a:lnTo>
                    <a:pt x="13" y="347"/>
                  </a:lnTo>
                  <a:lnTo>
                    <a:pt x="31" y="232"/>
                  </a:lnTo>
                  <a:lnTo>
                    <a:pt x="75" y="0"/>
                  </a:lnTo>
                  <a:lnTo>
                    <a:pt x="205" y="15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658840" y="5305680"/>
              <a:ext cx="132120" cy="698760"/>
            </a:xfrm>
            <a:custGeom>
              <a:avLst/>
              <a:gdLst/>
              <a:ahLst/>
              <a:rect l="l" t="t" r="r" b="b"/>
              <a:pathLst>
                <a:path w="205" h="911">
                  <a:moveTo>
                    <a:pt x="205" y="15"/>
                  </a:moveTo>
                  <a:lnTo>
                    <a:pt x="163" y="247"/>
                  </a:lnTo>
                  <a:lnTo>
                    <a:pt x="132" y="478"/>
                  </a:lnTo>
                  <a:lnTo>
                    <a:pt x="132" y="695"/>
                  </a:lnTo>
                  <a:lnTo>
                    <a:pt x="132" y="911"/>
                  </a:lnTo>
                  <a:lnTo>
                    <a:pt x="13" y="911"/>
                  </a:lnTo>
                  <a:lnTo>
                    <a:pt x="0" y="681"/>
                  </a:lnTo>
                  <a:lnTo>
                    <a:pt x="13" y="462"/>
                  </a:lnTo>
                  <a:lnTo>
                    <a:pt x="13" y="347"/>
                  </a:lnTo>
                  <a:lnTo>
                    <a:pt x="31" y="232"/>
                  </a:lnTo>
                  <a:lnTo>
                    <a:pt x="75" y="0"/>
                  </a:lnTo>
                  <a:lnTo>
                    <a:pt x="205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079960" y="4662000"/>
              <a:ext cx="3251160" cy="1342800"/>
            </a:xfrm>
            <a:custGeom>
              <a:avLst/>
              <a:gdLst/>
              <a:ahLst/>
              <a:rect l="l" t="t" r="r" b="b"/>
              <a:pathLst>
                <a:path w="5077" h="1750">
                  <a:moveTo>
                    <a:pt x="3879" y="1403"/>
                  </a:moveTo>
                  <a:lnTo>
                    <a:pt x="3820" y="1750"/>
                  </a:lnTo>
                  <a:lnTo>
                    <a:pt x="3597" y="1750"/>
                  </a:lnTo>
                  <a:lnTo>
                    <a:pt x="3612" y="1591"/>
                  </a:lnTo>
                  <a:lnTo>
                    <a:pt x="0" y="0"/>
                  </a:lnTo>
                  <a:lnTo>
                    <a:pt x="5077" y="693"/>
                  </a:lnTo>
                  <a:lnTo>
                    <a:pt x="3879" y="140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079960" y="4662000"/>
              <a:ext cx="3251160" cy="1342800"/>
            </a:xfrm>
            <a:custGeom>
              <a:avLst/>
              <a:gdLst/>
              <a:ahLst/>
              <a:rect l="l" t="t" r="r" b="b"/>
              <a:pathLst>
                <a:path w="5077" h="1750">
                  <a:moveTo>
                    <a:pt x="3879" y="1403"/>
                  </a:moveTo>
                  <a:lnTo>
                    <a:pt x="3820" y="1750"/>
                  </a:lnTo>
                  <a:lnTo>
                    <a:pt x="3597" y="1750"/>
                  </a:lnTo>
                  <a:lnTo>
                    <a:pt x="3612" y="1591"/>
                  </a:lnTo>
                  <a:lnTo>
                    <a:pt x="0" y="0"/>
                  </a:lnTo>
                  <a:lnTo>
                    <a:pt x="5077" y="693"/>
                  </a:lnTo>
                  <a:lnTo>
                    <a:pt x="3879" y="140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075160" y="5206320"/>
              <a:ext cx="1280160" cy="798480"/>
            </a:xfrm>
            <a:custGeom>
              <a:avLst/>
              <a:gdLst/>
              <a:ahLst/>
              <a:rect l="l" t="t" r="r" b="b"/>
              <a:pathLst>
                <a:path w="1998" h="1042">
                  <a:moveTo>
                    <a:pt x="962" y="941"/>
                  </a:moveTo>
                  <a:lnTo>
                    <a:pt x="1998" y="898"/>
                  </a:lnTo>
                  <a:lnTo>
                    <a:pt x="1998" y="1042"/>
                  </a:lnTo>
                  <a:lnTo>
                    <a:pt x="0" y="1042"/>
                  </a:lnTo>
                  <a:lnTo>
                    <a:pt x="399" y="0"/>
                  </a:lnTo>
                  <a:lnTo>
                    <a:pt x="962" y="941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075160" y="5206320"/>
              <a:ext cx="1280160" cy="798480"/>
            </a:xfrm>
            <a:custGeom>
              <a:avLst/>
              <a:gdLst/>
              <a:ahLst/>
              <a:rect l="l" t="t" r="r" b="b"/>
              <a:pathLst>
                <a:path w="1998" h="1042">
                  <a:moveTo>
                    <a:pt x="962" y="941"/>
                  </a:moveTo>
                  <a:lnTo>
                    <a:pt x="1998" y="898"/>
                  </a:lnTo>
                  <a:lnTo>
                    <a:pt x="1998" y="1042"/>
                  </a:lnTo>
                  <a:lnTo>
                    <a:pt x="0" y="1042"/>
                  </a:lnTo>
                  <a:lnTo>
                    <a:pt x="399" y="0"/>
                  </a:lnTo>
                  <a:lnTo>
                    <a:pt x="962" y="9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331480" y="2906640"/>
              <a:ext cx="1023840" cy="2444760"/>
            </a:xfrm>
            <a:custGeom>
              <a:avLst/>
              <a:gdLst/>
              <a:ahLst/>
              <a:rect l="l" t="t" r="r" b="b"/>
              <a:pathLst>
                <a:path w="1599" h="3188">
                  <a:moveTo>
                    <a:pt x="1200" y="2274"/>
                  </a:moveTo>
                  <a:lnTo>
                    <a:pt x="1599" y="0"/>
                  </a:lnTo>
                  <a:lnTo>
                    <a:pt x="1599" y="969"/>
                  </a:lnTo>
                  <a:lnTo>
                    <a:pt x="1467" y="2086"/>
                  </a:lnTo>
                  <a:lnTo>
                    <a:pt x="1599" y="2131"/>
                  </a:lnTo>
                  <a:lnTo>
                    <a:pt x="1599" y="3188"/>
                  </a:lnTo>
                  <a:lnTo>
                    <a:pt x="0" y="2969"/>
                  </a:lnTo>
                  <a:lnTo>
                    <a:pt x="1200" y="2274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331480" y="2906640"/>
              <a:ext cx="1023840" cy="2444760"/>
            </a:xfrm>
            <a:custGeom>
              <a:avLst/>
              <a:gdLst/>
              <a:ahLst/>
              <a:rect l="l" t="t" r="r" b="b"/>
              <a:pathLst>
                <a:path w="1599" h="3188">
                  <a:moveTo>
                    <a:pt x="1200" y="2274"/>
                  </a:moveTo>
                  <a:lnTo>
                    <a:pt x="1599" y="0"/>
                  </a:lnTo>
                  <a:lnTo>
                    <a:pt x="1599" y="969"/>
                  </a:lnTo>
                  <a:lnTo>
                    <a:pt x="1467" y="2086"/>
                  </a:lnTo>
                  <a:lnTo>
                    <a:pt x="1599" y="2131"/>
                  </a:lnTo>
                  <a:lnTo>
                    <a:pt x="1599" y="3188"/>
                  </a:lnTo>
                  <a:lnTo>
                    <a:pt x="0" y="2969"/>
                  </a:lnTo>
                  <a:lnTo>
                    <a:pt x="1200" y="2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223600" y="1773720"/>
              <a:ext cx="4132080" cy="3419640"/>
            </a:xfrm>
            <a:custGeom>
              <a:avLst/>
              <a:gdLst/>
              <a:ahLst/>
              <a:rect l="l" t="t" r="r" b="b"/>
              <a:pathLst>
                <a:path w="6454" h="4461">
                  <a:moveTo>
                    <a:pt x="4145" y="3290"/>
                  </a:moveTo>
                  <a:lnTo>
                    <a:pt x="6454" y="0"/>
                  </a:lnTo>
                  <a:lnTo>
                    <a:pt x="6454" y="307"/>
                  </a:lnTo>
                  <a:lnTo>
                    <a:pt x="4855" y="4461"/>
                  </a:lnTo>
                  <a:lnTo>
                    <a:pt x="4308" y="3505"/>
                  </a:lnTo>
                  <a:lnTo>
                    <a:pt x="0" y="3693"/>
                  </a:lnTo>
                  <a:lnTo>
                    <a:pt x="4145" y="3290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223600" y="1773720"/>
              <a:ext cx="4132080" cy="3419640"/>
            </a:xfrm>
            <a:custGeom>
              <a:avLst/>
              <a:gdLst/>
              <a:ahLst/>
              <a:rect l="l" t="t" r="r" b="b"/>
              <a:pathLst>
                <a:path w="6454" h="4461">
                  <a:moveTo>
                    <a:pt x="4145" y="3290"/>
                  </a:moveTo>
                  <a:lnTo>
                    <a:pt x="6454" y="0"/>
                  </a:lnTo>
                  <a:lnTo>
                    <a:pt x="6454" y="307"/>
                  </a:lnTo>
                  <a:lnTo>
                    <a:pt x="4855" y="4461"/>
                  </a:lnTo>
                  <a:lnTo>
                    <a:pt x="4308" y="3505"/>
                  </a:lnTo>
                  <a:lnTo>
                    <a:pt x="0" y="3693"/>
                  </a:lnTo>
                  <a:lnTo>
                    <a:pt x="4145" y="329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829280" y="2762640"/>
              <a:ext cx="644040" cy="212760"/>
            </a:xfrm>
            <a:custGeom>
              <a:avLst/>
              <a:gdLst/>
              <a:ahLst/>
              <a:rect l="l" t="t" r="r" b="b"/>
              <a:pathLst>
                <a:path w="1006" h="276">
                  <a:moveTo>
                    <a:pt x="0" y="161"/>
                  </a:moveTo>
                  <a:lnTo>
                    <a:pt x="251" y="73"/>
                  </a:lnTo>
                  <a:lnTo>
                    <a:pt x="384" y="44"/>
                  </a:lnTo>
                  <a:lnTo>
                    <a:pt x="503" y="0"/>
                  </a:lnTo>
                  <a:lnTo>
                    <a:pt x="1006" y="73"/>
                  </a:lnTo>
                  <a:lnTo>
                    <a:pt x="873" y="276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108200" y="3219480"/>
              <a:ext cx="1061640" cy="300240"/>
            </a:xfrm>
            <a:custGeom>
              <a:avLst/>
              <a:gdLst/>
              <a:ahLst/>
              <a:rect l="l" t="t" r="r" b="b"/>
              <a:pathLst>
                <a:path w="1659" h="391">
                  <a:moveTo>
                    <a:pt x="0" y="188"/>
                  </a:moveTo>
                  <a:lnTo>
                    <a:pt x="269" y="0"/>
                  </a:lnTo>
                  <a:lnTo>
                    <a:pt x="1659" y="188"/>
                  </a:lnTo>
                  <a:lnTo>
                    <a:pt x="1511" y="391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663960" y="3729960"/>
              <a:ext cx="1194480" cy="344520"/>
            </a:xfrm>
            <a:custGeom>
              <a:avLst/>
              <a:gdLst/>
              <a:ahLst/>
              <a:rect l="l" t="t" r="r" b="b"/>
              <a:pathLst>
                <a:path w="1866" h="449">
                  <a:moveTo>
                    <a:pt x="0" y="203"/>
                  </a:moveTo>
                  <a:lnTo>
                    <a:pt x="179" y="0"/>
                  </a:lnTo>
                  <a:lnTo>
                    <a:pt x="1866" y="246"/>
                  </a:lnTo>
                  <a:lnTo>
                    <a:pt x="1732" y="449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426000" y="4272480"/>
              <a:ext cx="48240" cy="11880"/>
            </a:xfrm>
            <a:custGeom>
              <a:avLst/>
              <a:gdLst/>
              <a:ahLst/>
              <a:rect l="l" t="t" r="r" b="b"/>
              <a:pathLst>
                <a:path w="75" h="16">
                  <a:moveTo>
                    <a:pt x="15" y="0"/>
                  </a:moveTo>
                  <a:lnTo>
                    <a:pt x="75" y="16"/>
                  </a:lnTo>
                  <a:lnTo>
                    <a:pt x="0" y="1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c53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010920" y="5405400"/>
              <a:ext cx="538920" cy="254160"/>
            </a:xfrm>
            <a:custGeom>
              <a:avLst/>
              <a:gdLst/>
              <a:ahLst/>
              <a:rect l="l" t="t" r="r" b="b"/>
              <a:pathLst>
                <a:path w="843" h="332">
                  <a:moveTo>
                    <a:pt x="0" y="217"/>
                  </a:moveTo>
                  <a:lnTo>
                    <a:pt x="13" y="102"/>
                  </a:lnTo>
                  <a:lnTo>
                    <a:pt x="42" y="0"/>
                  </a:lnTo>
                  <a:lnTo>
                    <a:pt x="175" y="14"/>
                  </a:lnTo>
                  <a:lnTo>
                    <a:pt x="843" y="332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267080" y="4461120"/>
              <a:ext cx="699120" cy="222480"/>
            </a:xfrm>
            <a:custGeom>
              <a:avLst/>
              <a:gdLst/>
              <a:ahLst/>
              <a:rect l="l" t="t" r="r" b="b"/>
              <a:pathLst>
                <a:path w="1092" h="290">
                  <a:moveTo>
                    <a:pt x="0" y="161"/>
                  </a:moveTo>
                  <a:lnTo>
                    <a:pt x="58" y="0"/>
                  </a:lnTo>
                  <a:lnTo>
                    <a:pt x="1092" y="146"/>
                  </a:lnTo>
                  <a:lnTo>
                    <a:pt x="1035" y="290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c53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999400" y="2308680"/>
              <a:ext cx="2786400" cy="2031120"/>
            </a:xfrm>
            <a:custGeom>
              <a:avLst/>
              <a:gdLst/>
              <a:ahLst/>
              <a:rect l="l" t="t" r="r" b="b"/>
              <a:pathLst>
                <a:path w="4351" h="2650">
                  <a:moveTo>
                    <a:pt x="0" y="2593"/>
                  </a:moveTo>
                  <a:lnTo>
                    <a:pt x="74" y="2447"/>
                  </a:lnTo>
                  <a:lnTo>
                    <a:pt x="165" y="2303"/>
                  </a:lnTo>
                  <a:lnTo>
                    <a:pt x="266" y="2172"/>
                  </a:lnTo>
                  <a:lnTo>
                    <a:pt x="357" y="2040"/>
                  </a:lnTo>
                  <a:lnTo>
                    <a:pt x="564" y="1781"/>
                  </a:lnTo>
                  <a:lnTo>
                    <a:pt x="787" y="1549"/>
                  </a:lnTo>
                  <a:lnTo>
                    <a:pt x="917" y="1433"/>
                  </a:lnTo>
                  <a:lnTo>
                    <a:pt x="1036" y="1316"/>
                  </a:lnTo>
                  <a:lnTo>
                    <a:pt x="1288" y="1101"/>
                  </a:lnTo>
                  <a:lnTo>
                    <a:pt x="1422" y="1000"/>
                  </a:lnTo>
                  <a:lnTo>
                    <a:pt x="1555" y="911"/>
                  </a:lnTo>
                  <a:lnTo>
                    <a:pt x="1835" y="723"/>
                  </a:lnTo>
                  <a:lnTo>
                    <a:pt x="1984" y="652"/>
                  </a:lnTo>
                  <a:lnTo>
                    <a:pt x="2132" y="566"/>
                  </a:lnTo>
                  <a:lnTo>
                    <a:pt x="2428" y="420"/>
                  </a:lnTo>
                  <a:lnTo>
                    <a:pt x="2591" y="360"/>
                  </a:lnTo>
                  <a:lnTo>
                    <a:pt x="2739" y="303"/>
                  </a:lnTo>
                  <a:lnTo>
                    <a:pt x="2902" y="245"/>
                  </a:lnTo>
                  <a:lnTo>
                    <a:pt x="3050" y="188"/>
                  </a:lnTo>
                  <a:lnTo>
                    <a:pt x="3213" y="145"/>
                  </a:lnTo>
                  <a:lnTo>
                    <a:pt x="3376" y="115"/>
                  </a:lnTo>
                  <a:lnTo>
                    <a:pt x="3537" y="71"/>
                  </a:lnTo>
                  <a:lnTo>
                    <a:pt x="3701" y="44"/>
                  </a:lnTo>
                  <a:lnTo>
                    <a:pt x="3864" y="30"/>
                  </a:lnTo>
                  <a:lnTo>
                    <a:pt x="4027" y="13"/>
                  </a:lnTo>
                  <a:lnTo>
                    <a:pt x="4190" y="0"/>
                  </a:lnTo>
                  <a:lnTo>
                    <a:pt x="4351" y="0"/>
                  </a:lnTo>
                  <a:lnTo>
                    <a:pt x="4351" y="115"/>
                  </a:lnTo>
                  <a:lnTo>
                    <a:pt x="4190" y="130"/>
                  </a:lnTo>
                  <a:lnTo>
                    <a:pt x="4027" y="130"/>
                  </a:lnTo>
                  <a:lnTo>
                    <a:pt x="3879" y="145"/>
                  </a:lnTo>
                  <a:lnTo>
                    <a:pt x="3716" y="174"/>
                  </a:lnTo>
                  <a:lnTo>
                    <a:pt x="3553" y="201"/>
                  </a:lnTo>
                  <a:lnTo>
                    <a:pt x="3405" y="232"/>
                  </a:lnTo>
                  <a:lnTo>
                    <a:pt x="3094" y="318"/>
                  </a:lnTo>
                  <a:lnTo>
                    <a:pt x="2931" y="360"/>
                  </a:lnTo>
                  <a:lnTo>
                    <a:pt x="2783" y="420"/>
                  </a:lnTo>
                  <a:lnTo>
                    <a:pt x="2487" y="535"/>
                  </a:lnTo>
                  <a:lnTo>
                    <a:pt x="2340" y="608"/>
                  </a:lnTo>
                  <a:lnTo>
                    <a:pt x="2192" y="681"/>
                  </a:lnTo>
                  <a:lnTo>
                    <a:pt x="2044" y="754"/>
                  </a:lnTo>
                  <a:lnTo>
                    <a:pt x="1910" y="838"/>
                  </a:lnTo>
                  <a:lnTo>
                    <a:pt x="1762" y="911"/>
                  </a:lnTo>
                  <a:lnTo>
                    <a:pt x="1627" y="1013"/>
                  </a:lnTo>
                  <a:lnTo>
                    <a:pt x="1363" y="1201"/>
                  </a:lnTo>
                  <a:lnTo>
                    <a:pt x="1244" y="1303"/>
                  </a:lnTo>
                  <a:lnTo>
                    <a:pt x="1126" y="1405"/>
                  </a:lnTo>
                  <a:lnTo>
                    <a:pt x="888" y="1622"/>
                  </a:lnTo>
                  <a:lnTo>
                    <a:pt x="769" y="1737"/>
                  </a:lnTo>
                  <a:lnTo>
                    <a:pt x="666" y="1867"/>
                  </a:lnTo>
                  <a:lnTo>
                    <a:pt x="564" y="1982"/>
                  </a:lnTo>
                  <a:lnTo>
                    <a:pt x="460" y="2115"/>
                  </a:lnTo>
                  <a:lnTo>
                    <a:pt x="370" y="2245"/>
                  </a:lnTo>
                  <a:lnTo>
                    <a:pt x="266" y="2374"/>
                  </a:lnTo>
                  <a:lnTo>
                    <a:pt x="103" y="2650"/>
                  </a:lnTo>
                  <a:lnTo>
                    <a:pt x="0" y="259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658840" y="5305680"/>
              <a:ext cx="132120" cy="698760"/>
            </a:xfrm>
            <a:custGeom>
              <a:avLst/>
              <a:gdLst/>
              <a:ahLst/>
              <a:rect l="l" t="t" r="r" b="b"/>
              <a:pathLst>
                <a:path w="205" h="911">
                  <a:moveTo>
                    <a:pt x="205" y="15"/>
                  </a:moveTo>
                  <a:lnTo>
                    <a:pt x="163" y="247"/>
                  </a:lnTo>
                  <a:lnTo>
                    <a:pt x="132" y="478"/>
                  </a:lnTo>
                  <a:lnTo>
                    <a:pt x="132" y="695"/>
                  </a:lnTo>
                  <a:lnTo>
                    <a:pt x="132" y="911"/>
                  </a:lnTo>
                  <a:lnTo>
                    <a:pt x="13" y="911"/>
                  </a:lnTo>
                  <a:lnTo>
                    <a:pt x="0" y="681"/>
                  </a:lnTo>
                  <a:lnTo>
                    <a:pt x="13" y="462"/>
                  </a:lnTo>
                  <a:lnTo>
                    <a:pt x="13" y="347"/>
                  </a:lnTo>
                  <a:lnTo>
                    <a:pt x="31" y="232"/>
                  </a:lnTo>
                  <a:lnTo>
                    <a:pt x="75" y="0"/>
                  </a:lnTo>
                  <a:lnTo>
                    <a:pt x="205" y="15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658840" y="5305680"/>
              <a:ext cx="132120" cy="698760"/>
            </a:xfrm>
            <a:custGeom>
              <a:avLst/>
              <a:gdLst/>
              <a:ahLst/>
              <a:rect l="l" t="t" r="r" b="b"/>
              <a:pathLst>
                <a:path w="205" h="911">
                  <a:moveTo>
                    <a:pt x="205" y="15"/>
                  </a:moveTo>
                  <a:lnTo>
                    <a:pt x="163" y="247"/>
                  </a:lnTo>
                  <a:lnTo>
                    <a:pt x="132" y="478"/>
                  </a:lnTo>
                  <a:lnTo>
                    <a:pt x="132" y="695"/>
                  </a:lnTo>
                  <a:lnTo>
                    <a:pt x="132" y="911"/>
                  </a:lnTo>
                  <a:lnTo>
                    <a:pt x="13" y="911"/>
                  </a:lnTo>
                  <a:lnTo>
                    <a:pt x="0" y="681"/>
                  </a:lnTo>
                  <a:lnTo>
                    <a:pt x="13" y="462"/>
                  </a:lnTo>
                  <a:lnTo>
                    <a:pt x="13" y="347"/>
                  </a:lnTo>
                  <a:lnTo>
                    <a:pt x="31" y="232"/>
                  </a:lnTo>
                  <a:lnTo>
                    <a:pt x="75" y="0"/>
                  </a:lnTo>
                  <a:lnTo>
                    <a:pt x="205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079960" y="4662000"/>
              <a:ext cx="3251160" cy="1342800"/>
            </a:xfrm>
            <a:custGeom>
              <a:avLst/>
              <a:gdLst/>
              <a:ahLst/>
              <a:rect l="l" t="t" r="r" b="b"/>
              <a:pathLst>
                <a:path w="5077" h="1750">
                  <a:moveTo>
                    <a:pt x="3879" y="1403"/>
                  </a:moveTo>
                  <a:lnTo>
                    <a:pt x="3820" y="1750"/>
                  </a:lnTo>
                  <a:lnTo>
                    <a:pt x="3597" y="1750"/>
                  </a:lnTo>
                  <a:lnTo>
                    <a:pt x="3612" y="1591"/>
                  </a:lnTo>
                  <a:lnTo>
                    <a:pt x="0" y="0"/>
                  </a:lnTo>
                  <a:lnTo>
                    <a:pt x="5077" y="693"/>
                  </a:lnTo>
                  <a:lnTo>
                    <a:pt x="3879" y="140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079960" y="4662000"/>
              <a:ext cx="3251160" cy="1342800"/>
            </a:xfrm>
            <a:custGeom>
              <a:avLst/>
              <a:gdLst/>
              <a:ahLst/>
              <a:rect l="l" t="t" r="r" b="b"/>
              <a:pathLst>
                <a:path w="5077" h="1750">
                  <a:moveTo>
                    <a:pt x="3879" y="1403"/>
                  </a:moveTo>
                  <a:lnTo>
                    <a:pt x="3820" y="1750"/>
                  </a:lnTo>
                  <a:lnTo>
                    <a:pt x="3597" y="1750"/>
                  </a:lnTo>
                  <a:lnTo>
                    <a:pt x="3612" y="1591"/>
                  </a:lnTo>
                  <a:lnTo>
                    <a:pt x="0" y="0"/>
                  </a:lnTo>
                  <a:lnTo>
                    <a:pt x="5077" y="693"/>
                  </a:lnTo>
                  <a:lnTo>
                    <a:pt x="3879" y="140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075160" y="5206320"/>
              <a:ext cx="1280160" cy="798480"/>
            </a:xfrm>
            <a:custGeom>
              <a:avLst/>
              <a:gdLst/>
              <a:ahLst/>
              <a:rect l="l" t="t" r="r" b="b"/>
              <a:pathLst>
                <a:path w="1998" h="1042">
                  <a:moveTo>
                    <a:pt x="962" y="941"/>
                  </a:moveTo>
                  <a:lnTo>
                    <a:pt x="1998" y="898"/>
                  </a:lnTo>
                  <a:lnTo>
                    <a:pt x="1998" y="1042"/>
                  </a:lnTo>
                  <a:lnTo>
                    <a:pt x="0" y="1042"/>
                  </a:lnTo>
                  <a:lnTo>
                    <a:pt x="399" y="0"/>
                  </a:lnTo>
                  <a:lnTo>
                    <a:pt x="962" y="941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8075160" y="5206320"/>
              <a:ext cx="1280160" cy="798480"/>
            </a:xfrm>
            <a:custGeom>
              <a:avLst/>
              <a:gdLst/>
              <a:ahLst/>
              <a:rect l="l" t="t" r="r" b="b"/>
              <a:pathLst>
                <a:path w="1998" h="1042">
                  <a:moveTo>
                    <a:pt x="962" y="941"/>
                  </a:moveTo>
                  <a:lnTo>
                    <a:pt x="1998" y="898"/>
                  </a:lnTo>
                  <a:lnTo>
                    <a:pt x="1998" y="1042"/>
                  </a:lnTo>
                  <a:lnTo>
                    <a:pt x="0" y="1042"/>
                  </a:lnTo>
                  <a:lnTo>
                    <a:pt x="399" y="0"/>
                  </a:lnTo>
                  <a:lnTo>
                    <a:pt x="962" y="9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8331480" y="2906640"/>
              <a:ext cx="1023840" cy="2444760"/>
            </a:xfrm>
            <a:custGeom>
              <a:avLst/>
              <a:gdLst/>
              <a:ahLst/>
              <a:rect l="l" t="t" r="r" b="b"/>
              <a:pathLst>
                <a:path w="1599" h="3188">
                  <a:moveTo>
                    <a:pt x="1200" y="2274"/>
                  </a:moveTo>
                  <a:lnTo>
                    <a:pt x="1599" y="0"/>
                  </a:lnTo>
                  <a:lnTo>
                    <a:pt x="1599" y="969"/>
                  </a:lnTo>
                  <a:lnTo>
                    <a:pt x="1467" y="2086"/>
                  </a:lnTo>
                  <a:lnTo>
                    <a:pt x="1599" y="2131"/>
                  </a:lnTo>
                  <a:lnTo>
                    <a:pt x="1599" y="3188"/>
                  </a:lnTo>
                  <a:lnTo>
                    <a:pt x="0" y="2969"/>
                  </a:lnTo>
                  <a:lnTo>
                    <a:pt x="1200" y="2274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8331480" y="2906640"/>
              <a:ext cx="1023840" cy="2444760"/>
            </a:xfrm>
            <a:custGeom>
              <a:avLst/>
              <a:gdLst/>
              <a:ahLst/>
              <a:rect l="l" t="t" r="r" b="b"/>
              <a:pathLst>
                <a:path w="1599" h="3188">
                  <a:moveTo>
                    <a:pt x="1200" y="2274"/>
                  </a:moveTo>
                  <a:lnTo>
                    <a:pt x="1599" y="0"/>
                  </a:lnTo>
                  <a:lnTo>
                    <a:pt x="1599" y="969"/>
                  </a:lnTo>
                  <a:lnTo>
                    <a:pt x="1467" y="2086"/>
                  </a:lnTo>
                  <a:lnTo>
                    <a:pt x="1599" y="2131"/>
                  </a:lnTo>
                  <a:lnTo>
                    <a:pt x="1599" y="3188"/>
                  </a:lnTo>
                  <a:lnTo>
                    <a:pt x="0" y="2969"/>
                  </a:lnTo>
                  <a:lnTo>
                    <a:pt x="1200" y="2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223600" y="1773720"/>
              <a:ext cx="4132080" cy="3419640"/>
            </a:xfrm>
            <a:custGeom>
              <a:avLst/>
              <a:gdLst/>
              <a:ahLst/>
              <a:rect l="l" t="t" r="r" b="b"/>
              <a:pathLst>
                <a:path w="6454" h="4461">
                  <a:moveTo>
                    <a:pt x="4145" y="3290"/>
                  </a:moveTo>
                  <a:lnTo>
                    <a:pt x="6454" y="0"/>
                  </a:lnTo>
                  <a:lnTo>
                    <a:pt x="6454" y="307"/>
                  </a:lnTo>
                  <a:lnTo>
                    <a:pt x="4855" y="4461"/>
                  </a:lnTo>
                  <a:lnTo>
                    <a:pt x="4308" y="3505"/>
                  </a:lnTo>
                  <a:lnTo>
                    <a:pt x="0" y="3693"/>
                  </a:lnTo>
                  <a:lnTo>
                    <a:pt x="4145" y="3290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223600" y="1773720"/>
              <a:ext cx="4132080" cy="3419640"/>
            </a:xfrm>
            <a:custGeom>
              <a:avLst/>
              <a:gdLst/>
              <a:ahLst/>
              <a:rect l="l" t="t" r="r" b="b"/>
              <a:pathLst>
                <a:path w="6454" h="4461">
                  <a:moveTo>
                    <a:pt x="4145" y="3290"/>
                  </a:moveTo>
                  <a:lnTo>
                    <a:pt x="6454" y="0"/>
                  </a:lnTo>
                  <a:lnTo>
                    <a:pt x="6454" y="307"/>
                  </a:lnTo>
                  <a:lnTo>
                    <a:pt x="4855" y="4461"/>
                  </a:lnTo>
                  <a:lnTo>
                    <a:pt x="4308" y="3505"/>
                  </a:lnTo>
                  <a:lnTo>
                    <a:pt x="0" y="3693"/>
                  </a:lnTo>
                  <a:lnTo>
                    <a:pt x="4145" y="329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829280" y="2762640"/>
              <a:ext cx="644040" cy="212760"/>
            </a:xfrm>
            <a:custGeom>
              <a:avLst/>
              <a:gdLst/>
              <a:ahLst/>
              <a:rect l="l" t="t" r="r" b="b"/>
              <a:pathLst>
                <a:path w="1006" h="276">
                  <a:moveTo>
                    <a:pt x="0" y="161"/>
                  </a:moveTo>
                  <a:lnTo>
                    <a:pt x="251" y="73"/>
                  </a:lnTo>
                  <a:lnTo>
                    <a:pt x="384" y="44"/>
                  </a:lnTo>
                  <a:lnTo>
                    <a:pt x="503" y="0"/>
                  </a:lnTo>
                  <a:lnTo>
                    <a:pt x="1006" y="73"/>
                  </a:lnTo>
                  <a:lnTo>
                    <a:pt x="873" y="276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108200" y="3219480"/>
              <a:ext cx="1061640" cy="300240"/>
            </a:xfrm>
            <a:custGeom>
              <a:avLst/>
              <a:gdLst/>
              <a:ahLst/>
              <a:rect l="l" t="t" r="r" b="b"/>
              <a:pathLst>
                <a:path w="1659" h="391">
                  <a:moveTo>
                    <a:pt x="0" y="188"/>
                  </a:moveTo>
                  <a:lnTo>
                    <a:pt x="269" y="0"/>
                  </a:lnTo>
                  <a:lnTo>
                    <a:pt x="1659" y="188"/>
                  </a:lnTo>
                  <a:lnTo>
                    <a:pt x="1511" y="391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663960" y="3729960"/>
              <a:ext cx="1194480" cy="344520"/>
            </a:xfrm>
            <a:custGeom>
              <a:avLst/>
              <a:gdLst/>
              <a:ahLst/>
              <a:rect l="l" t="t" r="r" b="b"/>
              <a:pathLst>
                <a:path w="1866" h="449">
                  <a:moveTo>
                    <a:pt x="0" y="203"/>
                  </a:moveTo>
                  <a:lnTo>
                    <a:pt x="179" y="0"/>
                  </a:lnTo>
                  <a:lnTo>
                    <a:pt x="1866" y="246"/>
                  </a:lnTo>
                  <a:lnTo>
                    <a:pt x="1732" y="449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426000" y="4272480"/>
              <a:ext cx="48240" cy="11880"/>
            </a:xfrm>
            <a:custGeom>
              <a:avLst/>
              <a:gdLst/>
              <a:ahLst/>
              <a:rect l="l" t="t" r="r" b="b"/>
              <a:pathLst>
                <a:path w="75" h="16">
                  <a:moveTo>
                    <a:pt x="15" y="0"/>
                  </a:moveTo>
                  <a:lnTo>
                    <a:pt x="75" y="16"/>
                  </a:lnTo>
                  <a:lnTo>
                    <a:pt x="0" y="1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c53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010920" y="5405400"/>
              <a:ext cx="538920" cy="254160"/>
            </a:xfrm>
            <a:custGeom>
              <a:avLst/>
              <a:gdLst/>
              <a:ahLst/>
              <a:rect l="l" t="t" r="r" b="b"/>
              <a:pathLst>
                <a:path w="843" h="332">
                  <a:moveTo>
                    <a:pt x="0" y="217"/>
                  </a:moveTo>
                  <a:lnTo>
                    <a:pt x="13" y="102"/>
                  </a:lnTo>
                  <a:lnTo>
                    <a:pt x="42" y="0"/>
                  </a:lnTo>
                  <a:lnTo>
                    <a:pt x="175" y="14"/>
                  </a:lnTo>
                  <a:lnTo>
                    <a:pt x="843" y="332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267080" y="4461120"/>
              <a:ext cx="699120" cy="222480"/>
            </a:xfrm>
            <a:custGeom>
              <a:avLst/>
              <a:gdLst/>
              <a:ahLst/>
              <a:rect l="l" t="t" r="r" b="b"/>
              <a:pathLst>
                <a:path w="1092" h="290">
                  <a:moveTo>
                    <a:pt x="0" y="161"/>
                  </a:moveTo>
                  <a:lnTo>
                    <a:pt x="58" y="0"/>
                  </a:lnTo>
                  <a:lnTo>
                    <a:pt x="1092" y="146"/>
                  </a:lnTo>
                  <a:lnTo>
                    <a:pt x="1035" y="290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c53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3276720" y="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ontr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3505320" y="64008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ManTech Propriet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066680" y="1447920"/>
            <a:ext cx="777240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394240" y="750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447920" y="1905120"/>
            <a:ext cx="6553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Security staff is meeting our requireme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Many of our requests can be very demanding to meet operational deadli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4267080" y="1773720"/>
            <a:ext cx="5088600" cy="4231080"/>
            <a:chOff x="4267080" y="1773720"/>
            <a:chExt cx="5088600" cy="4231080"/>
          </a:xfrm>
        </p:grpSpPr>
        <p:sp>
          <p:nvSpPr>
            <p:cNvPr id="528" name=""/>
            <p:cNvSpPr/>
            <p:nvPr/>
          </p:nvSpPr>
          <p:spPr>
            <a:xfrm>
              <a:off x="5999400" y="2308680"/>
              <a:ext cx="2786400" cy="2031120"/>
            </a:xfrm>
            <a:custGeom>
              <a:avLst/>
              <a:gdLst/>
              <a:ahLst/>
              <a:rect l="l" t="t" r="r" b="b"/>
              <a:pathLst>
                <a:path w="4351" h="2650">
                  <a:moveTo>
                    <a:pt x="0" y="2593"/>
                  </a:moveTo>
                  <a:lnTo>
                    <a:pt x="74" y="2447"/>
                  </a:lnTo>
                  <a:lnTo>
                    <a:pt x="165" y="2303"/>
                  </a:lnTo>
                  <a:lnTo>
                    <a:pt x="266" y="2172"/>
                  </a:lnTo>
                  <a:lnTo>
                    <a:pt x="357" y="2040"/>
                  </a:lnTo>
                  <a:lnTo>
                    <a:pt x="564" y="1781"/>
                  </a:lnTo>
                  <a:lnTo>
                    <a:pt x="787" y="1549"/>
                  </a:lnTo>
                  <a:lnTo>
                    <a:pt x="917" y="1433"/>
                  </a:lnTo>
                  <a:lnTo>
                    <a:pt x="1036" y="1316"/>
                  </a:lnTo>
                  <a:lnTo>
                    <a:pt x="1288" y="1101"/>
                  </a:lnTo>
                  <a:lnTo>
                    <a:pt x="1422" y="1000"/>
                  </a:lnTo>
                  <a:lnTo>
                    <a:pt x="1555" y="911"/>
                  </a:lnTo>
                  <a:lnTo>
                    <a:pt x="1835" y="723"/>
                  </a:lnTo>
                  <a:lnTo>
                    <a:pt x="1984" y="652"/>
                  </a:lnTo>
                  <a:lnTo>
                    <a:pt x="2132" y="566"/>
                  </a:lnTo>
                  <a:lnTo>
                    <a:pt x="2428" y="420"/>
                  </a:lnTo>
                  <a:lnTo>
                    <a:pt x="2591" y="360"/>
                  </a:lnTo>
                  <a:lnTo>
                    <a:pt x="2739" y="303"/>
                  </a:lnTo>
                  <a:lnTo>
                    <a:pt x="2902" y="245"/>
                  </a:lnTo>
                  <a:lnTo>
                    <a:pt x="3050" y="188"/>
                  </a:lnTo>
                  <a:lnTo>
                    <a:pt x="3213" y="145"/>
                  </a:lnTo>
                  <a:lnTo>
                    <a:pt x="3376" y="115"/>
                  </a:lnTo>
                  <a:lnTo>
                    <a:pt x="3537" y="71"/>
                  </a:lnTo>
                  <a:lnTo>
                    <a:pt x="3701" y="44"/>
                  </a:lnTo>
                  <a:lnTo>
                    <a:pt x="3864" y="30"/>
                  </a:lnTo>
                  <a:lnTo>
                    <a:pt x="4027" y="13"/>
                  </a:lnTo>
                  <a:lnTo>
                    <a:pt x="4190" y="0"/>
                  </a:lnTo>
                  <a:lnTo>
                    <a:pt x="4351" y="0"/>
                  </a:lnTo>
                  <a:lnTo>
                    <a:pt x="4351" y="115"/>
                  </a:lnTo>
                  <a:lnTo>
                    <a:pt x="4190" y="130"/>
                  </a:lnTo>
                  <a:lnTo>
                    <a:pt x="4027" y="130"/>
                  </a:lnTo>
                  <a:lnTo>
                    <a:pt x="3879" y="145"/>
                  </a:lnTo>
                  <a:lnTo>
                    <a:pt x="3716" y="174"/>
                  </a:lnTo>
                  <a:lnTo>
                    <a:pt x="3553" y="201"/>
                  </a:lnTo>
                  <a:lnTo>
                    <a:pt x="3405" y="232"/>
                  </a:lnTo>
                  <a:lnTo>
                    <a:pt x="3094" y="318"/>
                  </a:lnTo>
                  <a:lnTo>
                    <a:pt x="2931" y="360"/>
                  </a:lnTo>
                  <a:lnTo>
                    <a:pt x="2783" y="420"/>
                  </a:lnTo>
                  <a:lnTo>
                    <a:pt x="2487" y="535"/>
                  </a:lnTo>
                  <a:lnTo>
                    <a:pt x="2340" y="608"/>
                  </a:lnTo>
                  <a:lnTo>
                    <a:pt x="2192" y="681"/>
                  </a:lnTo>
                  <a:lnTo>
                    <a:pt x="2044" y="754"/>
                  </a:lnTo>
                  <a:lnTo>
                    <a:pt x="1910" y="838"/>
                  </a:lnTo>
                  <a:lnTo>
                    <a:pt x="1762" y="911"/>
                  </a:lnTo>
                  <a:lnTo>
                    <a:pt x="1627" y="1013"/>
                  </a:lnTo>
                  <a:lnTo>
                    <a:pt x="1363" y="1201"/>
                  </a:lnTo>
                  <a:lnTo>
                    <a:pt x="1244" y="1303"/>
                  </a:lnTo>
                  <a:lnTo>
                    <a:pt x="1126" y="1405"/>
                  </a:lnTo>
                  <a:lnTo>
                    <a:pt x="888" y="1622"/>
                  </a:lnTo>
                  <a:lnTo>
                    <a:pt x="769" y="1737"/>
                  </a:lnTo>
                  <a:lnTo>
                    <a:pt x="666" y="1867"/>
                  </a:lnTo>
                  <a:lnTo>
                    <a:pt x="564" y="1982"/>
                  </a:lnTo>
                  <a:lnTo>
                    <a:pt x="460" y="2115"/>
                  </a:lnTo>
                  <a:lnTo>
                    <a:pt x="370" y="2245"/>
                  </a:lnTo>
                  <a:lnTo>
                    <a:pt x="266" y="2374"/>
                  </a:lnTo>
                  <a:lnTo>
                    <a:pt x="103" y="2650"/>
                  </a:lnTo>
                  <a:lnTo>
                    <a:pt x="0" y="259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58840" y="5305680"/>
              <a:ext cx="132120" cy="698760"/>
            </a:xfrm>
            <a:custGeom>
              <a:avLst/>
              <a:gdLst/>
              <a:ahLst/>
              <a:rect l="l" t="t" r="r" b="b"/>
              <a:pathLst>
                <a:path w="205" h="911">
                  <a:moveTo>
                    <a:pt x="205" y="15"/>
                  </a:moveTo>
                  <a:lnTo>
                    <a:pt x="163" y="247"/>
                  </a:lnTo>
                  <a:lnTo>
                    <a:pt x="132" y="478"/>
                  </a:lnTo>
                  <a:lnTo>
                    <a:pt x="132" y="695"/>
                  </a:lnTo>
                  <a:lnTo>
                    <a:pt x="132" y="911"/>
                  </a:lnTo>
                  <a:lnTo>
                    <a:pt x="13" y="911"/>
                  </a:lnTo>
                  <a:lnTo>
                    <a:pt x="0" y="681"/>
                  </a:lnTo>
                  <a:lnTo>
                    <a:pt x="13" y="462"/>
                  </a:lnTo>
                  <a:lnTo>
                    <a:pt x="13" y="347"/>
                  </a:lnTo>
                  <a:lnTo>
                    <a:pt x="31" y="232"/>
                  </a:lnTo>
                  <a:lnTo>
                    <a:pt x="75" y="0"/>
                  </a:lnTo>
                  <a:lnTo>
                    <a:pt x="205" y="15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658840" y="5305680"/>
              <a:ext cx="132120" cy="698760"/>
            </a:xfrm>
            <a:custGeom>
              <a:avLst/>
              <a:gdLst/>
              <a:ahLst/>
              <a:rect l="l" t="t" r="r" b="b"/>
              <a:pathLst>
                <a:path w="205" h="911">
                  <a:moveTo>
                    <a:pt x="205" y="15"/>
                  </a:moveTo>
                  <a:lnTo>
                    <a:pt x="163" y="247"/>
                  </a:lnTo>
                  <a:lnTo>
                    <a:pt x="132" y="478"/>
                  </a:lnTo>
                  <a:lnTo>
                    <a:pt x="132" y="695"/>
                  </a:lnTo>
                  <a:lnTo>
                    <a:pt x="132" y="911"/>
                  </a:lnTo>
                  <a:lnTo>
                    <a:pt x="13" y="911"/>
                  </a:lnTo>
                  <a:lnTo>
                    <a:pt x="0" y="681"/>
                  </a:lnTo>
                  <a:lnTo>
                    <a:pt x="13" y="462"/>
                  </a:lnTo>
                  <a:lnTo>
                    <a:pt x="13" y="347"/>
                  </a:lnTo>
                  <a:lnTo>
                    <a:pt x="31" y="232"/>
                  </a:lnTo>
                  <a:lnTo>
                    <a:pt x="75" y="0"/>
                  </a:lnTo>
                  <a:lnTo>
                    <a:pt x="205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079960" y="4662000"/>
              <a:ext cx="3251160" cy="1342800"/>
            </a:xfrm>
            <a:custGeom>
              <a:avLst/>
              <a:gdLst/>
              <a:ahLst/>
              <a:rect l="l" t="t" r="r" b="b"/>
              <a:pathLst>
                <a:path w="5077" h="1750">
                  <a:moveTo>
                    <a:pt x="3879" y="1403"/>
                  </a:moveTo>
                  <a:lnTo>
                    <a:pt x="3820" y="1750"/>
                  </a:lnTo>
                  <a:lnTo>
                    <a:pt x="3597" y="1750"/>
                  </a:lnTo>
                  <a:lnTo>
                    <a:pt x="3612" y="1591"/>
                  </a:lnTo>
                  <a:lnTo>
                    <a:pt x="0" y="0"/>
                  </a:lnTo>
                  <a:lnTo>
                    <a:pt x="5077" y="693"/>
                  </a:lnTo>
                  <a:lnTo>
                    <a:pt x="3879" y="140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079960" y="4662000"/>
              <a:ext cx="3251160" cy="1342800"/>
            </a:xfrm>
            <a:custGeom>
              <a:avLst/>
              <a:gdLst/>
              <a:ahLst/>
              <a:rect l="l" t="t" r="r" b="b"/>
              <a:pathLst>
                <a:path w="5077" h="1750">
                  <a:moveTo>
                    <a:pt x="3879" y="1403"/>
                  </a:moveTo>
                  <a:lnTo>
                    <a:pt x="3820" y="1750"/>
                  </a:lnTo>
                  <a:lnTo>
                    <a:pt x="3597" y="1750"/>
                  </a:lnTo>
                  <a:lnTo>
                    <a:pt x="3612" y="1591"/>
                  </a:lnTo>
                  <a:lnTo>
                    <a:pt x="0" y="0"/>
                  </a:lnTo>
                  <a:lnTo>
                    <a:pt x="5077" y="693"/>
                  </a:lnTo>
                  <a:lnTo>
                    <a:pt x="3879" y="140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075160" y="5206320"/>
              <a:ext cx="1280160" cy="798480"/>
            </a:xfrm>
            <a:custGeom>
              <a:avLst/>
              <a:gdLst/>
              <a:ahLst/>
              <a:rect l="l" t="t" r="r" b="b"/>
              <a:pathLst>
                <a:path w="1998" h="1042">
                  <a:moveTo>
                    <a:pt x="962" y="941"/>
                  </a:moveTo>
                  <a:lnTo>
                    <a:pt x="1998" y="898"/>
                  </a:lnTo>
                  <a:lnTo>
                    <a:pt x="1998" y="1042"/>
                  </a:lnTo>
                  <a:lnTo>
                    <a:pt x="0" y="1042"/>
                  </a:lnTo>
                  <a:lnTo>
                    <a:pt x="399" y="0"/>
                  </a:lnTo>
                  <a:lnTo>
                    <a:pt x="962" y="941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8075160" y="5206320"/>
              <a:ext cx="1280160" cy="798480"/>
            </a:xfrm>
            <a:custGeom>
              <a:avLst/>
              <a:gdLst/>
              <a:ahLst/>
              <a:rect l="l" t="t" r="r" b="b"/>
              <a:pathLst>
                <a:path w="1998" h="1042">
                  <a:moveTo>
                    <a:pt x="962" y="941"/>
                  </a:moveTo>
                  <a:lnTo>
                    <a:pt x="1998" y="898"/>
                  </a:lnTo>
                  <a:lnTo>
                    <a:pt x="1998" y="1042"/>
                  </a:lnTo>
                  <a:lnTo>
                    <a:pt x="0" y="1042"/>
                  </a:lnTo>
                  <a:lnTo>
                    <a:pt x="399" y="0"/>
                  </a:lnTo>
                  <a:lnTo>
                    <a:pt x="962" y="9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331480" y="2906640"/>
              <a:ext cx="1023840" cy="2444760"/>
            </a:xfrm>
            <a:custGeom>
              <a:avLst/>
              <a:gdLst/>
              <a:ahLst/>
              <a:rect l="l" t="t" r="r" b="b"/>
              <a:pathLst>
                <a:path w="1599" h="3188">
                  <a:moveTo>
                    <a:pt x="1200" y="2274"/>
                  </a:moveTo>
                  <a:lnTo>
                    <a:pt x="1599" y="0"/>
                  </a:lnTo>
                  <a:lnTo>
                    <a:pt x="1599" y="969"/>
                  </a:lnTo>
                  <a:lnTo>
                    <a:pt x="1467" y="2086"/>
                  </a:lnTo>
                  <a:lnTo>
                    <a:pt x="1599" y="2131"/>
                  </a:lnTo>
                  <a:lnTo>
                    <a:pt x="1599" y="3188"/>
                  </a:lnTo>
                  <a:lnTo>
                    <a:pt x="0" y="2969"/>
                  </a:lnTo>
                  <a:lnTo>
                    <a:pt x="1200" y="2274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331480" y="2906640"/>
              <a:ext cx="1023840" cy="2444760"/>
            </a:xfrm>
            <a:custGeom>
              <a:avLst/>
              <a:gdLst/>
              <a:ahLst/>
              <a:rect l="l" t="t" r="r" b="b"/>
              <a:pathLst>
                <a:path w="1599" h="3188">
                  <a:moveTo>
                    <a:pt x="1200" y="2274"/>
                  </a:moveTo>
                  <a:lnTo>
                    <a:pt x="1599" y="0"/>
                  </a:lnTo>
                  <a:lnTo>
                    <a:pt x="1599" y="969"/>
                  </a:lnTo>
                  <a:lnTo>
                    <a:pt x="1467" y="2086"/>
                  </a:lnTo>
                  <a:lnTo>
                    <a:pt x="1599" y="2131"/>
                  </a:lnTo>
                  <a:lnTo>
                    <a:pt x="1599" y="3188"/>
                  </a:lnTo>
                  <a:lnTo>
                    <a:pt x="0" y="2969"/>
                  </a:lnTo>
                  <a:lnTo>
                    <a:pt x="1200" y="2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223600" y="1773720"/>
              <a:ext cx="4132080" cy="3419640"/>
            </a:xfrm>
            <a:custGeom>
              <a:avLst/>
              <a:gdLst/>
              <a:ahLst/>
              <a:rect l="l" t="t" r="r" b="b"/>
              <a:pathLst>
                <a:path w="6454" h="4461">
                  <a:moveTo>
                    <a:pt x="4145" y="3290"/>
                  </a:moveTo>
                  <a:lnTo>
                    <a:pt x="6454" y="0"/>
                  </a:lnTo>
                  <a:lnTo>
                    <a:pt x="6454" y="307"/>
                  </a:lnTo>
                  <a:lnTo>
                    <a:pt x="4855" y="4461"/>
                  </a:lnTo>
                  <a:lnTo>
                    <a:pt x="4308" y="3505"/>
                  </a:lnTo>
                  <a:lnTo>
                    <a:pt x="0" y="3693"/>
                  </a:lnTo>
                  <a:lnTo>
                    <a:pt x="4145" y="3290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223600" y="1773720"/>
              <a:ext cx="4132080" cy="3419640"/>
            </a:xfrm>
            <a:custGeom>
              <a:avLst/>
              <a:gdLst/>
              <a:ahLst/>
              <a:rect l="l" t="t" r="r" b="b"/>
              <a:pathLst>
                <a:path w="6454" h="4461">
                  <a:moveTo>
                    <a:pt x="4145" y="3290"/>
                  </a:moveTo>
                  <a:lnTo>
                    <a:pt x="6454" y="0"/>
                  </a:lnTo>
                  <a:lnTo>
                    <a:pt x="6454" y="307"/>
                  </a:lnTo>
                  <a:lnTo>
                    <a:pt x="4855" y="4461"/>
                  </a:lnTo>
                  <a:lnTo>
                    <a:pt x="4308" y="3505"/>
                  </a:lnTo>
                  <a:lnTo>
                    <a:pt x="0" y="3693"/>
                  </a:lnTo>
                  <a:lnTo>
                    <a:pt x="4145" y="329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829280" y="2762640"/>
              <a:ext cx="644040" cy="212760"/>
            </a:xfrm>
            <a:custGeom>
              <a:avLst/>
              <a:gdLst/>
              <a:ahLst/>
              <a:rect l="l" t="t" r="r" b="b"/>
              <a:pathLst>
                <a:path w="1006" h="276">
                  <a:moveTo>
                    <a:pt x="0" y="161"/>
                  </a:moveTo>
                  <a:lnTo>
                    <a:pt x="251" y="73"/>
                  </a:lnTo>
                  <a:lnTo>
                    <a:pt x="384" y="44"/>
                  </a:lnTo>
                  <a:lnTo>
                    <a:pt x="503" y="0"/>
                  </a:lnTo>
                  <a:lnTo>
                    <a:pt x="1006" y="73"/>
                  </a:lnTo>
                  <a:lnTo>
                    <a:pt x="873" y="276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108200" y="3219480"/>
              <a:ext cx="1061640" cy="300240"/>
            </a:xfrm>
            <a:custGeom>
              <a:avLst/>
              <a:gdLst/>
              <a:ahLst/>
              <a:rect l="l" t="t" r="r" b="b"/>
              <a:pathLst>
                <a:path w="1659" h="391">
                  <a:moveTo>
                    <a:pt x="0" y="188"/>
                  </a:moveTo>
                  <a:lnTo>
                    <a:pt x="269" y="0"/>
                  </a:lnTo>
                  <a:lnTo>
                    <a:pt x="1659" y="188"/>
                  </a:lnTo>
                  <a:lnTo>
                    <a:pt x="1511" y="391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663960" y="3729960"/>
              <a:ext cx="1194480" cy="344520"/>
            </a:xfrm>
            <a:custGeom>
              <a:avLst/>
              <a:gdLst/>
              <a:ahLst/>
              <a:rect l="l" t="t" r="r" b="b"/>
              <a:pathLst>
                <a:path w="1866" h="449">
                  <a:moveTo>
                    <a:pt x="0" y="203"/>
                  </a:moveTo>
                  <a:lnTo>
                    <a:pt x="179" y="0"/>
                  </a:lnTo>
                  <a:lnTo>
                    <a:pt x="1866" y="246"/>
                  </a:lnTo>
                  <a:lnTo>
                    <a:pt x="1732" y="449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426000" y="4272480"/>
              <a:ext cx="48240" cy="11880"/>
            </a:xfrm>
            <a:custGeom>
              <a:avLst/>
              <a:gdLst/>
              <a:ahLst/>
              <a:rect l="l" t="t" r="r" b="b"/>
              <a:pathLst>
                <a:path w="75" h="16">
                  <a:moveTo>
                    <a:pt x="15" y="0"/>
                  </a:moveTo>
                  <a:lnTo>
                    <a:pt x="75" y="16"/>
                  </a:lnTo>
                  <a:lnTo>
                    <a:pt x="0" y="1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c53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010920" y="5405400"/>
              <a:ext cx="538920" cy="254160"/>
            </a:xfrm>
            <a:custGeom>
              <a:avLst/>
              <a:gdLst/>
              <a:ahLst/>
              <a:rect l="l" t="t" r="r" b="b"/>
              <a:pathLst>
                <a:path w="843" h="332">
                  <a:moveTo>
                    <a:pt x="0" y="217"/>
                  </a:moveTo>
                  <a:lnTo>
                    <a:pt x="13" y="102"/>
                  </a:lnTo>
                  <a:lnTo>
                    <a:pt x="42" y="0"/>
                  </a:lnTo>
                  <a:lnTo>
                    <a:pt x="175" y="14"/>
                  </a:lnTo>
                  <a:lnTo>
                    <a:pt x="843" y="332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267080" y="4461120"/>
              <a:ext cx="699120" cy="222480"/>
            </a:xfrm>
            <a:custGeom>
              <a:avLst/>
              <a:gdLst/>
              <a:ahLst/>
              <a:rect l="l" t="t" r="r" b="b"/>
              <a:pathLst>
                <a:path w="1092" h="290">
                  <a:moveTo>
                    <a:pt x="0" y="161"/>
                  </a:moveTo>
                  <a:lnTo>
                    <a:pt x="58" y="0"/>
                  </a:lnTo>
                  <a:lnTo>
                    <a:pt x="1092" y="146"/>
                  </a:lnTo>
                  <a:lnTo>
                    <a:pt x="1035" y="290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c53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999400" y="2308680"/>
              <a:ext cx="2786400" cy="2031120"/>
            </a:xfrm>
            <a:custGeom>
              <a:avLst/>
              <a:gdLst/>
              <a:ahLst/>
              <a:rect l="l" t="t" r="r" b="b"/>
              <a:pathLst>
                <a:path w="4351" h="2650">
                  <a:moveTo>
                    <a:pt x="0" y="2593"/>
                  </a:moveTo>
                  <a:lnTo>
                    <a:pt x="74" y="2447"/>
                  </a:lnTo>
                  <a:lnTo>
                    <a:pt x="165" y="2303"/>
                  </a:lnTo>
                  <a:lnTo>
                    <a:pt x="266" y="2172"/>
                  </a:lnTo>
                  <a:lnTo>
                    <a:pt x="357" y="2040"/>
                  </a:lnTo>
                  <a:lnTo>
                    <a:pt x="564" y="1781"/>
                  </a:lnTo>
                  <a:lnTo>
                    <a:pt x="787" y="1549"/>
                  </a:lnTo>
                  <a:lnTo>
                    <a:pt x="917" y="1433"/>
                  </a:lnTo>
                  <a:lnTo>
                    <a:pt x="1036" y="1316"/>
                  </a:lnTo>
                  <a:lnTo>
                    <a:pt x="1288" y="1101"/>
                  </a:lnTo>
                  <a:lnTo>
                    <a:pt x="1422" y="1000"/>
                  </a:lnTo>
                  <a:lnTo>
                    <a:pt x="1555" y="911"/>
                  </a:lnTo>
                  <a:lnTo>
                    <a:pt x="1835" y="723"/>
                  </a:lnTo>
                  <a:lnTo>
                    <a:pt x="1984" y="652"/>
                  </a:lnTo>
                  <a:lnTo>
                    <a:pt x="2132" y="566"/>
                  </a:lnTo>
                  <a:lnTo>
                    <a:pt x="2428" y="420"/>
                  </a:lnTo>
                  <a:lnTo>
                    <a:pt x="2591" y="360"/>
                  </a:lnTo>
                  <a:lnTo>
                    <a:pt x="2739" y="303"/>
                  </a:lnTo>
                  <a:lnTo>
                    <a:pt x="2902" y="245"/>
                  </a:lnTo>
                  <a:lnTo>
                    <a:pt x="3050" y="188"/>
                  </a:lnTo>
                  <a:lnTo>
                    <a:pt x="3213" y="145"/>
                  </a:lnTo>
                  <a:lnTo>
                    <a:pt x="3376" y="115"/>
                  </a:lnTo>
                  <a:lnTo>
                    <a:pt x="3537" y="71"/>
                  </a:lnTo>
                  <a:lnTo>
                    <a:pt x="3701" y="44"/>
                  </a:lnTo>
                  <a:lnTo>
                    <a:pt x="3864" y="30"/>
                  </a:lnTo>
                  <a:lnTo>
                    <a:pt x="4027" y="13"/>
                  </a:lnTo>
                  <a:lnTo>
                    <a:pt x="4190" y="0"/>
                  </a:lnTo>
                  <a:lnTo>
                    <a:pt x="4351" y="0"/>
                  </a:lnTo>
                  <a:lnTo>
                    <a:pt x="4351" y="115"/>
                  </a:lnTo>
                  <a:lnTo>
                    <a:pt x="4190" y="130"/>
                  </a:lnTo>
                  <a:lnTo>
                    <a:pt x="4027" y="130"/>
                  </a:lnTo>
                  <a:lnTo>
                    <a:pt x="3879" y="145"/>
                  </a:lnTo>
                  <a:lnTo>
                    <a:pt x="3716" y="174"/>
                  </a:lnTo>
                  <a:lnTo>
                    <a:pt x="3553" y="201"/>
                  </a:lnTo>
                  <a:lnTo>
                    <a:pt x="3405" y="232"/>
                  </a:lnTo>
                  <a:lnTo>
                    <a:pt x="3094" y="318"/>
                  </a:lnTo>
                  <a:lnTo>
                    <a:pt x="2931" y="360"/>
                  </a:lnTo>
                  <a:lnTo>
                    <a:pt x="2783" y="420"/>
                  </a:lnTo>
                  <a:lnTo>
                    <a:pt x="2487" y="535"/>
                  </a:lnTo>
                  <a:lnTo>
                    <a:pt x="2340" y="608"/>
                  </a:lnTo>
                  <a:lnTo>
                    <a:pt x="2192" y="681"/>
                  </a:lnTo>
                  <a:lnTo>
                    <a:pt x="2044" y="754"/>
                  </a:lnTo>
                  <a:lnTo>
                    <a:pt x="1910" y="838"/>
                  </a:lnTo>
                  <a:lnTo>
                    <a:pt x="1762" y="911"/>
                  </a:lnTo>
                  <a:lnTo>
                    <a:pt x="1627" y="1013"/>
                  </a:lnTo>
                  <a:lnTo>
                    <a:pt x="1363" y="1201"/>
                  </a:lnTo>
                  <a:lnTo>
                    <a:pt x="1244" y="1303"/>
                  </a:lnTo>
                  <a:lnTo>
                    <a:pt x="1126" y="1405"/>
                  </a:lnTo>
                  <a:lnTo>
                    <a:pt x="888" y="1622"/>
                  </a:lnTo>
                  <a:lnTo>
                    <a:pt x="769" y="1737"/>
                  </a:lnTo>
                  <a:lnTo>
                    <a:pt x="666" y="1867"/>
                  </a:lnTo>
                  <a:lnTo>
                    <a:pt x="564" y="1982"/>
                  </a:lnTo>
                  <a:lnTo>
                    <a:pt x="460" y="2115"/>
                  </a:lnTo>
                  <a:lnTo>
                    <a:pt x="370" y="2245"/>
                  </a:lnTo>
                  <a:lnTo>
                    <a:pt x="266" y="2374"/>
                  </a:lnTo>
                  <a:lnTo>
                    <a:pt x="103" y="2650"/>
                  </a:lnTo>
                  <a:lnTo>
                    <a:pt x="0" y="259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658840" y="5305680"/>
              <a:ext cx="132120" cy="698760"/>
            </a:xfrm>
            <a:custGeom>
              <a:avLst/>
              <a:gdLst/>
              <a:ahLst/>
              <a:rect l="l" t="t" r="r" b="b"/>
              <a:pathLst>
                <a:path w="205" h="911">
                  <a:moveTo>
                    <a:pt x="205" y="15"/>
                  </a:moveTo>
                  <a:lnTo>
                    <a:pt x="163" y="247"/>
                  </a:lnTo>
                  <a:lnTo>
                    <a:pt x="132" y="478"/>
                  </a:lnTo>
                  <a:lnTo>
                    <a:pt x="132" y="695"/>
                  </a:lnTo>
                  <a:lnTo>
                    <a:pt x="132" y="911"/>
                  </a:lnTo>
                  <a:lnTo>
                    <a:pt x="13" y="911"/>
                  </a:lnTo>
                  <a:lnTo>
                    <a:pt x="0" y="681"/>
                  </a:lnTo>
                  <a:lnTo>
                    <a:pt x="13" y="462"/>
                  </a:lnTo>
                  <a:lnTo>
                    <a:pt x="13" y="347"/>
                  </a:lnTo>
                  <a:lnTo>
                    <a:pt x="31" y="232"/>
                  </a:lnTo>
                  <a:lnTo>
                    <a:pt x="75" y="0"/>
                  </a:lnTo>
                  <a:lnTo>
                    <a:pt x="205" y="15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658840" y="5305680"/>
              <a:ext cx="132120" cy="698760"/>
            </a:xfrm>
            <a:custGeom>
              <a:avLst/>
              <a:gdLst/>
              <a:ahLst/>
              <a:rect l="l" t="t" r="r" b="b"/>
              <a:pathLst>
                <a:path w="205" h="911">
                  <a:moveTo>
                    <a:pt x="205" y="15"/>
                  </a:moveTo>
                  <a:lnTo>
                    <a:pt x="163" y="247"/>
                  </a:lnTo>
                  <a:lnTo>
                    <a:pt x="132" y="478"/>
                  </a:lnTo>
                  <a:lnTo>
                    <a:pt x="132" y="695"/>
                  </a:lnTo>
                  <a:lnTo>
                    <a:pt x="132" y="911"/>
                  </a:lnTo>
                  <a:lnTo>
                    <a:pt x="13" y="911"/>
                  </a:lnTo>
                  <a:lnTo>
                    <a:pt x="0" y="681"/>
                  </a:lnTo>
                  <a:lnTo>
                    <a:pt x="13" y="462"/>
                  </a:lnTo>
                  <a:lnTo>
                    <a:pt x="13" y="347"/>
                  </a:lnTo>
                  <a:lnTo>
                    <a:pt x="31" y="232"/>
                  </a:lnTo>
                  <a:lnTo>
                    <a:pt x="75" y="0"/>
                  </a:lnTo>
                  <a:lnTo>
                    <a:pt x="205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079960" y="4662000"/>
              <a:ext cx="3251160" cy="1342800"/>
            </a:xfrm>
            <a:custGeom>
              <a:avLst/>
              <a:gdLst/>
              <a:ahLst/>
              <a:rect l="l" t="t" r="r" b="b"/>
              <a:pathLst>
                <a:path w="5077" h="1750">
                  <a:moveTo>
                    <a:pt x="3879" y="1403"/>
                  </a:moveTo>
                  <a:lnTo>
                    <a:pt x="3820" y="1750"/>
                  </a:lnTo>
                  <a:lnTo>
                    <a:pt x="3597" y="1750"/>
                  </a:lnTo>
                  <a:lnTo>
                    <a:pt x="3612" y="1591"/>
                  </a:lnTo>
                  <a:lnTo>
                    <a:pt x="0" y="0"/>
                  </a:lnTo>
                  <a:lnTo>
                    <a:pt x="5077" y="693"/>
                  </a:lnTo>
                  <a:lnTo>
                    <a:pt x="3879" y="140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079960" y="4662000"/>
              <a:ext cx="3251160" cy="1342800"/>
            </a:xfrm>
            <a:custGeom>
              <a:avLst/>
              <a:gdLst/>
              <a:ahLst/>
              <a:rect l="l" t="t" r="r" b="b"/>
              <a:pathLst>
                <a:path w="5077" h="1750">
                  <a:moveTo>
                    <a:pt x="3879" y="1403"/>
                  </a:moveTo>
                  <a:lnTo>
                    <a:pt x="3820" y="1750"/>
                  </a:lnTo>
                  <a:lnTo>
                    <a:pt x="3597" y="1750"/>
                  </a:lnTo>
                  <a:lnTo>
                    <a:pt x="3612" y="1591"/>
                  </a:lnTo>
                  <a:lnTo>
                    <a:pt x="0" y="0"/>
                  </a:lnTo>
                  <a:lnTo>
                    <a:pt x="5077" y="693"/>
                  </a:lnTo>
                  <a:lnTo>
                    <a:pt x="3879" y="140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075160" y="5206320"/>
              <a:ext cx="1280160" cy="798480"/>
            </a:xfrm>
            <a:custGeom>
              <a:avLst/>
              <a:gdLst/>
              <a:ahLst/>
              <a:rect l="l" t="t" r="r" b="b"/>
              <a:pathLst>
                <a:path w="1998" h="1042">
                  <a:moveTo>
                    <a:pt x="962" y="941"/>
                  </a:moveTo>
                  <a:lnTo>
                    <a:pt x="1998" y="898"/>
                  </a:lnTo>
                  <a:lnTo>
                    <a:pt x="1998" y="1042"/>
                  </a:lnTo>
                  <a:lnTo>
                    <a:pt x="0" y="1042"/>
                  </a:lnTo>
                  <a:lnTo>
                    <a:pt x="399" y="0"/>
                  </a:lnTo>
                  <a:lnTo>
                    <a:pt x="962" y="941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075160" y="5206320"/>
              <a:ext cx="1280160" cy="798480"/>
            </a:xfrm>
            <a:custGeom>
              <a:avLst/>
              <a:gdLst/>
              <a:ahLst/>
              <a:rect l="l" t="t" r="r" b="b"/>
              <a:pathLst>
                <a:path w="1998" h="1042">
                  <a:moveTo>
                    <a:pt x="962" y="941"/>
                  </a:moveTo>
                  <a:lnTo>
                    <a:pt x="1998" y="898"/>
                  </a:lnTo>
                  <a:lnTo>
                    <a:pt x="1998" y="1042"/>
                  </a:lnTo>
                  <a:lnTo>
                    <a:pt x="0" y="1042"/>
                  </a:lnTo>
                  <a:lnTo>
                    <a:pt x="399" y="0"/>
                  </a:lnTo>
                  <a:lnTo>
                    <a:pt x="962" y="9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8331480" y="2906640"/>
              <a:ext cx="1023840" cy="2444760"/>
            </a:xfrm>
            <a:custGeom>
              <a:avLst/>
              <a:gdLst/>
              <a:ahLst/>
              <a:rect l="l" t="t" r="r" b="b"/>
              <a:pathLst>
                <a:path w="1599" h="3188">
                  <a:moveTo>
                    <a:pt x="1200" y="2274"/>
                  </a:moveTo>
                  <a:lnTo>
                    <a:pt x="1599" y="0"/>
                  </a:lnTo>
                  <a:lnTo>
                    <a:pt x="1599" y="969"/>
                  </a:lnTo>
                  <a:lnTo>
                    <a:pt x="1467" y="2086"/>
                  </a:lnTo>
                  <a:lnTo>
                    <a:pt x="1599" y="2131"/>
                  </a:lnTo>
                  <a:lnTo>
                    <a:pt x="1599" y="3188"/>
                  </a:lnTo>
                  <a:lnTo>
                    <a:pt x="0" y="2969"/>
                  </a:lnTo>
                  <a:lnTo>
                    <a:pt x="1200" y="2274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331480" y="2906640"/>
              <a:ext cx="1023840" cy="2444760"/>
            </a:xfrm>
            <a:custGeom>
              <a:avLst/>
              <a:gdLst/>
              <a:ahLst/>
              <a:rect l="l" t="t" r="r" b="b"/>
              <a:pathLst>
                <a:path w="1599" h="3188">
                  <a:moveTo>
                    <a:pt x="1200" y="2274"/>
                  </a:moveTo>
                  <a:lnTo>
                    <a:pt x="1599" y="0"/>
                  </a:lnTo>
                  <a:lnTo>
                    <a:pt x="1599" y="969"/>
                  </a:lnTo>
                  <a:lnTo>
                    <a:pt x="1467" y="2086"/>
                  </a:lnTo>
                  <a:lnTo>
                    <a:pt x="1599" y="2131"/>
                  </a:lnTo>
                  <a:lnTo>
                    <a:pt x="1599" y="3188"/>
                  </a:lnTo>
                  <a:lnTo>
                    <a:pt x="0" y="2969"/>
                  </a:lnTo>
                  <a:lnTo>
                    <a:pt x="1200" y="2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223600" y="1773720"/>
              <a:ext cx="4132080" cy="3419640"/>
            </a:xfrm>
            <a:custGeom>
              <a:avLst/>
              <a:gdLst/>
              <a:ahLst/>
              <a:rect l="l" t="t" r="r" b="b"/>
              <a:pathLst>
                <a:path w="6454" h="4461">
                  <a:moveTo>
                    <a:pt x="4145" y="3290"/>
                  </a:moveTo>
                  <a:lnTo>
                    <a:pt x="6454" y="0"/>
                  </a:lnTo>
                  <a:lnTo>
                    <a:pt x="6454" y="307"/>
                  </a:lnTo>
                  <a:lnTo>
                    <a:pt x="4855" y="4461"/>
                  </a:lnTo>
                  <a:lnTo>
                    <a:pt x="4308" y="3505"/>
                  </a:lnTo>
                  <a:lnTo>
                    <a:pt x="0" y="3693"/>
                  </a:lnTo>
                  <a:lnTo>
                    <a:pt x="4145" y="3290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223600" y="1773720"/>
              <a:ext cx="4132080" cy="3419640"/>
            </a:xfrm>
            <a:custGeom>
              <a:avLst/>
              <a:gdLst/>
              <a:ahLst/>
              <a:rect l="l" t="t" r="r" b="b"/>
              <a:pathLst>
                <a:path w="6454" h="4461">
                  <a:moveTo>
                    <a:pt x="4145" y="3290"/>
                  </a:moveTo>
                  <a:lnTo>
                    <a:pt x="6454" y="0"/>
                  </a:lnTo>
                  <a:lnTo>
                    <a:pt x="6454" y="307"/>
                  </a:lnTo>
                  <a:lnTo>
                    <a:pt x="4855" y="4461"/>
                  </a:lnTo>
                  <a:lnTo>
                    <a:pt x="4308" y="3505"/>
                  </a:lnTo>
                  <a:lnTo>
                    <a:pt x="0" y="3693"/>
                  </a:lnTo>
                  <a:lnTo>
                    <a:pt x="4145" y="329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829280" y="2762640"/>
              <a:ext cx="644040" cy="212760"/>
            </a:xfrm>
            <a:custGeom>
              <a:avLst/>
              <a:gdLst/>
              <a:ahLst/>
              <a:rect l="l" t="t" r="r" b="b"/>
              <a:pathLst>
                <a:path w="1006" h="276">
                  <a:moveTo>
                    <a:pt x="0" y="161"/>
                  </a:moveTo>
                  <a:lnTo>
                    <a:pt x="251" y="73"/>
                  </a:lnTo>
                  <a:lnTo>
                    <a:pt x="384" y="44"/>
                  </a:lnTo>
                  <a:lnTo>
                    <a:pt x="503" y="0"/>
                  </a:lnTo>
                  <a:lnTo>
                    <a:pt x="1006" y="73"/>
                  </a:lnTo>
                  <a:lnTo>
                    <a:pt x="873" y="276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108200" y="3219480"/>
              <a:ext cx="1061640" cy="300240"/>
            </a:xfrm>
            <a:custGeom>
              <a:avLst/>
              <a:gdLst/>
              <a:ahLst/>
              <a:rect l="l" t="t" r="r" b="b"/>
              <a:pathLst>
                <a:path w="1659" h="391">
                  <a:moveTo>
                    <a:pt x="0" y="188"/>
                  </a:moveTo>
                  <a:lnTo>
                    <a:pt x="269" y="0"/>
                  </a:lnTo>
                  <a:lnTo>
                    <a:pt x="1659" y="188"/>
                  </a:lnTo>
                  <a:lnTo>
                    <a:pt x="1511" y="391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663960" y="3729960"/>
              <a:ext cx="1194480" cy="344520"/>
            </a:xfrm>
            <a:custGeom>
              <a:avLst/>
              <a:gdLst/>
              <a:ahLst/>
              <a:rect l="l" t="t" r="r" b="b"/>
              <a:pathLst>
                <a:path w="1866" h="449">
                  <a:moveTo>
                    <a:pt x="0" y="203"/>
                  </a:moveTo>
                  <a:lnTo>
                    <a:pt x="179" y="0"/>
                  </a:lnTo>
                  <a:lnTo>
                    <a:pt x="1866" y="246"/>
                  </a:lnTo>
                  <a:lnTo>
                    <a:pt x="1732" y="449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426000" y="4272480"/>
              <a:ext cx="48240" cy="11880"/>
            </a:xfrm>
            <a:custGeom>
              <a:avLst/>
              <a:gdLst/>
              <a:ahLst/>
              <a:rect l="l" t="t" r="r" b="b"/>
              <a:pathLst>
                <a:path w="75" h="16">
                  <a:moveTo>
                    <a:pt x="15" y="0"/>
                  </a:moveTo>
                  <a:lnTo>
                    <a:pt x="75" y="16"/>
                  </a:lnTo>
                  <a:lnTo>
                    <a:pt x="0" y="1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c53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010920" y="5405400"/>
              <a:ext cx="538920" cy="254160"/>
            </a:xfrm>
            <a:custGeom>
              <a:avLst/>
              <a:gdLst/>
              <a:ahLst/>
              <a:rect l="l" t="t" r="r" b="b"/>
              <a:pathLst>
                <a:path w="843" h="332">
                  <a:moveTo>
                    <a:pt x="0" y="217"/>
                  </a:moveTo>
                  <a:lnTo>
                    <a:pt x="13" y="102"/>
                  </a:lnTo>
                  <a:lnTo>
                    <a:pt x="42" y="0"/>
                  </a:lnTo>
                  <a:lnTo>
                    <a:pt x="175" y="14"/>
                  </a:lnTo>
                  <a:lnTo>
                    <a:pt x="843" y="332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267080" y="4461120"/>
              <a:ext cx="699120" cy="222480"/>
            </a:xfrm>
            <a:custGeom>
              <a:avLst/>
              <a:gdLst/>
              <a:ahLst/>
              <a:rect l="l" t="t" r="r" b="b"/>
              <a:pathLst>
                <a:path w="1092" h="290">
                  <a:moveTo>
                    <a:pt x="0" y="161"/>
                  </a:moveTo>
                  <a:lnTo>
                    <a:pt x="58" y="0"/>
                  </a:lnTo>
                  <a:lnTo>
                    <a:pt x="1092" y="146"/>
                  </a:lnTo>
                  <a:lnTo>
                    <a:pt x="1035" y="290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c53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3276720" y="0"/>
            <a:ext cx="586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209680" y="1219320"/>
            <a:ext cx="6553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2008 Revenue Go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2008 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Top Revenue Opportun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Resource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Organizational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05320" y="64008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ManTech Propriet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4267080" y="1773720"/>
            <a:ext cx="5088600" cy="4231080"/>
            <a:chOff x="4267080" y="1773720"/>
            <a:chExt cx="5088600" cy="4231080"/>
          </a:xfrm>
        </p:grpSpPr>
        <p:sp>
          <p:nvSpPr>
            <p:cNvPr id="85" name=""/>
            <p:cNvSpPr/>
            <p:nvPr/>
          </p:nvSpPr>
          <p:spPr>
            <a:xfrm>
              <a:off x="5999400" y="2308680"/>
              <a:ext cx="2786400" cy="2031120"/>
            </a:xfrm>
            <a:custGeom>
              <a:avLst/>
              <a:gdLst/>
              <a:ahLst/>
              <a:rect l="l" t="t" r="r" b="b"/>
              <a:pathLst>
                <a:path w="4351" h="2650">
                  <a:moveTo>
                    <a:pt x="0" y="2593"/>
                  </a:moveTo>
                  <a:lnTo>
                    <a:pt x="74" y="2447"/>
                  </a:lnTo>
                  <a:lnTo>
                    <a:pt x="165" y="2303"/>
                  </a:lnTo>
                  <a:lnTo>
                    <a:pt x="266" y="2172"/>
                  </a:lnTo>
                  <a:lnTo>
                    <a:pt x="357" y="2040"/>
                  </a:lnTo>
                  <a:lnTo>
                    <a:pt x="564" y="1781"/>
                  </a:lnTo>
                  <a:lnTo>
                    <a:pt x="787" y="1549"/>
                  </a:lnTo>
                  <a:lnTo>
                    <a:pt x="917" y="1433"/>
                  </a:lnTo>
                  <a:lnTo>
                    <a:pt x="1036" y="1316"/>
                  </a:lnTo>
                  <a:lnTo>
                    <a:pt x="1288" y="1101"/>
                  </a:lnTo>
                  <a:lnTo>
                    <a:pt x="1422" y="1000"/>
                  </a:lnTo>
                  <a:lnTo>
                    <a:pt x="1555" y="911"/>
                  </a:lnTo>
                  <a:lnTo>
                    <a:pt x="1835" y="723"/>
                  </a:lnTo>
                  <a:lnTo>
                    <a:pt x="1984" y="652"/>
                  </a:lnTo>
                  <a:lnTo>
                    <a:pt x="2132" y="566"/>
                  </a:lnTo>
                  <a:lnTo>
                    <a:pt x="2428" y="420"/>
                  </a:lnTo>
                  <a:lnTo>
                    <a:pt x="2591" y="360"/>
                  </a:lnTo>
                  <a:lnTo>
                    <a:pt x="2739" y="303"/>
                  </a:lnTo>
                  <a:lnTo>
                    <a:pt x="2902" y="245"/>
                  </a:lnTo>
                  <a:lnTo>
                    <a:pt x="3050" y="188"/>
                  </a:lnTo>
                  <a:lnTo>
                    <a:pt x="3213" y="145"/>
                  </a:lnTo>
                  <a:lnTo>
                    <a:pt x="3376" y="115"/>
                  </a:lnTo>
                  <a:lnTo>
                    <a:pt x="3537" y="71"/>
                  </a:lnTo>
                  <a:lnTo>
                    <a:pt x="3701" y="44"/>
                  </a:lnTo>
                  <a:lnTo>
                    <a:pt x="3864" y="30"/>
                  </a:lnTo>
                  <a:lnTo>
                    <a:pt x="4027" y="13"/>
                  </a:lnTo>
                  <a:lnTo>
                    <a:pt x="4190" y="0"/>
                  </a:lnTo>
                  <a:lnTo>
                    <a:pt x="4351" y="0"/>
                  </a:lnTo>
                  <a:lnTo>
                    <a:pt x="4351" y="115"/>
                  </a:lnTo>
                  <a:lnTo>
                    <a:pt x="4190" y="130"/>
                  </a:lnTo>
                  <a:lnTo>
                    <a:pt x="4027" y="130"/>
                  </a:lnTo>
                  <a:lnTo>
                    <a:pt x="3879" y="145"/>
                  </a:lnTo>
                  <a:lnTo>
                    <a:pt x="3716" y="174"/>
                  </a:lnTo>
                  <a:lnTo>
                    <a:pt x="3553" y="201"/>
                  </a:lnTo>
                  <a:lnTo>
                    <a:pt x="3405" y="232"/>
                  </a:lnTo>
                  <a:lnTo>
                    <a:pt x="3094" y="318"/>
                  </a:lnTo>
                  <a:lnTo>
                    <a:pt x="2931" y="360"/>
                  </a:lnTo>
                  <a:lnTo>
                    <a:pt x="2783" y="420"/>
                  </a:lnTo>
                  <a:lnTo>
                    <a:pt x="2487" y="535"/>
                  </a:lnTo>
                  <a:lnTo>
                    <a:pt x="2340" y="608"/>
                  </a:lnTo>
                  <a:lnTo>
                    <a:pt x="2192" y="681"/>
                  </a:lnTo>
                  <a:lnTo>
                    <a:pt x="2044" y="754"/>
                  </a:lnTo>
                  <a:lnTo>
                    <a:pt x="1910" y="838"/>
                  </a:lnTo>
                  <a:lnTo>
                    <a:pt x="1762" y="911"/>
                  </a:lnTo>
                  <a:lnTo>
                    <a:pt x="1627" y="1013"/>
                  </a:lnTo>
                  <a:lnTo>
                    <a:pt x="1363" y="1201"/>
                  </a:lnTo>
                  <a:lnTo>
                    <a:pt x="1244" y="1303"/>
                  </a:lnTo>
                  <a:lnTo>
                    <a:pt x="1126" y="1405"/>
                  </a:lnTo>
                  <a:lnTo>
                    <a:pt x="888" y="1622"/>
                  </a:lnTo>
                  <a:lnTo>
                    <a:pt x="769" y="1737"/>
                  </a:lnTo>
                  <a:lnTo>
                    <a:pt x="666" y="1867"/>
                  </a:lnTo>
                  <a:lnTo>
                    <a:pt x="564" y="1982"/>
                  </a:lnTo>
                  <a:lnTo>
                    <a:pt x="460" y="2115"/>
                  </a:lnTo>
                  <a:lnTo>
                    <a:pt x="370" y="2245"/>
                  </a:lnTo>
                  <a:lnTo>
                    <a:pt x="266" y="2374"/>
                  </a:lnTo>
                  <a:lnTo>
                    <a:pt x="103" y="2650"/>
                  </a:lnTo>
                  <a:lnTo>
                    <a:pt x="0" y="259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58840" y="5305680"/>
              <a:ext cx="132120" cy="698760"/>
            </a:xfrm>
            <a:custGeom>
              <a:avLst/>
              <a:gdLst/>
              <a:ahLst/>
              <a:rect l="l" t="t" r="r" b="b"/>
              <a:pathLst>
                <a:path w="205" h="911">
                  <a:moveTo>
                    <a:pt x="205" y="15"/>
                  </a:moveTo>
                  <a:lnTo>
                    <a:pt x="163" y="247"/>
                  </a:lnTo>
                  <a:lnTo>
                    <a:pt x="132" y="478"/>
                  </a:lnTo>
                  <a:lnTo>
                    <a:pt x="132" y="695"/>
                  </a:lnTo>
                  <a:lnTo>
                    <a:pt x="132" y="911"/>
                  </a:lnTo>
                  <a:lnTo>
                    <a:pt x="13" y="911"/>
                  </a:lnTo>
                  <a:lnTo>
                    <a:pt x="0" y="681"/>
                  </a:lnTo>
                  <a:lnTo>
                    <a:pt x="13" y="462"/>
                  </a:lnTo>
                  <a:lnTo>
                    <a:pt x="13" y="347"/>
                  </a:lnTo>
                  <a:lnTo>
                    <a:pt x="31" y="232"/>
                  </a:lnTo>
                  <a:lnTo>
                    <a:pt x="75" y="0"/>
                  </a:lnTo>
                  <a:lnTo>
                    <a:pt x="205" y="15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658840" y="5305680"/>
              <a:ext cx="132120" cy="698760"/>
            </a:xfrm>
            <a:custGeom>
              <a:avLst/>
              <a:gdLst/>
              <a:ahLst/>
              <a:rect l="l" t="t" r="r" b="b"/>
              <a:pathLst>
                <a:path w="205" h="911">
                  <a:moveTo>
                    <a:pt x="205" y="15"/>
                  </a:moveTo>
                  <a:lnTo>
                    <a:pt x="163" y="247"/>
                  </a:lnTo>
                  <a:lnTo>
                    <a:pt x="132" y="478"/>
                  </a:lnTo>
                  <a:lnTo>
                    <a:pt x="132" y="695"/>
                  </a:lnTo>
                  <a:lnTo>
                    <a:pt x="132" y="911"/>
                  </a:lnTo>
                  <a:lnTo>
                    <a:pt x="13" y="911"/>
                  </a:lnTo>
                  <a:lnTo>
                    <a:pt x="0" y="681"/>
                  </a:lnTo>
                  <a:lnTo>
                    <a:pt x="13" y="462"/>
                  </a:lnTo>
                  <a:lnTo>
                    <a:pt x="13" y="347"/>
                  </a:lnTo>
                  <a:lnTo>
                    <a:pt x="31" y="232"/>
                  </a:lnTo>
                  <a:lnTo>
                    <a:pt x="75" y="0"/>
                  </a:lnTo>
                  <a:lnTo>
                    <a:pt x="205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079960" y="4662000"/>
              <a:ext cx="3251160" cy="1342800"/>
            </a:xfrm>
            <a:custGeom>
              <a:avLst/>
              <a:gdLst/>
              <a:ahLst/>
              <a:rect l="l" t="t" r="r" b="b"/>
              <a:pathLst>
                <a:path w="5077" h="1750">
                  <a:moveTo>
                    <a:pt x="3879" y="1403"/>
                  </a:moveTo>
                  <a:lnTo>
                    <a:pt x="3820" y="1750"/>
                  </a:lnTo>
                  <a:lnTo>
                    <a:pt x="3597" y="1750"/>
                  </a:lnTo>
                  <a:lnTo>
                    <a:pt x="3612" y="1591"/>
                  </a:lnTo>
                  <a:lnTo>
                    <a:pt x="0" y="0"/>
                  </a:lnTo>
                  <a:lnTo>
                    <a:pt x="5077" y="693"/>
                  </a:lnTo>
                  <a:lnTo>
                    <a:pt x="3879" y="140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079960" y="4662000"/>
              <a:ext cx="3251160" cy="1342800"/>
            </a:xfrm>
            <a:custGeom>
              <a:avLst/>
              <a:gdLst/>
              <a:ahLst/>
              <a:rect l="l" t="t" r="r" b="b"/>
              <a:pathLst>
                <a:path w="5077" h="1750">
                  <a:moveTo>
                    <a:pt x="3879" y="1403"/>
                  </a:moveTo>
                  <a:lnTo>
                    <a:pt x="3820" y="1750"/>
                  </a:lnTo>
                  <a:lnTo>
                    <a:pt x="3597" y="1750"/>
                  </a:lnTo>
                  <a:lnTo>
                    <a:pt x="3612" y="1591"/>
                  </a:lnTo>
                  <a:lnTo>
                    <a:pt x="0" y="0"/>
                  </a:lnTo>
                  <a:lnTo>
                    <a:pt x="5077" y="693"/>
                  </a:lnTo>
                  <a:lnTo>
                    <a:pt x="3879" y="140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075160" y="5206320"/>
              <a:ext cx="1280160" cy="798480"/>
            </a:xfrm>
            <a:custGeom>
              <a:avLst/>
              <a:gdLst/>
              <a:ahLst/>
              <a:rect l="l" t="t" r="r" b="b"/>
              <a:pathLst>
                <a:path w="1998" h="1042">
                  <a:moveTo>
                    <a:pt x="962" y="941"/>
                  </a:moveTo>
                  <a:lnTo>
                    <a:pt x="1998" y="898"/>
                  </a:lnTo>
                  <a:lnTo>
                    <a:pt x="1998" y="1042"/>
                  </a:lnTo>
                  <a:lnTo>
                    <a:pt x="0" y="1042"/>
                  </a:lnTo>
                  <a:lnTo>
                    <a:pt x="399" y="0"/>
                  </a:lnTo>
                  <a:lnTo>
                    <a:pt x="962" y="941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075160" y="5206320"/>
              <a:ext cx="1280160" cy="798480"/>
            </a:xfrm>
            <a:custGeom>
              <a:avLst/>
              <a:gdLst/>
              <a:ahLst/>
              <a:rect l="l" t="t" r="r" b="b"/>
              <a:pathLst>
                <a:path w="1998" h="1042">
                  <a:moveTo>
                    <a:pt x="962" y="941"/>
                  </a:moveTo>
                  <a:lnTo>
                    <a:pt x="1998" y="898"/>
                  </a:lnTo>
                  <a:lnTo>
                    <a:pt x="1998" y="1042"/>
                  </a:lnTo>
                  <a:lnTo>
                    <a:pt x="0" y="1042"/>
                  </a:lnTo>
                  <a:lnTo>
                    <a:pt x="399" y="0"/>
                  </a:lnTo>
                  <a:lnTo>
                    <a:pt x="962" y="9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31480" y="2906640"/>
              <a:ext cx="1023840" cy="2444760"/>
            </a:xfrm>
            <a:custGeom>
              <a:avLst/>
              <a:gdLst/>
              <a:ahLst/>
              <a:rect l="l" t="t" r="r" b="b"/>
              <a:pathLst>
                <a:path w="1599" h="3188">
                  <a:moveTo>
                    <a:pt x="1200" y="2274"/>
                  </a:moveTo>
                  <a:lnTo>
                    <a:pt x="1599" y="0"/>
                  </a:lnTo>
                  <a:lnTo>
                    <a:pt x="1599" y="969"/>
                  </a:lnTo>
                  <a:lnTo>
                    <a:pt x="1467" y="2086"/>
                  </a:lnTo>
                  <a:lnTo>
                    <a:pt x="1599" y="2131"/>
                  </a:lnTo>
                  <a:lnTo>
                    <a:pt x="1599" y="3188"/>
                  </a:lnTo>
                  <a:lnTo>
                    <a:pt x="0" y="2969"/>
                  </a:lnTo>
                  <a:lnTo>
                    <a:pt x="1200" y="2274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31480" y="2906640"/>
              <a:ext cx="1023840" cy="2444760"/>
            </a:xfrm>
            <a:custGeom>
              <a:avLst/>
              <a:gdLst/>
              <a:ahLst/>
              <a:rect l="l" t="t" r="r" b="b"/>
              <a:pathLst>
                <a:path w="1599" h="3188">
                  <a:moveTo>
                    <a:pt x="1200" y="2274"/>
                  </a:moveTo>
                  <a:lnTo>
                    <a:pt x="1599" y="0"/>
                  </a:lnTo>
                  <a:lnTo>
                    <a:pt x="1599" y="969"/>
                  </a:lnTo>
                  <a:lnTo>
                    <a:pt x="1467" y="2086"/>
                  </a:lnTo>
                  <a:lnTo>
                    <a:pt x="1599" y="2131"/>
                  </a:lnTo>
                  <a:lnTo>
                    <a:pt x="1599" y="3188"/>
                  </a:lnTo>
                  <a:lnTo>
                    <a:pt x="0" y="2969"/>
                  </a:lnTo>
                  <a:lnTo>
                    <a:pt x="1200" y="2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223600" y="1773720"/>
              <a:ext cx="4132080" cy="3419640"/>
            </a:xfrm>
            <a:custGeom>
              <a:avLst/>
              <a:gdLst/>
              <a:ahLst/>
              <a:rect l="l" t="t" r="r" b="b"/>
              <a:pathLst>
                <a:path w="6454" h="4461">
                  <a:moveTo>
                    <a:pt x="4145" y="3290"/>
                  </a:moveTo>
                  <a:lnTo>
                    <a:pt x="6454" y="0"/>
                  </a:lnTo>
                  <a:lnTo>
                    <a:pt x="6454" y="307"/>
                  </a:lnTo>
                  <a:lnTo>
                    <a:pt x="4855" y="4461"/>
                  </a:lnTo>
                  <a:lnTo>
                    <a:pt x="4308" y="3505"/>
                  </a:lnTo>
                  <a:lnTo>
                    <a:pt x="0" y="3693"/>
                  </a:lnTo>
                  <a:lnTo>
                    <a:pt x="4145" y="3290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223600" y="1773720"/>
              <a:ext cx="4132080" cy="3419640"/>
            </a:xfrm>
            <a:custGeom>
              <a:avLst/>
              <a:gdLst/>
              <a:ahLst/>
              <a:rect l="l" t="t" r="r" b="b"/>
              <a:pathLst>
                <a:path w="6454" h="4461">
                  <a:moveTo>
                    <a:pt x="4145" y="3290"/>
                  </a:moveTo>
                  <a:lnTo>
                    <a:pt x="6454" y="0"/>
                  </a:lnTo>
                  <a:lnTo>
                    <a:pt x="6454" y="307"/>
                  </a:lnTo>
                  <a:lnTo>
                    <a:pt x="4855" y="4461"/>
                  </a:lnTo>
                  <a:lnTo>
                    <a:pt x="4308" y="3505"/>
                  </a:lnTo>
                  <a:lnTo>
                    <a:pt x="0" y="3693"/>
                  </a:lnTo>
                  <a:lnTo>
                    <a:pt x="4145" y="329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829280" y="2762640"/>
              <a:ext cx="644040" cy="212760"/>
            </a:xfrm>
            <a:custGeom>
              <a:avLst/>
              <a:gdLst/>
              <a:ahLst/>
              <a:rect l="l" t="t" r="r" b="b"/>
              <a:pathLst>
                <a:path w="1006" h="276">
                  <a:moveTo>
                    <a:pt x="0" y="161"/>
                  </a:moveTo>
                  <a:lnTo>
                    <a:pt x="251" y="73"/>
                  </a:lnTo>
                  <a:lnTo>
                    <a:pt x="384" y="44"/>
                  </a:lnTo>
                  <a:lnTo>
                    <a:pt x="503" y="0"/>
                  </a:lnTo>
                  <a:lnTo>
                    <a:pt x="1006" y="73"/>
                  </a:lnTo>
                  <a:lnTo>
                    <a:pt x="873" y="276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108200" y="3219480"/>
              <a:ext cx="1061640" cy="300240"/>
            </a:xfrm>
            <a:custGeom>
              <a:avLst/>
              <a:gdLst/>
              <a:ahLst/>
              <a:rect l="l" t="t" r="r" b="b"/>
              <a:pathLst>
                <a:path w="1659" h="391">
                  <a:moveTo>
                    <a:pt x="0" y="188"/>
                  </a:moveTo>
                  <a:lnTo>
                    <a:pt x="269" y="0"/>
                  </a:lnTo>
                  <a:lnTo>
                    <a:pt x="1659" y="188"/>
                  </a:lnTo>
                  <a:lnTo>
                    <a:pt x="1511" y="391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663960" y="3729960"/>
              <a:ext cx="1194480" cy="344520"/>
            </a:xfrm>
            <a:custGeom>
              <a:avLst/>
              <a:gdLst/>
              <a:ahLst/>
              <a:rect l="l" t="t" r="r" b="b"/>
              <a:pathLst>
                <a:path w="1866" h="449">
                  <a:moveTo>
                    <a:pt x="0" y="203"/>
                  </a:moveTo>
                  <a:lnTo>
                    <a:pt x="179" y="0"/>
                  </a:lnTo>
                  <a:lnTo>
                    <a:pt x="1866" y="246"/>
                  </a:lnTo>
                  <a:lnTo>
                    <a:pt x="1732" y="449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426000" y="4272480"/>
              <a:ext cx="48240" cy="11880"/>
            </a:xfrm>
            <a:custGeom>
              <a:avLst/>
              <a:gdLst/>
              <a:ahLst/>
              <a:rect l="l" t="t" r="r" b="b"/>
              <a:pathLst>
                <a:path w="75" h="16">
                  <a:moveTo>
                    <a:pt x="15" y="0"/>
                  </a:moveTo>
                  <a:lnTo>
                    <a:pt x="75" y="16"/>
                  </a:lnTo>
                  <a:lnTo>
                    <a:pt x="0" y="1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c53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010920" y="5405400"/>
              <a:ext cx="538920" cy="254160"/>
            </a:xfrm>
            <a:custGeom>
              <a:avLst/>
              <a:gdLst/>
              <a:ahLst/>
              <a:rect l="l" t="t" r="r" b="b"/>
              <a:pathLst>
                <a:path w="843" h="332">
                  <a:moveTo>
                    <a:pt x="0" y="217"/>
                  </a:moveTo>
                  <a:lnTo>
                    <a:pt x="13" y="102"/>
                  </a:lnTo>
                  <a:lnTo>
                    <a:pt x="42" y="0"/>
                  </a:lnTo>
                  <a:lnTo>
                    <a:pt x="175" y="14"/>
                  </a:lnTo>
                  <a:lnTo>
                    <a:pt x="843" y="332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267080" y="4461120"/>
              <a:ext cx="699120" cy="222480"/>
            </a:xfrm>
            <a:custGeom>
              <a:avLst/>
              <a:gdLst/>
              <a:ahLst/>
              <a:rect l="l" t="t" r="r" b="b"/>
              <a:pathLst>
                <a:path w="1092" h="290">
                  <a:moveTo>
                    <a:pt x="0" y="161"/>
                  </a:moveTo>
                  <a:lnTo>
                    <a:pt x="58" y="0"/>
                  </a:lnTo>
                  <a:lnTo>
                    <a:pt x="1092" y="146"/>
                  </a:lnTo>
                  <a:lnTo>
                    <a:pt x="1035" y="290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c53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99400" y="2308680"/>
              <a:ext cx="2786400" cy="2031120"/>
            </a:xfrm>
            <a:custGeom>
              <a:avLst/>
              <a:gdLst/>
              <a:ahLst/>
              <a:rect l="l" t="t" r="r" b="b"/>
              <a:pathLst>
                <a:path w="4351" h="2650">
                  <a:moveTo>
                    <a:pt x="0" y="2593"/>
                  </a:moveTo>
                  <a:lnTo>
                    <a:pt x="74" y="2447"/>
                  </a:lnTo>
                  <a:lnTo>
                    <a:pt x="165" y="2303"/>
                  </a:lnTo>
                  <a:lnTo>
                    <a:pt x="266" y="2172"/>
                  </a:lnTo>
                  <a:lnTo>
                    <a:pt x="357" y="2040"/>
                  </a:lnTo>
                  <a:lnTo>
                    <a:pt x="564" y="1781"/>
                  </a:lnTo>
                  <a:lnTo>
                    <a:pt x="787" y="1549"/>
                  </a:lnTo>
                  <a:lnTo>
                    <a:pt x="917" y="1433"/>
                  </a:lnTo>
                  <a:lnTo>
                    <a:pt x="1036" y="1316"/>
                  </a:lnTo>
                  <a:lnTo>
                    <a:pt x="1288" y="1101"/>
                  </a:lnTo>
                  <a:lnTo>
                    <a:pt x="1422" y="1000"/>
                  </a:lnTo>
                  <a:lnTo>
                    <a:pt x="1555" y="911"/>
                  </a:lnTo>
                  <a:lnTo>
                    <a:pt x="1835" y="723"/>
                  </a:lnTo>
                  <a:lnTo>
                    <a:pt x="1984" y="652"/>
                  </a:lnTo>
                  <a:lnTo>
                    <a:pt x="2132" y="566"/>
                  </a:lnTo>
                  <a:lnTo>
                    <a:pt x="2428" y="420"/>
                  </a:lnTo>
                  <a:lnTo>
                    <a:pt x="2591" y="360"/>
                  </a:lnTo>
                  <a:lnTo>
                    <a:pt x="2739" y="303"/>
                  </a:lnTo>
                  <a:lnTo>
                    <a:pt x="2902" y="245"/>
                  </a:lnTo>
                  <a:lnTo>
                    <a:pt x="3050" y="188"/>
                  </a:lnTo>
                  <a:lnTo>
                    <a:pt x="3213" y="145"/>
                  </a:lnTo>
                  <a:lnTo>
                    <a:pt x="3376" y="115"/>
                  </a:lnTo>
                  <a:lnTo>
                    <a:pt x="3537" y="71"/>
                  </a:lnTo>
                  <a:lnTo>
                    <a:pt x="3701" y="44"/>
                  </a:lnTo>
                  <a:lnTo>
                    <a:pt x="3864" y="30"/>
                  </a:lnTo>
                  <a:lnTo>
                    <a:pt x="4027" y="13"/>
                  </a:lnTo>
                  <a:lnTo>
                    <a:pt x="4190" y="0"/>
                  </a:lnTo>
                  <a:lnTo>
                    <a:pt x="4351" y="0"/>
                  </a:lnTo>
                  <a:lnTo>
                    <a:pt x="4351" y="115"/>
                  </a:lnTo>
                  <a:lnTo>
                    <a:pt x="4190" y="130"/>
                  </a:lnTo>
                  <a:lnTo>
                    <a:pt x="4027" y="130"/>
                  </a:lnTo>
                  <a:lnTo>
                    <a:pt x="3879" y="145"/>
                  </a:lnTo>
                  <a:lnTo>
                    <a:pt x="3716" y="174"/>
                  </a:lnTo>
                  <a:lnTo>
                    <a:pt x="3553" y="201"/>
                  </a:lnTo>
                  <a:lnTo>
                    <a:pt x="3405" y="232"/>
                  </a:lnTo>
                  <a:lnTo>
                    <a:pt x="3094" y="318"/>
                  </a:lnTo>
                  <a:lnTo>
                    <a:pt x="2931" y="360"/>
                  </a:lnTo>
                  <a:lnTo>
                    <a:pt x="2783" y="420"/>
                  </a:lnTo>
                  <a:lnTo>
                    <a:pt x="2487" y="535"/>
                  </a:lnTo>
                  <a:lnTo>
                    <a:pt x="2340" y="608"/>
                  </a:lnTo>
                  <a:lnTo>
                    <a:pt x="2192" y="681"/>
                  </a:lnTo>
                  <a:lnTo>
                    <a:pt x="2044" y="754"/>
                  </a:lnTo>
                  <a:lnTo>
                    <a:pt x="1910" y="838"/>
                  </a:lnTo>
                  <a:lnTo>
                    <a:pt x="1762" y="911"/>
                  </a:lnTo>
                  <a:lnTo>
                    <a:pt x="1627" y="1013"/>
                  </a:lnTo>
                  <a:lnTo>
                    <a:pt x="1363" y="1201"/>
                  </a:lnTo>
                  <a:lnTo>
                    <a:pt x="1244" y="1303"/>
                  </a:lnTo>
                  <a:lnTo>
                    <a:pt x="1126" y="1405"/>
                  </a:lnTo>
                  <a:lnTo>
                    <a:pt x="888" y="1622"/>
                  </a:lnTo>
                  <a:lnTo>
                    <a:pt x="769" y="1737"/>
                  </a:lnTo>
                  <a:lnTo>
                    <a:pt x="666" y="1867"/>
                  </a:lnTo>
                  <a:lnTo>
                    <a:pt x="564" y="1982"/>
                  </a:lnTo>
                  <a:lnTo>
                    <a:pt x="460" y="2115"/>
                  </a:lnTo>
                  <a:lnTo>
                    <a:pt x="370" y="2245"/>
                  </a:lnTo>
                  <a:lnTo>
                    <a:pt x="266" y="2374"/>
                  </a:lnTo>
                  <a:lnTo>
                    <a:pt x="103" y="2650"/>
                  </a:lnTo>
                  <a:lnTo>
                    <a:pt x="0" y="259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658840" y="5305680"/>
              <a:ext cx="132120" cy="698760"/>
            </a:xfrm>
            <a:custGeom>
              <a:avLst/>
              <a:gdLst/>
              <a:ahLst/>
              <a:rect l="l" t="t" r="r" b="b"/>
              <a:pathLst>
                <a:path w="205" h="911">
                  <a:moveTo>
                    <a:pt x="205" y="15"/>
                  </a:moveTo>
                  <a:lnTo>
                    <a:pt x="163" y="247"/>
                  </a:lnTo>
                  <a:lnTo>
                    <a:pt x="132" y="478"/>
                  </a:lnTo>
                  <a:lnTo>
                    <a:pt x="132" y="695"/>
                  </a:lnTo>
                  <a:lnTo>
                    <a:pt x="132" y="911"/>
                  </a:lnTo>
                  <a:lnTo>
                    <a:pt x="13" y="911"/>
                  </a:lnTo>
                  <a:lnTo>
                    <a:pt x="0" y="681"/>
                  </a:lnTo>
                  <a:lnTo>
                    <a:pt x="13" y="462"/>
                  </a:lnTo>
                  <a:lnTo>
                    <a:pt x="13" y="347"/>
                  </a:lnTo>
                  <a:lnTo>
                    <a:pt x="31" y="232"/>
                  </a:lnTo>
                  <a:lnTo>
                    <a:pt x="75" y="0"/>
                  </a:lnTo>
                  <a:lnTo>
                    <a:pt x="205" y="15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658840" y="5305680"/>
              <a:ext cx="132120" cy="698760"/>
            </a:xfrm>
            <a:custGeom>
              <a:avLst/>
              <a:gdLst/>
              <a:ahLst/>
              <a:rect l="l" t="t" r="r" b="b"/>
              <a:pathLst>
                <a:path w="205" h="911">
                  <a:moveTo>
                    <a:pt x="205" y="15"/>
                  </a:moveTo>
                  <a:lnTo>
                    <a:pt x="163" y="247"/>
                  </a:lnTo>
                  <a:lnTo>
                    <a:pt x="132" y="478"/>
                  </a:lnTo>
                  <a:lnTo>
                    <a:pt x="132" y="695"/>
                  </a:lnTo>
                  <a:lnTo>
                    <a:pt x="132" y="911"/>
                  </a:lnTo>
                  <a:lnTo>
                    <a:pt x="13" y="911"/>
                  </a:lnTo>
                  <a:lnTo>
                    <a:pt x="0" y="681"/>
                  </a:lnTo>
                  <a:lnTo>
                    <a:pt x="13" y="462"/>
                  </a:lnTo>
                  <a:lnTo>
                    <a:pt x="13" y="347"/>
                  </a:lnTo>
                  <a:lnTo>
                    <a:pt x="31" y="232"/>
                  </a:lnTo>
                  <a:lnTo>
                    <a:pt x="75" y="0"/>
                  </a:lnTo>
                  <a:lnTo>
                    <a:pt x="205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079960" y="4662000"/>
              <a:ext cx="3251160" cy="1342800"/>
            </a:xfrm>
            <a:custGeom>
              <a:avLst/>
              <a:gdLst/>
              <a:ahLst/>
              <a:rect l="l" t="t" r="r" b="b"/>
              <a:pathLst>
                <a:path w="5077" h="1750">
                  <a:moveTo>
                    <a:pt x="3879" y="1403"/>
                  </a:moveTo>
                  <a:lnTo>
                    <a:pt x="3820" y="1750"/>
                  </a:lnTo>
                  <a:lnTo>
                    <a:pt x="3597" y="1750"/>
                  </a:lnTo>
                  <a:lnTo>
                    <a:pt x="3612" y="1591"/>
                  </a:lnTo>
                  <a:lnTo>
                    <a:pt x="0" y="0"/>
                  </a:lnTo>
                  <a:lnTo>
                    <a:pt x="5077" y="693"/>
                  </a:lnTo>
                  <a:lnTo>
                    <a:pt x="3879" y="140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79960" y="4662000"/>
              <a:ext cx="3251160" cy="1342800"/>
            </a:xfrm>
            <a:custGeom>
              <a:avLst/>
              <a:gdLst/>
              <a:ahLst/>
              <a:rect l="l" t="t" r="r" b="b"/>
              <a:pathLst>
                <a:path w="5077" h="1750">
                  <a:moveTo>
                    <a:pt x="3879" y="1403"/>
                  </a:moveTo>
                  <a:lnTo>
                    <a:pt x="3820" y="1750"/>
                  </a:lnTo>
                  <a:lnTo>
                    <a:pt x="3597" y="1750"/>
                  </a:lnTo>
                  <a:lnTo>
                    <a:pt x="3612" y="1591"/>
                  </a:lnTo>
                  <a:lnTo>
                    <a:pt x="0" y="0"/>
                  </a:lnTo>
                  <a:lnTo>
                    <a:pt x="5077" y="693"/>
                  </a:lnTo>
                  <a:lnTo>
                    <a:pt x="3879" y="140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75160" y="5206320"/>
              <a:ext cx="1280160" cy="798480"/>
            </a:xfrm>
            <a:custGeom>
              <a:avLst/>
              <a:gdLst/>
              <a:ahLst/>
              <a:rect l="l" t="t" r="r" b="b"/>
              <a:pathLst>
                <a:path w="1998" h="1042">
                  <a:moveTo>
                    <a:pt x="962" y="941"/>
                  </a:moveTo>
                  <a:lnTo>
                    <a:pt x="1998" y="898"/>
                  </a:lnTo>
                  <a:lnTo>
                    <a:pt x="1998" y="1042"/>
                  </a:lnTo>
                  <a:lnTo>
                    <a:pt x="0" y="1042"/>
                  </a:lnTo>
                  <a:lnTo>
                    <a:pt x="399" y="0"/>
                  </a:lnTo>
                  <a:lnTo>
                    <a:pt x="962" y="941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075160" y="5206320"/>
              <a:ext cx="1280160" cy="798480"/>
            </a:xfrm>
            <a:custGeom>
              <a:avLst/>
              <a:gdLst/>
              <a:ahLst/>
              <a:rect l="l" t="t" r="r" b="b"/>
              <a:pathLst>
                <a:path w="1998" h="1042">
                  <a:moveTo>
                    <a:pt x="962" y="941"/>
                  </a:moveTo>
                  <a:lnTo>
                    <a:pt x="1998" y="898"/>
                  </a:lnTo>
                  <a:lnTo>
                    <a:pt x="1998" y="1042"/>
                  </a:lnTo>
                  <a:lnTo>
                    <a:pt x="0" y="1042"/>
                  </a:lnTo>
                  <a:lnTo>
                    <a:pt x="399" y="0"/>
                  </a:lnTo>
                  <a:lnTo>
                    <a:pt x="962" y="9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331480" y="2906640"/>
              <a:ext cx="1023840" cy="2444760"/>
            </a:xfrm>
            <a:custGeom>
              <a:avLst/>
              <a:gdLst/>
              <a:ahLst/>
              <a:rect l="l" t="t" r="r" b="b"/>
              <a:pathLst>
                <a:path w="1599" h="3188">
                  <a:moveTo>
                    <a:pt x="1200" y="2274"/>
                  </a:moveTo>
                  <a:lnTo>
                    <a:pt x="1599" y="0"/>
                  </a:lnTo>
                  <a:lnTo>
                    <a:pt x="1599" y="969"/>
                  </a:lnTo>
                  <a:lnTo>
                    <a:pt x="1467" y="2086"/>
                  </a:lnTo>
                  <a:lnTo>
                    <a:pt x="1599" y="2131"/>
                  </a:lnTo>
                  <a:lnTo>
                    <a:pt x="1599" y="3188"/>
                  </a:lnTo>
                  <a:lnTo>
                    <a:pt x="0" y="2969"/>
                  </a:lnTo>
                  <a:lnTo>
                    <a:pt x="1200" y="2274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31480" y="2906640"/>
              <a:ext cx="1023840" cy="2444760"/>
            </a:xfrm>
            <a:custGeom>
              <a:avLst/>
              <a:gdLst/>
              <a:ahLst/>
              <a:rect l="l" t="t" r="r" b="b"/>
              <a:pathLst>
                <a:path w="1599" h="3188">
                  <a:moveTo>
                    <a:pt x="1200" y="2274"/>
                  </a:moveTo>
                  <a:lnTo>
                    <a:pt x="1599" y="0"/>
                  </a:lnTo>
                  <a:lnTo>
                    <a:pt x="1599" y="969"/>
                  </a:lnTo>
                  <a:lnTo>
                    <a:pt x="1467" y="2086"/>
                  </a:lnTo>
                  <a:lnTo>
                    <a:pt x="1599" y="2131"/>
                  </a:lnTo>
                  <a:lnTo>
                    <a:pt x="1599" y="3188"/>
                  </a:lnTo>
                  <a:lnTo>
                    <a:pt x="0" y="2969"/>
                  </a:lnTo>
                  <a:lnTo>
                    <a:pt x="1200" y="2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23600" y="1773720"/>
              <a:ext cx="4132080" cy="3419640"/>
            </a:xfrm>
            <a:custGeom>
              <a:avLst/>
              <a:gdLst/>
              <a:ahLst/>
              <a:rect l="l" t="t" r="r" b="b"/>
              <a:pathLst>
                <a:path w="6454" h="4461">
                  <a:moveTo>
                    <a:pt x="4145" y="3290"/>
                  </a:moveTo>
                  <a:lnTo>
                    <a:pt x="6454" y="0"/>
                  </a:lnTo>
                  <a:lnTo>
                    <a:pt x="6454" y="307"/>
                  </a:lnTo>
                  <a:lnTo>
                    <a:pt x="4855" y="4461"/>
                  </a:lnTo>
                  <a:lnTo>
                    <a:pt x="4308" y="3505"/>
                  </a:lnTo>
                  <a:lnTo>
                    <a:pt x="0" y="3693"/>
                  </a:lnTo>
                  <a:lnTo>
                    <a:pt x="4145" y="3290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23600" y="1773720"/>
              <a:ext cx="4132080" cy="3419640"/>
            </a:xfrm>
            <a:custGeom>
              <a:avLst/>
              <a:gdLst/>
              <a:ahLst/>
              <a:rect l="l" t="t" r="r" b="b"/>
              <a:pathLst>
                <a:path w="6454" h="4461">
                  <a:moveTo>
                    <a:pt x="4145" y="3290"/>
                  </a:moveTo>
                  <a:lnTo>
                    <a:pt x="6454" y="0"/>
                  </a:lnTo>
                  <a:lnTo>
                    <a:pt x="6454" y="307"/>
                  </a:lnTo>
                  <a:lnTo>
                    <a:pt x="4855" y="4461"/>
                  </a:lnTo>
                  <a:lnTo>
                    <a:pt x="4308" y="3505"/>
                  </a:lnTo>
                  <a:lnTo>
                    <a:pt x="0" y="3693"/>
                  </a:lnTo>
                  <a:lnTo>
                    <a:pt x="4145" y="329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829280" y="2762640"/>
              <a:ext cx="644040" cy="212760"/>
            </a:xfrm>
            <a:custGeom>
              <a:avLst/>
              <a:gdLst/>
              <a:ahLst/>
              <a:rect l="l" t="t" r="r" b="b"/>
              <a:pathLst>
                <a:path w="1006" h="276">
                  <a:moveTo>
                    <a:pt x="0" y="161"/>
                  </a:moveTo>
                  <a:lnTo>
                    <a:pt x="251" y="73"/>
                  </a:lnTo>
                  <a:lnTo>
                    <a:pt x="384" y="44"/>
                  </a:lnTo>
                  <a:lnTo>
                    <a:pt x="503" y="0"/>
                  </a:lnTo>
                  <a:lnTo>
                    <a:pt x="1006" y="73"/>
                  </a:lnTo>
                  <a:lnTo>
                    <a:pt x="873" y="276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08200" y="3219480"/>
              <a:ext cx="1061640" cy="300240"/>
            </a:xfrm>
            <a:custGeom>
              <a:avLst/>
              <a:gdLst/>
              <a:ahLst/>
              <a:rect l="l" t="t" r="r" b="b"/>
              <a:pathLst>
                <a:path w="1659" h="391">
                  <a:moveTo>
                    <a:pt x="0" y="188"/>
                  </a:moveTo>
                  <a:lnTo>
                    <a:pt x="269" y="0"/>
                  </a:lnTo>
                  <a:lnTo>
                    <a:pt x="1659" y="188"/>
                  </a:lnTo>
                  <a:lnTo>
                    <a:pt x="1511" y="391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663960" y="3729960"/>
              <a:ext cx="1194480" cy="344520"/>
            </a:xfrm>
            <a:custGeom>
              <a:avLst/>
              <a:gdLst/>
              <a:ahLst/>
              <a:rect l="l" t="t" r="r" b="b"/>
              <a:pathLst>
                <a:path w="1866" h="449">
                  <a:moveTo>
                    <a:pt x="0" y="203"/>
                  </a:moveTo>
                  <a:lnTo>
                    <a:pt x="179" y="0"/>
                  </a:lnTo>
                  <a:lnTo>
                    <a:pt x="1866" y="246"/>
                  </a:lnTo>
                  <a:lnTo>
                    <a:pt x="1732" y="449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26000" y="4272480"/>
              <a:ext cx="48240" cy="11880"/>
            </a:xfrm>
            <a:custGeom>
              <a:avLst/>
              <a:gdLst/>
              <a:ahLst/>
              <a:rect l="l" t="t" r="r" b="b"/>
              <a:pathLst>
                <a:path w="75" h="16">
                  <a:moveTo>
                    <a:pt x="15" y="0"/>
                  </a:moveTo>
                  <a:lnTo>
                    <a:pt x="75" y="16"/>
                  </a:lnTo>
                  <a:lnTo>
                    <a:pt x="0" y="1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c53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010920" y="5405400"/>
              <a:ext cx="538920" cy="254160"/>
            </a:xfrm>
            <a:custGeom>
              <a:avLst/>
              <a:gdLst/>
              <a:ahLst/>
              <a:rect l="l" t="t" r="r" b="b"/>
              <a:pathLst>
                <a:path w="843" h="332">
                  <a:moveTo>
                    <a:pt x="0" y="217"/>
                  </a:moveTo>
                  <a:lnTo>
                    <a:pt x="13" y="102"/>
                  </a:lnTo>
                  <a:lnTo>
                    <a:pt x="42" y="0"/>
                  </a:lnTo>
                  <a:lnTo>
                    <a:pt x="175" y="14"/>
                  </a:lnTo>
                  <a:lnTo>
                    <a:pt x="843" y="332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267080" y="4461120"/>
              <a:ext cx="699120" cy="222480"/>
            </a:xfrm>
            <a:custGeom>
              <a:avLst/>
              <a:gdLst/>
              <a:ahLst/>
              <a:rect l="l" t="t" r="r" b="b"/>
              <a:pathLst>
                <a:path w="1092" h="290">
                  <a:moveTo>
                    <a:pt x="0" y="161"/>
                  </a:moveTo>
                  <a:lnTo>
                    <a:pt x="58" y="0"/>
                  </a:lnTo>
                  <a:lnTo>
                    <a:pt x="1092" y="146"/>
                  </a:lnTo>
                  <a:lnTo>
                    <a:pt x="1035" y="290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c53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0" y="533520"/>
            <a:ext cx="1447560" cy="5866920"/>
            <a:chOff x="0" y="533520"/>
            <a:chExt cx="1447560" cy="5866920"/>
          </a:xfrm>
        </p:grpSpPr>
        <p:sp>
          <p:nvSpPr>
            <p:cNvPr id="120" name=""/>
            <p:cNvSpPr/>
            <p:nvPr/>
          </p:nvSpPr>
          <p:spPr>
            <a:xfrm>
              <a:off x="0" y="2956320"/>
              <a:ext cx="1447560" cy="344412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4a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1" name="" descr=""/>
            <p:cNvPicPr/>
            <p:nvPr/>
          </p:nvPicPr>
          <p:blipFill>
            <a:blip r:embed="rId2"/>
            <a:stretch/>
          </p:blipFill>
          <p:spPr>
            <a:xfrm>
              <a:off x="0" y="533520"/>
              <a:ext cx="1446120" cy="2466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2" name=""/>
          <p:cNvSpPr/>
          <p:nvPr/>
        </p:nvSpPr>
        <p:spPr>
          <a:xfrm>
            <a:off x="5791320" y="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3505320" y="64008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ManTech Propriet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33520" y="60948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Organizational Structure Chan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066680" y="1447920"/>
            <a:ext cx="777240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394240" y="750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447920" y="1905120"/>
            <a:ext cx="6553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Put in Ch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4267080" y="1773720"/>
            <a:ext cx="5088600" cy="4231080"/>
            <a:chOff x="4267080" y="1773720"/>
            <a:chExt cx="5088600" cy="4231080"/>
          </a:xfrm>
        </p:grpSpPr>
        <p:sp>
          <p:nvSpPr>
            <p:cNvPr id="569" name=""/>
            <p:cNvSpPr/>
            <p:nvPr/>
          </p:nvSpPr>
          <p:spPr>
            <a:xfrm>
              <a:off x="5999400" y="2308680"/>
              <a:ext cx="2786400" cy="2031120"/>
            </a:xfrm>
            <a:custGeom>
              <a:avLst/>
              <a:gdLst/>
              <a:ahLst/>
              <a:rect l="l" t="t" r="r" b="b"/>
              <a:pathLst>
                <a:path w="4351" h="2650">
                  <a:moveTo>
                    <a:pt x="0" y="2593"/>
                  </a:moveTo>
                  <a:lnTo>
                    <a:pt x="74" y="2447"/>
                  </a:lnTo>
                  <a:lnTo>
                    <a:pt x="165" y="2303"/>
                  </a:lnTo>
                  <a:lnTo>
                    <a:pt x="266" y="2172"/>
                  </a:lnTo>
                  <a:lnTo>
                    <a:pt x="357" y="2040"/>
                  </a:lnTo>
                  <a:lnTo>
                    <a:pt x="564" y="1781"/>
                  </a:lnTo>
                  <a:lnTo>
                    <a:pt x="787" y="1549"/>
                  </a:lnTo>
                  <a:lnTo>
                    <a:pt x="917" y="1433"/>
                  </a:lnTo>
                  <a:lnTo>
                    <a:pt x="1036" y="1316"/>
                  </a:lnTo>
                  <a:lnTo>
                    <a:pt x="1288" y="1101"/>
                  </a:lnTo>
                  <a:lnTo>
                    <a:pt x="1422" y="1000"/>
                  </a:lnTo>
                  <a:lnTo>
                    <a:pt x="1555" y="911"/>
                  </a:lnTo>
                  <a:lnTo>
                    <a:pt x="1835" y="723"/>
                  </a:lnTo>
                  <a:lnTo>
                    <a:pt x="1984" y="652"/>
                  </a:lnTo>
                  <a:lnTo>
                    <a:pt x="2132" y="566"/>
                  </a:lnTo>
                  <a:lnTo>
                    <a:pt x="2428" y="420"/>
                  </a:lnTo>
                  <a:lnTo>
                    <a:pt x="2591" y="360"/>
                  </a:lnTo>
                  <a:lnTo>
                    <a:pt x="2739" y="303"/>
                  </a:lnTo>
                  <a:lnTo>
                    <a:pt x="2902" y="245"/>
                  </a:lnTo>
                  <a:lnTo>
                    <a:pt x="3050" y="188"/>
                  </a:lnTo>
                  <a:lnTo>
                    <a:pt x="3213" y="145"/>
                  </a:lnTo>
                  <a:lnTo>
                    <a:pt x="3376" y="115"/>
                  </a:lnTo>
                  <a:lnTo>
                    <a:pt x="3537" y="71"/>
                  </a:lnTo>
                  <a:lnTo>
                    <a:pt x="3701" y="44"/>
                  </a:lnTo>
                  <a:lnTo>
                    <a:pt x="3864" y="30"/>
                  </a:lnTo>
                  <a:lnTo>
                    <a:pt x="4027" y="13"/>
                  </a:lnTo>
                  <a:lnTo>
                    <a:pt x="4190" y="0"/>
                  </a:lnTo>
                  <a:lnTo>
                    <a:pt x="4351" y="0"/>
                  </a:lnTo>
                  <a:lnTo>
                    <a:pt x="4351" y="115"/>
                  </a:lnTo>
                  <a:lnTo>
                    <a:pt x="4190" y="130"/>
                  </a:lnTo>
                  <a:lnTo>
                    <a:pt x="4027" y="130"/>
                  </a:lnTo>
                  <a:lnTo>
                    <a:pt x="3879" y="145"/>
                  </a:lnTo>
                  <a:lnTo>
                    <a:pt x="3716" y="174"/>
                  </a:lnTo>
                  <a:lnTo>
                    <a:pt x="3553" y="201"/>
                  </a:lnTo>
                  <a:lnTo>
                    <a:pt x="3405" y="232"/>
                  </a:lnTo>
                  <a:lnTo>
                    <a:pt x="3094" y="318"/>
                  </a:lnTo>
                  <a:lnTo>
                    <a:pt x="2931" y="360"/>
                  </a:lnTo>
                  <a:lnTo>
                    <a:pt x="2783" y="420"/>
                  </a:lnTo>
                  <a:lnTo>
                    <a:pt x="2487" y="535"/>
                  </a:lnTo>
                  <a:lnTo>
                    <a:pt x="2340" y="608"/>
                  </a:lnTo>
                  <a:lnTo>
                    <a:pt x="2192" y="681"/>
                  </a:lnTo>
                  <a:lnTo>
                    <a:pt x="2044" y="754"/>
                  </a:lnTo>
                  <a:lnTo>
                    <a:pt x="1910" y="838"/>
                  </a:lnTo>
                  <a:lnTo>
                    <a:pt x="1762" y="911"/>
                  </a:lnTo>
                  <a:lnTo>
                    <a:pt x="1627" y="1013"/>
                  </a:lnTo>
                  <a:lnTo>
                    <a:pt x="1363" y="1201"/>
                  </a:lnTo>
                  <a:lnTo>
                    <a:pt x="1244" y="1303"/>
                  </a:lnTo>
                  <a:lnTo>
                    <a:pt x="1126" y="1405"/>
                  </a:lnTo>
                  <a:lnTo>
                    <a:pt x="888" y="1622"/>
                  </a:lnTo>
                  <a:lnTo>
                    <a:pt x="769" y="1737"/>
                  </a:lnTo>
                  <a:lnTo>
                    <a:pt x="666" y="1867"/>
                  </a:lnTo>
                  <a:lnTo>
                    <a:pt x="564" y="1982"/>
                  </a:lnTo>
                  <a:lnTo>
                    <a:pt x="460" y="2115"/>
                  </a:lnTo>
                  <a:lnTo>
                    <a:pt x="370" y="2245"/>
                  </a:lnTo>
                  <a:lnTo>
                    <a:pt x="266" y="2374"/>
                  </a:lnTo>
                  <a:lnTo>
                    <a:pt x="103" y="2650"/>
                  </a:lnTo>
                  <a:lnTo>
                    <a:pt x="0" y="259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658840" y="5305680"/>
              <a:ext cx="132120" cy="698760"/>
            </a:xfrm>
            <a:custGeom>
              <a:avLst/>
              <a:gdLst/>
              <a:ahLst/>
              <a:rect l="l" t="t" r="r" b="b"/>
              <a:pathLst>
                <a:path w="205" h="911">
                  <a:moveTo>
                    <a:pt x="205" y="15"/>
                  </a:moveTo>
                  <a:lnTo>
                    <a:pt x="163" y="247"/>
                  </a:lnTo>
                  <a:lnTo>
                    <a:pt x="132" y="478"/>
                  </a:lnTo>
                  <a:lnTo>
                    <a:pt x="132" y="695"/>
                  </a:lnTo>
                  <a:lnTo>
                    <a:pt x="132" y="911"/>
                  </a:lnTo>
                  <a:lnTo>
                    <a:pt x="13" y="911"/>
                  </a:lnTo>
                  <a:lnTo>
                    <a:pt x="0" y="681"/>
                  </a:lnTo>
                  <a:lnTo>
                    <a:pt x="13" y="462"/>
                  </a:lnTo>
                  <a:lnTo>
                    <a:pt x="13" y="347"/>
                  </a:lnTo>
                  <a:lnTo>
                    <a:pt x="31" y="232"/>
                  </a:lnTo>
                  <a:lnTo>
                    <a:pt x="75" y="0"/>
                  </a:lnTo>
                  <a:lnTo>
                    <a:pt x="205" y="15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658840" y="5305680"/>
              <a:ext cx="132120" cy="698760"/>
            </a:xfrm>
            <a:custGeom>
              <a:avLst/>
              <a:gdLst/>
              <a:ahLst/>
              <a:rect l="l" t="t" r="r" b="b"/>
              <a:pathLst>
                <a:path w="205" h="911">
                  <a:moveTo>
                    <a:pt x="205" y="15"/>
                  </a:moveTo>
                  <a:lnTo>
                    <a:pt x="163" y="247"/>
                  </a:lnTo>
                  <a:lnTo>
                    <a:pt x="132" y="478"/>
                  </a:lnTo>
                  <a:lnTo>
                    <a:pt x="132" y="695"/>
                  </a:lnTo>
                  <a:lnTo>
                    <a:pt x="132" y="911"/>
                  </a:lnTo>
                  <a:lnTo>
                    <a:pt x="13" y="911"/>
                  </a:lnTo>
                  <a:lnTo>
                    <a:pt x="0" y="681"/>
                  </a:lnTo>
                  <a:lnTo>
                    <a:pt x="13" y="462"/>
                  </a:lnTo>
                  <a:lnTo>
                    <a:pt x="13" y="347"/>
                  </a:lnTo>
                  <a:lnTo>
                    <a:pt x="31" y="232"/>
                  </a:lnTo>
                  <a:lnTo>
                    <a:pt x="75" y="0"/>
                  </a:lnTo>
                  <a:lnTo>
                    <a:pt x="205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079960" y="4662000"/>
              <a:ext cx="3251160" cy="1342800"/>
            </a:xfrm>
            <a:custGeom>
              <a:avLst/>
              <a:gdLst/>
              <a:ahLst/>
              <a:rect l="l" t="t" r="r" b="b"/>
              <a:pathLst>
                <a:path w="5077" h="1750">
                  <a:moveTo>
                    <a:pt x="3879" y="1403"/>
                  </a:moveTo>
                  <a:lnTo>
                    <a:pt x="3820" y="1750"/>
                  </a:lnTo>
                  <a:lnTo>
                    <a:pt x="3597" y="1750"/>
                  </a:lnTo>
                  <a:lnTo>
                    <a:pt x="3612" y="1591"/>
                  </a:lnTo>
                  <a:lnTo>
                    <a:pt x="0" y="0"/>
                  </a:lnTo>
                  <a:lnTo>
                    <a:pt x="5077" y="693"/>
                  </a:lnTo>
                  <a:lnTo>
                    <a:pt x="3879" y="140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079960" y="4662000"/>
              <a:ext cx="3251160" cy="1342800"/>
            </a:xfrm>
            <a:custGeom>
              <a:avLst/>
              <a:gdLst/>
              <a:ahLst/>
              <a:rect l="l" t="t" r="r" b="b"/>
              <a:pathLst>
                <a:path w="5077" h="1750">
                  <a:moveTo>
                    <a:pt x="3879" y="1403"/>
                  </a:moveTo>
                  <a:lnTo>
                    <a:pt x="3820" y="1750"/>
                  </a:lnTo>
                  <a:lnTo>
                    <a:pt x="3597" y="1750"/>
                  </a:lnTo>
                  <a:lnTo>
                    <a:pt x="3612" y="1591"/>
                  </a:lnTo>
                  <a:lnTo>
                    <a:pt x="0" y="0"/>
                  </a:lnTo>
                  <a:lnTo>
                    <a:pt x="5077" y="693"/>
                  </a:lnTo>
                  <a:lnTo>
                    <a:pt x="3879" y="140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8075160" y="5206320"/>
              <a:ext cx="1280160" cy="798480"/>
            </a:xfrm>
            <a:custGeom>
              <a:avLst/>
              <a:gdLst/>
              <a:ahLst/>
              <a:rect l="l" t="t" r="r" b="b"/>
              <a:pathLst>
                <a:path w="1998" h="1042">
                  <a:moveTo>
                    <a:pt x="962" y="941"/>
                  </a:moveTo>
                  <a:lnTo>
                    <a:pt x="1998" y="898"/>
                  </a:lnTo>
                  <a:lnTo>
                    <a:pt x="1998" y="1042"/>
                  </a:lnTo>
                  <a:lnTo>
                    <a:pt x="0" y="1042"/>
                  </a:lnTo>
                  <a:lnTo>
                    <a:pt x="399" y="0"/>
                  </a:lnTo>
                  <a:lnTo>
                    <a:pt x="962" y="941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8075160" y="5206320"/>
              <a:ext cx="1280160" cy="798480"/>
            </a:xfrm>
            <a:custGeom>
              <a:avLst/>
              <a:gdLst/>
              <a:ahLst/>
              <a:rect l="l" t="t" r="r" b="b"/>
              <a:pathLst>
                <a:path w="1998" h="1042">
                  <a:moveTo>
                    <a:pt x="962" y="941"/>
                  </a:moveTo>
                  <a:lnTo>
                    <a:pt x="1998" y="898"/>
                  </a:lnTo>
                  <a:lnTo>
                    <a:pt x="1998" y="1042"/>
                  </a:lnTo>
                  <a:lnTo>
                    <a:pt x="0" y="1042"/>
                  </a:lnTo>
                  <a:lnTo>
                    <a:pt x="399" y="0"/>
                  </a:lnTo>
                  <a:lnTo>
                    <a:pt x="962" y="9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8331480" y="2906640"/>
              <a:ext cx="1023840" cy="2444760"/>
            </a:xfrm>
            <a:custGeom>
              <a:avLst/>
              <a:gdLst/>
              <a:ahLst/>
              <a:rect l="l" t="t" r="r" b="b"/>
              <a:pathLst>
                <a:path w="1599" h="3188">
                  <a:moveTo>
                    <a:pt x="1200" y="2274"/>
                  </a:moveTo>
                  <a:lnTo>
                    <a:pt x="1599" y="0"/>
                  </a:lnTo>
                  <a:lnTo>
                    <a:pt x="1599" y="969"/>
                  </a:lnTo>
                  <a:lnTo>
                    <a:pt x="1467" y="2086"/>
                  </a:lnTo>
                  <a:lnTo>
                    <a:pt x="1599" y="2131"/>
                  </a:lnTo>
                  <a:lnTo>
                    <a:pt x="1599" y="3188"/>
                  </a:lnTo>
                  <a:lnTo>
                    <a:pt x="0" y="2969"/>
                  </a:lnTo>
                  <a:lnTo>
                    <a:pt x="1200" y="2274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8331480" y="2906640"/>
              <a:ext cx="1023840" cy="2444760"/>
            </a:xfrm>
            <a:custGeom>
              <a:avLst/>
              <a:gdLst/>
              <a:ahLst/>
              <a:rect l="l" t="t" r="r" b="b"/>
              <a:pathLst>
                <a:path w="1599" h="3188">
                  <a:moveTo>
                    <a:pt x="1200" y="2274"/>
                  </a:moveTo>
                  <a:lnTo>
                    <a:pt x="1599" y="0"/>
                  </a:lnTo>
                  <a:lnTo>
                    <a:pt x="1599" y="969"/>
                  </a:lnTo>
                  <a:lnTo>
                    <a:pt x="1467" y="2086"/>
                  </a:lnTo>
                  <a:lnTo>
                    <a:pt x="1599" y="2131"/>
                  </a:lnTo>
                  <a:lnTo>
                    <a:pt x="1599" y="3188"/>
                  </a:lnTo>
                  <a:lnTo>
                    <a:pt x="0" y="2969"/>
                  </a:lnTo>
                  <a:lnTo>
                    <a:pt x="1200" y="2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223600" y="1773720"/>
              <a:ext cx="4132080" cy="3419640"/>
            </a:xfrm>
            <a:custGeom>
              <a:avLst/>
              <a:gdLst/>
              <a:ahLst/>
              <a:rect l="l" t="t" r="r" b="b"/>
              <a:pathLst>
                <a:path w="6454" h="4461">
                  <a:moveTo>
                    <a:pt x="4145" y="3290"/>
                  </a:moveTo>
                  <a:lnTo>
                    <a:pt x="6454" y="0"/>
                  </a:lnTo>
                  <a:lnTo>
                    <a:pt x="6454" y="307"/>
                  </a:lnTo>
                  <a:lnTo>
                    <a:pt x="4855" y="4461"/>
                  </a:lnTo>
                  <a:lnTo>
                    <a:pt x="4308" y="3505"/>
                  </a:lnTo>
                  <a:lnTo>
                    <a:pt x="0" y="3693"/>
                  </a:lnTo>
                  <a:lnTo>
                    <a:pt x="4145" y="3290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223600" y="1773720"/>
              <a:ext cx="4132080" cy="3419640"/>
            </a:xfrm>
            <a:custGeom>
              <a:avLst/>
              <a:gdLst/>
              <a:ahLst/>
              <a:rect l="l" t="t" r="r" b="b"/>
              <a:pathLst>
                <a:path w="6454" h="4461">
                  <a:moveTo>
                    <a:pt x="4145" y="3290"/>
                  </a:moveTo>
                  <a:lnTo>
                    <a:pt x="6454" y="0"/>
                  </a:lnTo>
                  <a:lnTo>
                    <a:pt x="6454" y="307"/>
                  </a:lnTo>
                  <a:lnTo>
                    <a:pt x="4855" y="4461"/>
                  </a:lnTo>
                  <a:lnTo>
                    <a:pt x="4308" y="3505"/>
                  </a:lnTo>
                  <a:lnTo>
                    <a:pt x="0" y="3693"/>
                  </a:lnTo>
                  <a:lnTo>
                    <a:pt x="4145" y="329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829280" y="2762640"/>
              <a:ext cx="644040" cy="212760"/>
            </a:xfrm>
            <a:custGeom>
              <a:avLst/>
              <a:gdLst/>
              <a:ahLst/>
              <a:rect l="l" t="t" r="r" b="b"/>
              <a:pathLst>
                <a:path w="1006" h="276">
                  <a:moveTo>
                    <a:pt x="0" y="161"/>
                  </a:moveTo>
                  <a:lnTo>
                    <a:pt x="251" y="73"/>
                  </a:lnTo>
                  <a:lnTo>
                    <a:pt x="384" y="44"/>
                  </a:lnTo>
                  <a:lnTo>
                    <a:pt x="503" y="0"/>
                  </a:lnTo>
                  <a:lnTo>
                    <a:pt x="1006" y="73"/>
                  </a:lnTo>
                  <a:lnTo>
                    <a:pt x="873" y="276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108200" y="3219480"/>
              <a:ext cx="1061640" cy="300240"/>
            </a:xfrm>
            <a:custGeom>
              <a:avLst/>
              <a:gdLst/>
              <a:ahLst/>
              <a:rect l="l" t="t" r="r" b="b"/>
              <a:pathLst>
                <a:path w="1659" h="391">
                  <a:moveTo>
                    <a:pt x="0" y="188"/>
                  </a:moveTo>
                  <a:lnTo>
                    <a:pt x="269" y="0"/>
                  </a:lnTo>
                  <a:lnTo>
                    <a:pt x="1659" y="188"/>
                  </a:lnTo>
                  <a:lnTo>
                    <a:pt x="1511" y="391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663960" y="3729960"/>
              <a:ext cx="1194480" cy="344520"/>
            </a:xfrm>
            <a:custGeom>
              <a:avLst/>
              <a:gdLst/>
              <a:ahLst/>
              <a:rect l="l" t="t" r="r" b="b"/>
              <a:pathLst>
                <a:path w="1866" h="449">
                  <a:moveTo>
                    <a:pt x="0" y="203"/>
                  </a:moveTo>
                  <a:lnTo>
                    <a:pt x="179" y="0"/>
                  </a:lnTo>
                  <a:lnTo>
                    <a:pt x="1866" y="246"/>
                  </a:lnTo>
                  <a:lnTo>
                    <a:pt x="1732" y="449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426000" y="4272480"/>
              <a:ext cx="48240" cy="11880"/>
            </a:xfrm>
            <a:custGeom>
              <a:avLst/>
              <a:gdLst/>
              <a:ahLst/>
              <a:rect l="l" t="t" r="r" b="b"/>
              <a:pathLst>
                <a:path w="75" h="16">
                  <a:moveTo>
                    <a:pt x="15" y="0"/>
                  </a:moveTo>
                  <a:lnTo>
                    <a:pt x="75" y="16"/>
                  </a:lnTo>
                  <a:lnTo>
                    <a:pt x="0" y="1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c53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010920" y="5405400"/>
              <a:ext cx="538920" cy="254160"/>
            </a:xfrm>
            <a:custGeom>
              <a:avLst/>
              <a:gdLst/>
              <a:ahLst/>
              <a:rect l="l" t="t" r="r" b="b"/>
              <a:pathLst>
                <a:path w="843" h="332">
                  <a:moveTo>
                    <a:pt x="0" y="217"/>
                  </a:moveTo>
                  <a:lnTo>
                    <a:pt x="13" y="102"/>
                  </a:lnTo>
                  <a:lnTo>
                    <a:pt x="42" y="0"/>
                  </a:lnTo>
                  <a:lnTo>
                    <a:pt x="175" y="14"/>
                  </a:lnTo>
                  <a:lnTo>
                    <a:pt x="843" y="332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267080" y="4461120"/>
              <a:ext cx="699120" cy="222480"/>
            </a:xfrm>
            <a:custGeom>
              <a:avLst/>
              <a:gdLst/>
              <a:ahLst/>
              <a:rect l="l" t="t" r="r" b="b"/>
              <a:pathLst>
                <a:path w="1092" h="290">
                  <a:moveTo>
                    <a:pt x="0" y="161"/>
                  </a:moveTo>
                  <a:lnTo>
                    <a:pt x="58" y="0"/>
                  </a:lnTo>
                  <a:lnTo>
                    <a:pt x="1092" y="146"/>
                  </a:lnTo>
                  <a:lnTo>
                    <a:pt x="1035" y="290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c53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999400" y="2308680"/>
              <a:ext cx="2786400" cy="2031120"/>
            </a:xfrm>
            <a:custGeom>
              <a:avLst/>
              <a:gdLst/>
              <a:ahLst/>
              <a:rect l="l" t="t" r="r" b="b"/>
              <a:pathLst>
                <a:path w="4351" h="2650">
                  <a:moveTo>
                    <a:pt x="0" y="2593"/>
                  </a:moveTo>
                  <a:lnTo>
                    <a:pt x="74" y="2447"/>
                  </a:lnTo>
                  <a:lnTo>
                    <a:pt x="165" y="2303"/>
                  </a:lnTo>
                  <a:lnTo>
                    <a:pt x="266" y="2172"/>
                  </a:lnTo>
                  <a:lnTo>
                    <a:pt x="357" y="2040"/>
                  </a:lnTo>
                  <a:lnTo>
                    <a:pt x="564" y="1781"/>
                  </a:lnTo>
                  <a:lnTo>
                    <a:pt x="787" y="1549"/>
                  </a:lnTo>
                  <a:lnTo>
                    <a:pt x="917" y="1433"/>
                  </a:lnTo>
                  <a:lnTo>
                    <a:pt x="1036" y="1316"/>
                  </a:lnTo>
                  <a:lnTo>
                    <a:pt x="1288" y="1101"/>
                  </a:lnTo>
                  <a:lnTo>
                    <a:pt x="1422" y="1000"/>
                  </a:lnTo>
                  <a:lnTo>
                    <a:pt x="1555" y="911"/>
                  </a:lnTo>
                  <a:lnTo>
                    <a:pt x="1835" y="723"/>
                  </a:lnTo>
                  <a:lnTo>
                    <a:pt x="1984" y="652"/>
                  </a:lnTo>
                  <a:lnTo>
                    <a:pt x="2132" y="566"/>
                  </a:lnTo>
                  <a:lnTo>
                    <a:pt x="2428" y="420"/>
                  </a:lnTo>
                  <a:lnTo>
                    <a:pt x="2591" y="360"/>
                  </a:lnTo>
                  <a:lnTo>
                    <a:pt x="2739" y="303"/>
                  </a:lnTo>
                  <a:lnTo>
                    <a:pt x="2902" y="245"/>
                  </a:lnTo>
                  <a:lnTo>
                    <a:pt x="3050" y="188"/>
                  </a:lnTo>
                  <a:lnTo>
                    <a:pt x="3213" y="145"/>
                  </a:lnTo>
                  <a:lnTo>
                    <a:pt x="3376" y="115"/>
                  </a:lnTo>
                  <a:lnTo>
                    <a:pt x="3537" y="71"/>
                  </a:lnTo>
                  <a:lnTo>
                    <a:pt x="3701" y="44"/>
                  </a:lnTo>
                  <a:lnTo>
                    <a:pt x="3864" y="30"/>
                  </a:lnTo>
                  <a:lnTo>
                    <a:pt x="4027" y="13"/>
                  </a:lnTo>
                  <a:lnTo>
                    <a:pt x="4190" y="0"/>
                  </a:lnTo>
                  <a:lnTo>
                    <a:pt x="4351" y="0"/>
                  </a:lnTo>
                  <a:lnTo>
                    <a:pt x="4351" y="115"/>
                  </a:lnTo>
                  <a:lnTo>
                    <a:pt x="4190" y="130"/>
                  </a:lnTo>
                  <a:lnTo>
                    <a:pt x="4027" y="130"/>
                  </a:lnTo>
                  <a:lnTo>
                    <a:pt x="3879" y="145"/>
                  </a:lnTo>
                  <a:lnTo>
                    <a:pt x="3716" y="174"/>
                  </a:lnTo>
                  <a:lnTo>
                    <a:pt x="3553" y="201"/>
                  </a:lnTo>
                  <a:lnTo>
                    <a:pt x="3405" y="232"/>
                  </a:lnTo>
                  <a:lnTo>
                    <a:pt x="3094" y="318"/>
                  </a:lnTo>
                  <a:lnTo>
                    <a:pt x="2931" y="360"/>
                  </a:lnTo>
                  <a:lnTo>
                    <a:pt x="2783" y="420"/>
                  </a:lnTo>
                  <a:lnTo>
                    <a:pt x="2487" y="535"/>
                  </a:lnTo>
                  <a:lnTo>
                    <a:pt x="2340" y="608"/>
                  </a:lnTo>
                  <a:lnTo>
                    <a:pt x="2192" y="681"/>
                  </a:lnTo>
                  <a:lnTo>
                    <a:pt x="2044" y="754"/>
                  </a:lnTo>
                  <a:lnTo>
                    <a:pt x="1910" y="838"/>
                  </a:lnTo>
                  <a:lnTo>
                    <a:pt x="1762" y="911"/>
                  </a:lnTo>
                  <a:lnTo>
                    <a:pt x="1627" y="1013"/>
                  </a:lnTo>
                  <a:lnTo>
                    <a:pt x="1363" y="1201"/>
                  </a:lnTo>
                  <a:lnTo>
                    <a:pt x="1244" y="1303"/>
                  </a:lnTo>
                  <a:lnTo>
                    <a:pt x="1126" y="1405"/>
                  </a:lnTo>
                  <a:lnTo>
                    <a:pt x="888" y="1622"/>
                  </a:lnTo>
                  <a:lnTo>
                    <a:pt x="769" y="1737"/>
                  </a:lnTo>
                  <a:lnTo>
                    <a:pt x="666" y="1867"/>
                  </a:lnTo>
                  <a:lnTo>
                    <a:pt x="564" y="1982"/>
                  </a:lnTo>
                  <a:lnTo>
                    <a:pt x="460" y="2115"/>
                  </a:lnTo>
                  <a:lnTo>
                    <a:pt x="370" y="2245"/>
                  </a:lnTo>
                  <a:lnTo>
                    <a:pt x="266" y="2374"/>
                  </a:lnTo>
                  <a:lnTo>
                    <a:pt x="103" y="2650"/>
                  </a:lnTo>
                  <a:lnTo>
                    <a:pt x="0" y="259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658840" y="5305680"/>
              <a:ext cx="132120" cy="698760"/>
            </a:xfrm>
            <a:custGeom>
              <a:avLst/>
              <a:gdLst/>
              <a:ahLst/>
              <a:rect l="l" t="t" r="r" b="b"/>
              <a:pathLst>
                <a:path w="205" h="911">
                  <a:moveTo>
                    <a:pt x="205" y="15"/>
                  </a:moveTo>
                  <a:lnTo>
                    <a:pt x="163" y="247"/>
                  </a:lnTo>
                  <a:lnTo>
                    <a:pt x="132" y="478"/>
                  </a:lnTo>
                  <a:lnTo>
                    <a:pt x="132" y="695"/>
                  </a:lnTo>
                  <a:lnTo>
                    <a:pt x="132" y="911"/>
                  </a:lnTo>
                  <a:lnTo>
                    <a:pt x="13" y="911"/>
                  </a:lnTo>
                  <a:lnTo>
                    <a:pt x="0" y="681"/>
                  </a:lnTo>
                  <a:lnTo>
                    <a:pt x="13" y="462"/>
                  </a:lnTo>
                  <a:lnTo>
                    <a:pt x="13" y="347"/>
                  </a:lnTo>
                  <a:lnTo>
                    <a:pt x="31" y="232"/>
                  </a:lnTo>
                  <a:lnTo>
                    <a:pt x="75" y="0"/>
                  </a:lnTo>
                  <a:lnTo>
                    <a:pt x="205" y="15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658840" y="5305680"/>
              <a:ext cx="132120" cy="698760"/>
            </a:xfrm>
            <a:custGeom>
              <a:avLst/>
              <a:gdLst/>
              <a:ahLst/>
              <a:rect l="l" t="t" r="r" b="b"/>
              <a:pathLst>
                <a:path w="205" h="911">
                  <a:moveTo>
                    <a:pt x="205" y="15"/>
                  </a:moveTo>
                  <a:lnTo>
                    <a:pt x="163" y="247"/>
                  </a:lnTo>
                  <a:lnTo>
                    <a:pt x="132" y="478"/>
                  </a:lnTo>
                  <a:lnTo>
                    <a:pt x="132" y="695"/>
                  </a:lnTo>
                  <a:lnTo>
                    <a:pt x="132" y="911"/>
                  </a:lnTo>
                  <a:lnTo>
                    <a:pt x="13" y="911"/>
                  </a:lnTo>
                  <a:lnTo>
                    <a:pt x="0" y="681"/>
                  </a:lnTo>
                  <a:lnTo>
                    <a:pt x="13" y="462"/>
                  </a:lnTo>
                  <a:lnTo>
                    <a:pt x="13" y="347"/>
                  </a:lnTo>
                  <a:lnTo>
                    <a:pt x="31" y="232"/>
                  </a:lnTo>
                  <a:lnTo>
                    <a:pt x="75" y="0"/>
                  </a:lnTo>
                  <a:lnTo>
                    <a:pt x="205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079960" y="4662000"/>
              <a:ext cx="3251160" cy="1342800"/>
            </a:xfrm>
            <a:custGeom>
              <a:avLst/>
              <a:gdLst/>
              <a:ahLst/>
              <a:rect l="l" t="t" r="r" b="b"/>
              <a:pathLst>
                <a:path w="5077" h="1750">
                  <a:moveTo>
                    <a:pt x="3879" y="1403"/>
                  </a:moveTo>
                  <a:lnTo>
                    <a:pt x="3820" y="1750"/>
                  </a:lnTo>
                  <a:lnTo>
                    <a:pt x="3597" y="1750"/>
                  </a:lnTo>
                  <a:lnTo>
                    <a:pt x="3612" y="1591"/>
                  </a:lnTo>
                  <a:lnTo>
                    <a:pt x="0" y="0"/>
                  </a:lnTo>
                  <a:lnTo>
                    <a:pt x="5077" y="693"/>
                  </a:lnTo>
                  <a:lnTo>
                    <a:pt x="3879" y="140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079960" y="4662000"/>
              <a:ext cx="3251160" cy="1342800"/>
            </a:xfrm>
            <a:custGeom>
              <a:avLst/>
              <a:gdLst/>
              <a:ahLst/>
              <a:rect l="l" t="t" r="r" b="b"/>
              <a:pathLst>
                <a:path w="5077" h="1750">
                  <a:moveTo>
                    <a:pt x="3879" y="1403"/>
                  </a:moveTo>
                  <a:lnTo>
                    <a:pt x="3820" y="1750"/>
                  </a:lnTo>
                  <a:lnTo>
                    <a:pt x="3597" y="1750"/>
                  </a:lnTo>
                  <a:lnTo>
                    <a:pt x="3612" y="1591"/>
                  </a:lnTo>
                  <a:lnTo>
                    <a:pt x="0" y="0"/>
                  </a:lnTo>
                  <a:lnTo>
                    <a:pt x="5077" y="693"/>
                  </a:lnTo>
                  <a:lnTo>
                    <a:pt x="3879" y="140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075160" y="5206320"/>
              <a:ext cx="1280160" cy="798480"/>
            </a:xfrm>
            <a:custGeom>
              <a:avLst/>
              <a:gdLst/>
              <a:ahLst/>
              <a:rect l="l" t="t" r="r" b="b"/>
              <a:pathLst>
                <a:path w="1998" h="1042">
                  <a:moveTo>
                    <a:pt x="962" y="941"/>
                  </a:moveTo>
                  <a:lnTo>
                    <a:pt x="1998" y="898"/>
                  </a:lnTo>
                  <a:lnTo>
                    <a:pt x="1998" y="1042"/>
                  </a:lnTo>
                  <a:lnTo>
                    <a:pt x="0" y="1042"/>
                  </a:lnTo>
                  <a:lnTo>
                    <a:pt x="399" y="0"/>
                  </a:lnTo>
                  <a:lnTo>
                    <a:pt x="962" y="941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8075160" y="5206320"/>
              <a:ext cx="1280160" cy="798480"/>
            </a:xfrm>
            <a:custGeom>
              <a:avLst/>
              <a:gdLst/>
              <a:ahLst/>
              <a:rect l="l" t="t" r="r" b="b"/>
              <a:pathLst>
                <a:path w="1998" h="1042">
                  <a:moveTo>
                    <a:pt x="962" y="941"/>
                  </a:moveTo>
                  <a:lnTo>
                    <a:pt x="1998" y="898"/>
                  </a:lnTo>
                  <a:lnTo>
                    <a:pt x="1998" y="1042"/>
                  </a:lnTo>
                  <a:lnTo>
                    <a:pt x="0" y="1042"/>
                  </a:lnTo>
                  <a:lnTo>
                    <a:pt x="399" y="0"/>
                  </a:lnTo>
                  <a:lnTo>
                    <a:pt x="962" y="9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8331480" y="2906640"/>
              <a:ext cx="1023840" cy="2444760"/>
            </a:xfrm>
            <a:custGeom>
              <a:avLst/>
              <a:gdLst/>
              <a:ahLst/>
              <a:rect l="l" t="t" r="r" b="b"/>
              <a:pathLst>
                <a:path w="1599" h="3188">
                  <a:moveTo>
                    <a:pt x="1200" y="2274"/>
                  </a:moveTo>
                  <a:lnTo>
                    <a:pt x="1599" y="0"/>
                  </a:lnTo>
                  <a:lnTo>
                    <a:pt x="1599" y="969"/>
                  </a:lnTo>
                  <a:lnTo>
                    <a:pt x="1467" y="2086"/>
                  </a:lnTo>
                  <a:lnTo>
                    <a:pt x="1599" y="2131"/>
                  </a:lnTo>
                  <a:lnTo>
                    <a:pt x="1599" y="3188"/>
                  </a:lnTo>
                  <a:lnTo>
                    <a:pt x="0" y="2969"/>
                  </a:lnTo>
                  <a:lnTo>
                    <a:pt x="1200" y="2274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8331480" y="2906640"/>
              <a:ext cx="1023840" cy="2444760"/>
            </a:xfrm>
            <a:custGeom>
              <a:avLst/>
              <a:gdLst/>
              <a:ahLst/>
              <a:rect l="l" t="t" r="r" b="b"/>
              <a:pathLst>
                <a:path w="1599" h="3188">
                  <a:moveTo>
                    <a:pt x="1200" y="2274"/>
                  </a:moveTo>
                  <a:lnTo>
                    <a:pt x="1599" y="0"/>
                  </a:lnTo>
                  <a:lnTo>
                    <a:pt x="1599" y="969"/>
                  </a:lnTo>
                  <a:lnTo>
                    <a:pt x="1467" y="2086"/>
                  </a:lnTo>
                  <a:lnTo>
                    <a:pt x="1599" y="2131"/>
                  </a:lnTo>
                  <a:lnTo>
                    <a:pt x="1599" y="3188"/>
                  </a:lnTo>
                  <a:lnTo>
                    <a:pt x="0" y="2969"/>
                  </a:lnTo>
                  <a:lnTo>
                    <a:pt x="1200" y="2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223600" y="1773720"/>
              <a:ext cx="4132080" cy="3419640"/>
            </a:xfrm>
            <a:custGeom>
              <a:avLst/>
              <a:gdLst/>
              <a:ahLst/>
              <a:rect l="l" t="t" r="r" b="b"/>
              <a:pathLst>
                <a:path w="6454" h="4461">
                  <a:moveTo>
                    <a:pt x="4145" y="3290"/>
                  </a:moveTo>
                  <a:lnTo>
                    <a:pt x="6454" y="0"/>
                  </a:lnTo>
                  <a:lnTo>
                    <a:pt x="6454" y="307"/>
                  </a:lnTo>
                  <a:lnTo>
                    <a:pt x="4855" y="4461"/>
                  </a:lnTo>
                  <a:lnTo>
                    <a:pt x="4308" y="3505"/>
                  </a:lnTo>
                  <a:lnTo>
                    <a:pt x="0" y="3693"/>
                  </a:lnTo>
                  <a:lnTo>
                    <a:pt x="4145" y="3290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223600" y="1773720"/>
              <a:ext cx="4132080" cy="3419640"/>
            </a:xfrm>
            <a:custGeom>
              <a:avLst/>
              <a:gdLst/>
              <a:ahLst/>
              <a:rect l="l" t="t" r="r" b="b"/>
              <a:pathLst>
                <a:path w="6454" h="4461">
                  <a:moveTo>
                    <a:pt x="4145" y="3290"/>
                  </a:moveTo>
                  <a:lnTo>
                    <a:pt x="6454" y="0"/>
                  </a:lnTo>
                  <a:lnTo>
                    <a:pt x="6454" y="307"/>
                  </a:lnTo>
                  <a:lnTo>
                    <a:pt x="4855" y="4461"/>
                  </a:lnTo>
                  <a:lnTo>
                    <a:pt x="4308" y="3505"/>
                  </a:lnTo>
                  <a:lnTo>
                    <a:pt x="0" y="3693"/>
                  </a:lnTo>
                  <a:lnTo>
                    <a:pt x="4145" y="329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829280" y="2762640"/>
              <a:ext cx="644040" cy="212760"/>
            </a:xfrm>
            <a:custGeom>
              <a:avLst/>
              <a:gdLst/>
              <a:ahLst/>
              <a:rect l="l" t="t" r="r" b="b"/>
              <a:pathLst>
                <a:path w="1006" h="276">
                  <a:moveTo>
                    <a:pt x="0" y="161"/>
                  </a:moveTo>
                  <a:lnTo>
                    <a:pt x="251" y="73"/>
                  </a:lnTo>
                  <a:lnTo>
                    <a:pt x="384" y="44"/>
                  </a:lnTo>
                  <a:lnTo>
                    <a:pt x="503" y="0"/>
                  </a:lnTo>
                  <a:lnTo>
                    <a:pt x="1006" y="73"/>
                  </a:lnTo>
                  <a:lnTo>
                    <a:pt x="873" y="276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108200" y="3219480"/>
              <a:ext cx="1061640" cy="300240"/>
            </a:xfrm>
            <a:custGeom>
              <a:avLst/>
              <a:gdLst/>
              <a:ahLst/>
              <a:rect l="l" t="t" r="r" b="b"/>
              <a:pathLst>
                <a:path w="1659" h="391">
                  <a:moveTo>
                    <a:pt x="0" y="188"/>
                  </a:moveTo>
                  <a:lnTo>
                    <a:pt x="269" y="0"/>
                  </a:lnTo>
                  <a:lnTo>
                    <a:pt x="1659" y="188"/>
                  </a:lnTo>
                  <a:lnTo>
                    <a:pt x="1511" y="391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63960" y="3729960"/>
              <a:ext cx="1194480" cy="344520"/>
            </a:xfrm>
            <a:custGeom>
              <a:avLst/>
              <a:gdLst/>
              <a:ahLst/>
              <a:rect l="l" t="t" r="r" b="b"/>
              <a:pathLst>
                <a:path w="1866" h="449">
                  <a:moveTo>
                    <a:pt x="0" y="203"/>
                  </a:moveTo>
                  <a:lnTo>
                    <a:pt x="179" y="0"/>
                  </a:lnTo>
                  <a:lnTo>
                    <a:pt x="1866" y="246"/>
                  </a:lnTo>
                  <a:lnTo>
                    <a:pt x="1732" y="449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426000" y="4272480"/>
              <a:ext cx="48240" cy="11880"/>
            </a:xfrm>
            <a:custGeom>
              <a:avLst/>
              <a:gdLst/>
              <a:ahLst/>
              <a:rect l="l" t="t" r="r" b="b"/>
              <a:pathLst>
                <a:path w="75" h="16">
                  <a:moveTo>
                    <a:pt x="15" y="0"/>
                  </a:moveTo>
                  <a:lnTo>
                    <a:pt x="75" y="16"/>
                  </a:lnTo>
                  <a:lnTo>
                    <a:pt x="0" y="1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c53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010920" y="5405400"/>
              <a:ext cx="538920" cy="254160"/>
            </a:xfrm>
            <a:custGeom>
              <a:avLst/>
              <a:gdLst/>
              <a:ahLst/>
              <a:rect l="l" t="t" r="r" b="b"/>
              <a:pathLst>
                <a:path w="843" h="332">
                  <a:moveTo>
                    <a:pt x="0" y="217"/>
                  </a:moveTo>
                  <a:lnTo>
                    <a:pt x="13" y="102"/>
                  </a:lnTo>
                  <a:lnTo>
                    <a:pt x="42" y="0"/>
                  </a:lnTo>
                  <a:lnTo>
                    <a:pt x="175" y="14"/>
                  </a:lnTo>
                  <a:lnTo>
                    <a:pt x="843" y="332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267080" y="4461120"/>
              <a:ext cx="699120" cy="222480"/>
            </a:xfrm>
            <a:custGeom>
              <a:avLst/>
              <a:gdLst/>
              <a:ahLst/>
              <a:rect l="l" t="t" r="r" b="b"/>
              <a:pathLst>
                <a:path w="1092" h="290">
                  <a:moveTo>
                    <a:pt x="0" y="161"/>
                  </a:moveTo>
                  <a:lnTo>
                    <a:pt x="58" y="0"/>
                  </a:lnTo>
                  <a:lnTo>
                    <a:pt x="1092" y="146"/>
                  </a:lnTo>
                  <a:lnTo>
                    <a:pt x="1035" y="290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c53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505320" y="64008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ManTech Propriet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0" y="533520"/>
            <a:ext cx="1447560" cy="5866920"/>
            <a:chOff x="0" y="533520"/>
            <a:chExt cx="1447560" cy="5866920"/>
          </a:xfrm>
        </p:grpSpPr>
        <p:sp>
          <p:nvSpPr>
            <p:cNvPr id="126" name=""/>
            <p:cNvSpPr/>
            <p:nvPr/>
          </p:nvSpPr>
          <p:spPr>
            <a:xfrm>
              <a:off x="0" y="2956320"/>
              <a:ext cx="1447560" cy="344412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4a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7" name="" descr=""/>
            <p:cNvPicPr/>
            <p:nvPr/>
          </p:nvPicPr>
          <p:blipFill>
            <a:blip r:embed="rId2"/>
            <a:stretch/>
          </p:blipFill>
          <p:spPr>
            <a:xfrm>
              <a:off x="0" y="533520"/>
              <a:ext cx="1446120" cy="2466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" name=""/>
          <p:cNvSpPr/>
          <p:nvPr/>
        </p:nvSpPr>
        <p:spPr>
          <a:xfrm>
            <a:off x="5791320" y="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2008 Proj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276720"/>
            <a:ext cx="1828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70% revenue growth in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2008’s revenue target will require growth in excess of 1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752480" y="838080"/>
          <a:ext cx="7010640" cy="48484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838080"/>
                    <a:ext cx="7010640" cy="48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505320" y="64008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ManTech Propriet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57800" y="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2008 Revenue Break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1295280"/>
            <a:ext cx="777240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1447920"/>
            <a:ext cx="777240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19320" y="1600200"/>
            <a:ext cx="579096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63868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New Business accounts for 46% of Revenue in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990720" y="914400"/>
          <a:ext cx="7315200" cy="419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914400"/>
                    <a:ext cx="731520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380880" y="609480"/>
          <a:ext cx="5562720" cy="2367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609480"/>
                    <a:ext cx="5562720" cy="23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3505320" y="64008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ManTech Propriet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743200" y="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urrent/Backlo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Business b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Mon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1295280"/>
            <a:ext cx="777240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1447920"/>
            <a:ext cx="777240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1600200"/>
            <a:ext cx="579096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2666880" y="2135160"/>
          <a:ext cx="6248520" cy="41781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2135160"/>
                    <a:ext cx="6248520" cy="41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2971800" y="1752480"/>
            <a:ext cx="1752480" cy="1447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505320" y="64008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ManTech Propriet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95680" y="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2008 Pip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400" y="1295280"/>
            <a:ext cx="777240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1447920"/>
            <a:ext cx="777240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19320" y="1600200"/>
            <a:ext cx="579096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03480" y="7128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520560" y="901800"/>
            <a:ext cx="8178840" cy="5126040"/>
            <a:chOff x="520560" y="901800"/>
            <a:chExt cx="8178840" cy="5126040"/>
          </a:xfrm>
        </p:grpSpPr>
        <p:sp>
          <p:nvSpPr>
            <p:cNvPr id="157" name=""/>
            <p:cNvSpPr/>
            <p:nvPr/>
          </p:nvSpPr>
          <p:spPr>
            <a:xfrm>
              <a:off x="546120" y="927000"/>
              <a:ext cx="8153280" cy="5100840"/>
            </a:xfrm>
            <a:prstGeom prst="roundRect">
              <a:avLst>
                <a:gd name="adj" fmla="val 3366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20560" y="901800"/>
              <a:ext cx="8140680" cy="5087880"/>
            </a:xfrm>
            <a:prstGeom prst="roundRect">
              <a:avLst>
                <a:gd name="adj" fmla="val 3375"/>
              </a:avLst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10000" y="1792440"/>
              <a:ext cx="317520" cy="2950920"/>
            </a:xfrm>
            <a:custGeom>
              <a:avLst/>
              <a:gdLst/>
              <a:ahLst/>
              <a:rect l="l" t="t" r="r" b="b"/>
              <a:pathLst>
                <a:path w="200" h="1859">
                  <a:moveTo>
                    <a:pt x="0" y="1859"/>
                  </a:moveTo>
                  <a:lnTo>
                    <a:pt x="200" y="1739"/>
                  </a:lnTo>
                  <a:lnTo>
                    <a:pt x="200" y="0"/>
                  </a:lnTo>
                  <a:lnTo>
                    <a:pt x="0" y="120"/>
                  </a:lnTo>
                  <a:lnTo>
                    <a:pt x="0" y="185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510000" y="4552920"/>
              <a:ext cx="4910040" cy="190440"/>
            </a:xfrm>
            <a:custGeom>
              <a:avLst/>
              <a:gdLst/>
              <a:ahLst/>
              <a:rect l="l" t="t" r="r" b="b"/>
              <a:pathLst>
                <a:path w="3093" h="120">
                  <a:moveTo>
                    <a:pt x="0" y="120"/>
                  </a:moveTo>
                  <a:lnTo>
                    <a:pt x="2892" y="120"/>
                  </a:lnTo>
                  <a:lnTo>
                    <a:pt x="3093" y="0"/>
                  </a:lnTo>
                  <a:lnTo>
                    <a:pt x="200" y="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827520" y="1792440"/>
              <a:ext cx="4592520" cy="2760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510000" y="1792440"/>
              <a:ext cx="317520" cy="2950920"/>
            </a:xfrm>
            <a:custGeom>
              <a:avLst/>
              <a:gdLst/>
              <a:ahLst/>
              <a:rect l="l" t="t" r="r" b="b"/>
              <a:pathLst>
                <a:path w="25" h="232">
                  <a:moveTo>
                    <a:pt x="0" y="232"/>
                  </a:moveTo>
                  <a:lnTo>
                    <a:pt x="25" y="217"/>
                  </a:lnTo>
                  <a:lnTo>
                    <a:pt x="2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081320" y="1792440"/>
              <a:ext cx="319320" cy="2950920"/>
            </a:xfrm>
            <a:custGeom>
              <a:avLst/>
              <a:gdLst/>
              <a:ahLst/>
              <a:rect l="l" t="t" r="r" b="b"/>
              <a:pathLst>
                <a:path w="25" h="232">
                  <a:moveTo>
                    <a:pt x="0" y="232"/>
                  </a:moveTo>
                  <a:lnTo>
                    <a:pt x="25" y="217"/>
                  </a:lnTo>
                  <a:lnTo>
                    <a:pt x="2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654440" y="1792440"/>
              <a:ext cx="317520" cy="2950920"/>
            </a:xfrm>
            <a:custGeom>
              <a:avLst/>
              <a:gdLst/>
              <a:ahLst/>
              <a:rect l="l" t="t" r="r" b="b"/>
              <a:pathLst>
                <a:path w="25" h="232">
                  <a:moveTo>
                    <a:pt x="0" y="232"/>
                  </a:moveTo>
                  <a:lnTo>
                    <a:pt x="25" y="217"/>
                  </a:lnTo>
                  <a:lnTo>
                    <a:pt x="2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227560" y="1792440"/>
              <a:ext cx="317520" cy="2950920"/>
            </a:xfrm>
            <a:custGeom>
              <a:avLst/>
              <a:gdLst/>
              <a:ahLst/>
              <a:rect l="l" t="t" r="r" b="b"/>
              <a:pathLst>
                <a:path w="25" h="232">
                  <a:moveTo>
                    <a:pt x="0" y="232"/>
                  </a:moveTo>
                  <a:lnTo>
                    <a:pt x="25" y="217"/>
                  </a:lnTo>
                  <a:lnTo>
                    <a:pt x="2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99240" y="1792440"/>
              <a:ext cx="330120" cy="2950920"/>
            </a:xfrm>
            <a:custGeom>
              <a:avLst/>
              <a:gdLst/>
              <a:ahLst/>
              <a:rect l="l" t="t" r="r" b="b"/>
              <a:pathLst>
                <a:path w="26" h="232">
                  <a:moveTo>
                    <a:pt x="0" y="232"/>
                  </a:moveTo>
                  <a:lnTo>
                    <a:pt x="26" y="217"/>
                  </a:lnTo>
                  <a:lnTo>
                    <a:pt x="2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384960" y="1792440"/>
              <a:ext cx="317520" cy="2950920"/>
            </a:xfrm>
            <a:custGeom>
              <a:avLst/>
              <a:gdLst/>
              <a:ahLst/>
              <a:rect l="l" t="t" r="r" b="b"/>
              <a:pathLst>
                <a:path w="25" h="232">
                  <a:moveTo>
                    <a:pt x="0" y="232"/>
                  </a:moveTo>
                  <a:lnTo>
                    <a:pt x="25" y="217"/>
                  </a:lnTo>
                  <a:lnTo>
                    <a:pt x="2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956280" y="1792440"/>
              <a:ext cx="317520" cy="2950920"/>
            </a:xfrm>
            <a:custGeom>
              <a:avLst/>
              <a:gdLst/>
              <a:ahLst/>
              <a:rect l="l" t="t" r="r" b="b"/>
              <a:pathLst>
                <a:path w="25" h="232">
                  <a:moveTo>
                    <a:pt x="0" y="232"/>
                  </a:moveTo>
                  <a:lnTo>
                    <a:pt x="25" y="217"/>
                  </a:lnTo>
                  <a:lnTo>
                    <a:pt x="2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529400" y="1792440"/>
              <a:ext cx="317520" cy="2950920"/>
            </a:xfrm>
            <a:custGeom>
              <a:avLst/>
              <a:gdLst/>
              <a:ahLst/>
              <a:rect l="l" t="t" r="r" b="b"/>
              <a:pathLst>
                <a:path w="25" h="232">
                  <a:moveTo>
                    <a:pt x="0" y="232"/>
                  </a:moveTo>
                  <a:lnTo>
                    <a:pt x="25" y="217"/>
                  </a:lnTo>
                  <a:lnTo>
                    <a:pt x="2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01080" y="1792440"/>
              <a:ext cx="318960" cy="2950920"/>
            </a:xfrm>
            <a:custGeom>
              <a:avLst/>
              <a:gdLst/>
              <a:ahLst/>
              <a:rect l="l" t="t" r="r" b="b"/>
              <a:pathLst>
                <a:path w="25" h="232">
                  <a:moveTo>
                    <a:pt x="0" y="232"/>
                  </a:moveTo>
                  <a:lnTo>
                    <a:pt x="25" y="217"/>
                  </a:lnTo>
                  <a:lnTo>
                    <a:pt x="2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510000" y="1792440"/>
              <a:ext cx="317520" cy="2950920"/>
            </a:xfrm>
            <a:custGeom>
              <a:avLst/>
              <a:gdLst/>
              <a:ahLst/>
              <a:rect l="l" t="t" r="r" b="b"/>
              <a:pathLst>
                <a:path w="200" h="1859">
                  <a:moveTo>
                    <a:pt x="200" y="0"/>
                  </a:moveTo>
                  <a:lnTo>
                    <a:pt x="0" y="120"/>
                  </a:lnTo>
                  <a:lnTo>
                    <a:pt x="0" y="1859"/>
                  </a:lnTo>
                  <a:lnTo>
                    <a:pt x="200" y="1739"/>
                  </a:lnTo>
                  <a:lnTo>
                    <a:pt x="200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10000" y="4552920"/>
              <a:ext cx="4910040" cy="190440"/>
            </a:xfrm>
            <a:custGeom>
              <a:avLst/>
              <a:gdLst/>
              <a:ahLst/>
              <a:rect l="l" t="t" r="r" b="b"/>
              <a:pathLst>
                <a:path w="3093" h="120">
                  <a:moveTo>
                    <a:pt x="0" y="120"/>
                  </a:moveTo>
                  <a:lnTo>
                    <a:pt x="2892" y="120"/>
                  </a:lnTo>
                  <a:lnTo>
                    <a:pt x="3093" y="0"/>
                  </a:lnTo>
                  <a:lnTo>
                    <a:pt x="200" y="0"/>
                  </a:lnTo>
                  <a:lnTo>
                    <a:pt x="0" y="120"/>
                  </a:lnTo>
                  <a:close/>
                </a:path>
              </a:pathLst>
            </a:cu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827520" y="1792440"/>
              <a:ext cx="4592520" cy="276048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98920" y="4284720"/>
              <a:ext cx="164880" cy="76320"/>
            </a:xfrm>
            <a:custGeom>
              <a:avLst/>
              <a:gdLst/>
              <a:ahLst/>
              <a:rect l="l" t="t" r="r" b="b"/>
              <a:pathLst>
                <a:path w="104" h="48">
                  <a:moveTo>
                    <a:pt x="0" y="48"/>
                  </a:moveTo>
                  <a:lnTo>
                    <a:pt x="24" y="48"/>
                  </a:lnTo>
                  <a:lnTo>
                    <a:pt x="104" y="0"/>
                  </a:lnTo>
                  <a:lnTo>
                    <a:pt x="80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bfb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598920" y="4361040"/>
              <a:ext cx="38160" cy="179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37080" y="4284720"/>
              <a:ext cx="126720" cy="255600"/>
            </a:xfrm>
            <a:custGeom>
              <a:avLst/>
              <a:gdLst/>
              <a:ahLst/>
              <a:rect l="l" t="t" r="r" b="b"/>
              <a:pathLst>
                <a:path w="80" h="161">
                  <a:moveTo>
                    <a:pt x="80" y="121"/>
                  </a:moveTo>
                  <a:lnTo>
                    <a:pt x="0" y="161"/>
                  </a:lnTo>
                  <a:lnTo>
                    <a:pt x="0" y="48"/>
                  </a:lnTo>
                  <a:lnTo>
                    <a:pt x="80" y="0"/>
                  </a:lnTo>
                  <a:lnTo>
                    <a:pt x="80" y="121"/>
                  </a:lnTo>
                  <a:close/>
                </a:path>
              </a:pathLst>
            </a:custGeom>
            <a:solidFill>
              <a:srgbClr val="808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598920" y="3827520"/>
              <a:ext cx="190440" cy="76320"/>
            </a:xfrm>
            <a:custGeom>
              <a:avLst/>
              <a:gdLst/>
              <a:ahLst/>
              <a:rect l="l" t="t" r="r" b="b"/>
              <a:pathLst>
                <a:path w="120" h="48">
                  <a:moveTo>
                    <a:pt x="0" y="48"/>
                  </a:moveTo>
                  <a:lnTo>
                    <a:pt x="40" y="48"/>
                  </a:lnTo>
                  <a:lnTo>
                    <a:pt x="120" y="0"/>
                  </a:lnTo>
                  <a:lnTo>
                    <a:pt x="80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bfb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598920" y="3903840"/>
              <a:ext cx="63360" cy="1774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662280" y="3827520"/>
              <a:ext cx="127080" cy="253800"/>
            </a:xfrm>
            <a:custGeom>
              <a:avLst/>
              <a:gdLst/>
              <a:ahLst/>
              <a:rect l="l" t="t" r="r" b="b"/>
              <a:pathLst>
                <a:path w="80" h="160">
                  <a:moveTo>
                    <a:pt x="80" y="112"/>
                  </a:moveTo>
                  <a:lnTo>
                    <a:pt x="0" y="160"/>
                  </a:lnTo>
                  <a:lnTo>
                    <a:pt x="0" y="48"/>
                  </a:lnTo>
                  <a:lnTo>
                    <a:pt x="80" y="0"/>
                  </a:lnTo>
                  <a:lnTo>
                    <a:pt x="80" y="112"/>
                  </a:lnTo>
                  <a:close/>
                </a:path>
              </a:pathLst>
            </a:custGeom>
            <a:solidFill>
              <a:srgbClr val="808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98920" y="3368520"/>
              <a:ext cx="266760" cy="78120"/>
            </a:xfrm>
            <a:custGeom>
              <a:avLst/>
              <a:gdLst/>
              <a:ahLst/>
              <a:rect l="l" t="t" r="r" b="b"/>
              <a:pathLst>
                <a:path w="168" h="49">
                  <a:moveTo>
                    <a:pt x="0" y="49"/>
                  </a:moveTo>
                  <a:lnTo>
                    <a:pt x="88" y="49"/>
                  </a:lnTo>
                  <a:lnTo>
                    <a:pt x="168" y="0"/>
                  </a:lnTo>
                  <a:lnTo>
                    <a:pt x="80" y="0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b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598920" y="3446640"/>
              <a:ext cx="139680" cy="1774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738600" y="3368520"/>
              <a:ext cx="903240" cy="78120"/>
            </a:xfrm>
            <a:custGeom>
              <a:avLst/>
              <a:gdLst/>
              <a:ahLst/>
              <a:rect l="l" t="t" r="r" b="b"/>
              <a:pathLst>
                <a:path w="569" h="49">
                  <a:moveTo>
                    <a:pt x="0" y="49"/>
                  </a:moveTo>
                  <a:lnTo>
                    <a:pt x="489" y="49"/>
                  </a:lnTo>
                  <a:lnTo>
                    <a:pt x="569" y="0"/>
                  </a:lnTo>
                  <a:lnTo>
                    <a:pt x="80" y="0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bfb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738600" y="3446640"/>
              <a:ext cx="776160" cy="1774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514760" y="3368520"/>
              <a:ext cx="127080" cy="255600"/>
            </a:xfrm>
            <a:custGeom>
              <a:avLst/>
              <a:gdLst/>
              <a:ahLst/>
              <a:rect l="l" t="t" r="r" b="b"/>
              <a:pathLst>
                <a:path w="80" h="161">
                  <a:moveTo>
                    <a:pt x="80" y="113"/>
                  </a:moveTo>
                  <a:lnTo>
                    <a:pt x="0" y="161"/>
                  </a:lnTo>
                  <a:lnTo>
                    <a:pt x="0" y="49"/>
                  </a:lnTo>
                  <a:lnTo>
                    <a:pt x="80" y="0"/>
                  </a:lnTo>
                  <a:lnTo>
                    <a:pt x="80" y="113"/>
                  </a:lnTo>
                  <a:close/>
                </a:path>
              </a:pathLst>
            </a:custGeom>
            <a:solidFill>
              <a:srgbClr val="808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98920" y="2911320"/>
              <a:ext cx="241200" cy="76320"/>
            </a:xfrm>
            <a:custGeom>
              <a:avLst/>
              <a:gdLst/>
              <a:ahLst/>
              <a:rect l="l" t="t" r="r" b="b"/>
              <a:pathLst>
                <a:path w="152" h="48">
                  <a:moveTo>
                    <a:pt x="0" y="48"/>
                  </a:moveTo>
                  <a:lnTo>
                    <a:pt x="72" y="48"/>
                  </a:lnTo>
                  <a:lnTo>
                    <a:pt x="152" y="0"/>
                  </a:lnTo>
                  <a:lnTo>
                    <a:pt x="80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b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98920" y="2987640"/>
              <a:ext cx="114120" cy="17784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713040" y="2911320"/>
              <a:ext cx="1616040" cy="76320"/>
            </a:xfrm>
            <a:custGeom>
              <a:avLst/>
              <a:gdLst/>
              <a:ahLst/>
              <a:rect l="l" t="t" r="r" b="b"/>
              <a:pathLst>
                <a:path w="1018" h="48">
                  <a:moveTo>
                    <a:pt x="0" y="48"/>
                  </a:moveTo>
                  <a:lnTo>
                    <a:pt x="938" y="48"/>
                  </a:lnTo>
                  <a:lnTo>
                    <a:pt x="1018" y="0"/>
                  </a:lnTo>
                  <a:lnTo>
                    <a:pt x="80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bfb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713040" y="2987640"/>
              <a:ext cx="1489320" cy="1778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202360" y="2911320"/>
              <a:ext cx="126720" cy="254160"/>
            </a:xfrm>
            <a:custGeom>
              <a:avLst/>
              <a:gdLst/>
              <a:ahLst/>
              <a:rect l="l" t="t" r="r" b="b"/>
              <a:pathLst>
                <a:path w="80" h="160">
                  <a:moveTo>
                    <a:pt x="80" y="112"/>
                  </a:moveTo>
                  <a:lnTo>
                    <a:pt x="0" y="160"/>
                  </a:lnTo>
                  <a:lnTo>
                    <a:pt x="0" y="48"/>
                  </a:lnTo>
                  <a:lnTo>
                    <a:pt x="80" y="0"/>
                  </a:lnTo>
                  <a:lnTo>
                    <a:pt x="80" y="112"/>
                  </a:lnTo>
                  <a:close/>
                </a:path>
              </a:pathLst>
            </a:custGeom>
            <a:solidFill>
              <a:srgbClr val="808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98920" y="2454120"/>
              <a:ext cx="266760" cy="76320"/>
            </a:xfrm>
            <a:custGeom>
              <a:avLst/>
              <a:gdLst/>
              <a:ahLst/>
              <a:rect l="l" t="t" r="r" b="b"/>
              <a:pathLst>
                <a:path w="168" h="48">
                  <a:moveTo>
                    <a:pt x="0" y="48"/>
                  </a:moveTo>
                  <a:lnTo>
                    <a:pt x="88" y="48"/>
                  </a:lnTo>
                  <a:lnTo>
                    <a:pt x="168" y="0"/>
                  </a:lnTo>
                  <a:lnTo>
                    <a:pt x="80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b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598920" y="2530440"/>
              <a:ext cx="139680" cy="17784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738600" y="2454120"/>
              <a:ext cx="2149560" cy="76320"/>
            </a:xfrm>
            <a:custGeom>
              <a:avLst/>
              <a:gdLst/>
              <a:ahLst/>
              <a:rect l="l" t="t" r="r" b="b"/>
              <a:pathLst>
                <a:path w="1354" h="48">
                  <a:moveTo>
                    <a:pt x="0" y="48"/>
                  </a:moveTo>
                  <a:lnTo>
                    <a:pt x="1274" y="48"/>
                  </a:lnTo>
                  <a:lnTo>
                    <a:pt x="1354" y="0"/>
                  </a:lnTo>
                  <a:lnTo>
                    <a:pt x="80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bfb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738600" y="2530440"/>
              <a:ext cx="2022480" cy="1778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761080" y="2454120"/>
              <a:ext cx="127080" cy="254160"/>
            </a:xfrm>
            <a:custGeom>
              <a:avLst/>
              <a:gdLst/>
              <a:ahLst/>
              <a:rect l="l" t="t" r="r" b="b"/>
              <a:pathLst>
                <a:path w="80" h="160">
                  <a:moveTo>
                    <a:pt x="80" y="112"/>
                  </a:moveTo>
                  <a:lnTo>
                    <a:pt x="0" y="160"/>
                  </a:lnTo>
                  <a:lnTo>
                    <a:pt x="0" y="48"/>
                  </a:lnTo>
                  <a:lnTo>
                    <a:pt x="80" y="0"/>
                  </a:lnTo>
                  <a:lnTo>
                    <a:pt x="80" y="112"/>
                  </a:lnTo>
                  <a:close/>
                </a:path>
              </a:pathLst>
            </a:custGeom>
            <a:solidFill>
              <a:srgbClr val="808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98920" y="1995480"/>
              <a:ext cx="330120" cy="63360"/>
            </a:xfrm>
            <a:custGeom>
              <a:avLst/>
              <a:gdLst/>
              <a:ahLst/>
              <a:rect l="l" t="t" r="r" b="b"/>
              <a:pathLst>
                <a:path w="208" h="40">
                  <a:moveTo>
                    <a:pt x="0" y="40"/>
                  </a:moveTo>
                  <a:lnTo>
                    <a:pt x="128" y="40"/>
                  </a:lnTo>
                  <a:lnTo>
                    <a:pt x="208" y="0"/>
                  </a:lnTo>
                  <a:lnTo>
                    <a:pt x="80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b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598920" y="2058840"/>
              <a:ext cx="203040" cy="1908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801960" y="1995480"/>
              <a:ext cx="4019760" cy="63360"/>
            </a:xfrm>
            <a:custGeom>
              <a:avLst/>
              <a:gdLst/>
              <a:ahLst/>
              <a:rect l="l" t="t" r="r" b="b"/>
              <a:pathLst>
                <a:path w="2532" h="40">
                  <a:moveTo>
                    <a:pt x="0" y="40"/>
                  </a:moveTo>
                  <a:lnTo>
                    <a:pt x="2452" y="40"/>
                  </a:lnTo>
                  <a:lnTo>
                    <a:pt x="2532" y="0"/>
                  </a:lnTo>
                  <a:lnTo>
                    <a:pt x="80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bfb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801960" y="2058840"/>
              <a:ext cx="3892680" cy="1908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94640" y="1995480"/>
              <a:ext cx="127080" cy="254160"/>
            </a:xfrm>
            <a:custGeom>
              <a:avLst/>
              <a:gdLst/>
              <a:ahLst/>
              <a:rect l="l" t="t" r="r" b="b"/>
              <a:pathLst>
                <a:path w="80" h="160">
                  <a:moveTo>
                    <a:pt x="80" y="112"/>
                  </a:moveTo>
                  <a:lnTo>
                    <a:pt x="0" y="160"/>
                  </a:lnTo>
                  <a:lnTo>
                    <a:pt x="0" y="40"/>
                  </a:lnTo>
                  <a:lnTo>
                    <a:pt x="80" y="0"/>
                  </a:lnTo>
                  <a:lnTo>
                    <a:pt x="80" y="112"/>
                  </a:lnTo>
                  <a:close/>
                </a:path>
              </a:pathLst>
            </a:custGeom>
            <a:solidFill>
              <a:srgbClr val="808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510000" y="4743360"/>
              <a:ext cx="4591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510000" y="474336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81320" y="4743360"/>
              <a:ext cx="180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654440" y="4743360"/>
              <a:ext cx="180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227560" y="4743360"/>
              <a:ext cx="180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799240" y="474336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384960" y="474336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956280" y="4743360"/>
              <a:ext cx="180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529400" y="4743360"/>
              <a:ext cx="180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101080" y="474336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7100000">
              <a:off x="3321360" y="4695480"/>
              <a:ext cx="23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-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7100000">
              <a:off x="3728520" y="486972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.0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7100000">
              <a:off x="4301640" y="486972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.0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17100000">
              <a:off x="4873320" y="486972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0.0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17100000">
              <a:off x="5446440" y="486972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0.0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17100000">
              <a:off x="6030720" y="486972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0.0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17100000">
              <a:off x="6603480" y="486972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60.0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17100000">
              <a:off x="7175160" y="486972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70.0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17100000">
              <a:off x="7748280" y="486972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80.0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3510000" y="1982880"/>
              <a:ext cx="1440" cy="27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3446640" y="4743360"/>
              <a:ext cx="63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3446640" y="4284720"/>
              <a:ext cx="63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3446640" y="3814920"/>
              <a:ext cx="63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3446640" y="3355920"/>
              <a:ext cx="63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3446640" y="2898720"/>
              <a:ext cx="63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3446640" y="2441520"/>
              <a:ext cx="63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3446640" y="1982880"/>
              <a:ext cx="63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05240" y="4398840"/>
              <a:ext cx="2862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IS O&amp;M JFC-Brunssum (30%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24920" y="3941640"/>
              <a:ext cx="1553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RF DCIS (30%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244160" y="3471840"/>
              <a:ext cx="2242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udio (RPX) VTC (45%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358280" y="3013200"/>
              <a:ext cx="212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JCCC - ISAF HQ (45%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737720" y="2556000"/>
              <a:ext cx="171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JCCC - KAF (45%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469880" y="2097000"/>
              <a:ext cx="1995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JCCC - Kosovo (45%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613680" y="1079640"/>
              <a:ext cx="2030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ATO Pipeline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19360" y="5672160"/>
              <a:ext cx="4121280" cy="291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230640" y="5773680"/>
              <a:ext cx="88920" cy="8892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07040" y="5710320"/>
              <a:ext cx="1070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008 Revenu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570640" y="5773680"/>
              <a:ext cx="88920" cy="88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745960" y="5710320"/>
              <a:ext cx="476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ut Y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0560" y="901800"/>
              <a:ext cx="8140680" cy="5087880"/>
            </a:xfrm>
            <a:prstGeom prst="roundRect">
              <a:avLst>
                <a:gd name="adj" fmla="val 3375"/>
              </a:avLst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3505320" y="64008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ManTech Propriet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95680" y="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2008 Weighted Pip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066680" y="1447920"/>
            <a:ext cx="777240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228600" y="2057400"/>
          <a:ext cx="8458200" cy="4195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057400"/>
                    <a:ext cx="8458200" cy="419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4724280" y="685800"/>
          <a:ext cx="4419720" cy="20494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685800"/>
                    <a:ext cx="4419720" cy="20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 flipH="1">
            <a:off x="5028840" y="1676520"/>
            <a:ext cx="762120" cy="1295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3505320" y="64008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ManTech Propriet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otal 2008 Forecast Build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066680" y="1447920"/>
            <a:ext cx="777240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762120" y="838080"/>
          <a:ext cx="7772400" cy="5392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838080"/>
                    <a:ext cx="7772400" cy="53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505320" y="64008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ManTech Propriet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76720" y="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otal 2008 Forecast Build by Mon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066680" y="1447920"/>
            <a:ext cx="777240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-228600" y="990720"/>
            <a:ext cx="9753480" cy="476856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1600200" y="5638680"/>
            <a:ext cx="6400800" cy="6098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828800" y="5715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$4.5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352680" y="5715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$5.5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952880" y="5715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$9.9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477120" y="57150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$13.1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819520" y="5867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Quarterly Reve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94240" y="750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20:54:05Z</dcterms:created>
  <dc:creator>ManTech</dc:creator>
  <dc:description/>
  <dc:language>en-US</dc:language>
  <cp:lastModifiedBy>My PC</cp:lastModifiedBy>
  <cp:lastPrinted>2003-11-03T16:39:44Z</cp:lastPrinted>
  <dcterms:modified xsi:type="dcterms:W3CDTF">2008-02-06T15:54:59Z</dcterms:modified>
  <cp:revision>107</cp:revision>
  <dc:subject/>
  <dc:title>No Slide Title</dc:title>
</cp:coreProperties>
</file>